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C6E-10AB-4A32-845F-38006808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A49-C80F-4842-A69F-E1097B61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09A-E107-487C-9E88-32207FF1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4D0-D0DC-48DD-9EE4-20540890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CE6D-770C-4571-8FB9-82E552B5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A3BC-C1A8-4450-ABCC-12374922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966F-F484-452B-A851-B3B51149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4B62-D36E-46ED-8A3F-646B6FCB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58F9-A01D-419B-9A57-8C2A6687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591F-3893-4741-8FC3-487C0B7F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0070-DECB-437E-8349-91B8E571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F02-60A0-44E1-875B-1A2FC667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1C5E-7FF2-4360-BF7A-C06518C6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E439-A927-4D79-A132-1DBB19FE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B915-3DDC-43C6-957A-3532E6DF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609A-384D-4BD0-B871-2CE493CF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1418-F1BA-49A9-A9D0-3DBB5522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085-9C4F-4A5A-8186-9454F0DD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8DC-4D23-4A37-BFE0-D90C8131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670-D62E-4EE0-A93E-6EA954A7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A73-C3A8-4EB3-A4F3-609E9DDD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9B5-F97A-4C66-A4AB-EC8C69E2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854-E7E1-4366-8A75-005346BB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33E-62F1-4246-AE29-C48DAA21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A3E1-B743-4A77-935B-D9669CC287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53AB-596E-44C2-87CB-7CF5593617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log.impossibleliving.com/wp-content/uploads/2011/03/Prypiat4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1916280"/>
            <a:ext cx="7772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Break-out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645000"/>
            <a:ext cx="7772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Facilitated discussion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decision aiding tools estimate residual dose with sufficient accuracy so as to distinguish between different countermeasure strategies, giv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tial and temporal var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ertainties about effectiv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factors influencing contaminant  behaviour under specific cond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 -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current decision support systems and other tools be applied to the management of existing exposure situations resulting from a malicious attac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 -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ing Group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llenges in the practical implementation of countermeasure strategies and their optimisation in existing exposure situations and how decision aiding tools can support th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ator: Anne Nisb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What countermeasure strategy?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427120"/>
            <a:ext cx="4105080" cy="2733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Japan's soldiers collect fallen leaves during decontamination mission in Fukushima "/>
          <p:cNvPicPr/>
          <p:nvPr/>
        </p:nvPicPr>
        <p:blipFill>
          <a:blip r:embed="rId3"/>
          <a:stretch/>
        </p:blipFill>
        <p:spPr>
          <a:xfrm>
            <a:off x="4500720" y="2421000"/>
            <a:ext cx="4381200" cy="2736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02080" y="549288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ipyat,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30240" y="551664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kushima prefecture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factors need to be considered when selecting RLs for existing exposure situa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w to select a value for the R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 interim RLs assist when contamination is long li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radiological risk be put into context of other risks associated with carrying out a countermeasure strateg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te, cost, environmental imp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communicate the risk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lean is cl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for food and w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for inhabited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ools, hospit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residential a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for the countrys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nd what to prepare in advance for managing existing exposure situations arising from nuclear accid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we have the necessary tools to inform the selection of countermeasure strateg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se too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hey adequat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still needs to be develop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 -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optimise countermeasure strategies when there are multiple factors to consider that can vary on a site specific and temporal ba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 for discussion -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10:19Z</dcterms:created>
  <dc:creator>anne.nisbet</dc:creator>
  <dc:description/>
  <dc:language>en-US</dc:language>
  <cp:lastModifiedBy>anne.nisbet</cp:lastModifiedBy>
  <dcterms:modified xsi:type="dcterms:W3CDTF">2012-02-01T18:41:18Z</dcterms:modified>
  <cp:revision>4</cp:revision>
  <dc:subject/>
  <dc:title>Slide 1</dc:title>
</cp:coreProperties>
</file>