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1680" y="375516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732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296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168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732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296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90600" y="333000"/>
            <a:ext cx="69120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75516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732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2960" y="119844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732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2960" y="3755160"/>
            <a:ext cx="26906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0600" y="333000"/>
            <a:ext cx="69120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75516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168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198440"/>
            <a:ext cx="407772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1680" y="3755160"/>
            <a:ext cx="835668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II_rahmen_neu_fol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6012000" y="645336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verview Topic-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250920" y="645336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9551-4371-489F-BA6E-DD424B0C718E}" type="slidenum">
              <a:rPr b="1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2"/>
          <p:cNvSpPr/>
          <p:nvPr/>
        </p:nvSpPr>
        <p:spPr>
          <a:xfrm>
            <a:off x="755640" y="6453360"/>
            <a:ext cx="81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7.02.20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KITlogo_4c_frutiger"/>
          <p:cNvPicPr/>
          <p:nvPr/>
        </p:nvPicPr>
        <p:blipFill>
          <a:blip r:embed="rId10"/>
          <a:stretch/>
        </p:blipFill>
        <p:spPr>
          <a:xfrm>
            <a:off x="7667640" y="341280"/>
            <a:ext cx="1084320" cy="495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5"/>
          <p:cNvSpPr/>
          <p:nvPr/>
        </p:nvSpPr>
        <p:spPr>
          <a:xfrm>
            <a:off x="2335320" y="6396120"/>
            <a:ext cx="34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arlsruhe Institute of Technology (KIT-IK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II_rahmen_neu_titel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96720" y="6475320"/>
            <a:ext cx="367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T – University of the State of Baden-Württemberg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ional Large-scale Research Center of the Helmholtz Associ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385920" y="3367080"/>
            <a:ext cx="453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Institute of Nuclear and Energy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7318440" y="6497640"/>
            <a:ext cx="172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www.kit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KIT-Logo-rgb_en"/>
          <p:cNvPicPr/>
          <p:nvPr/>
        </p:nvPicPr>
        <p:blipFill>
          <a:blip r:embed="rId3"/>
          <a:stretch/>
        </p:blipFill>
        <p:spPr>
          <a:xfrm>
            <a:off x="395280" y="333360"/>
            <a:ext cx="1619280" cy="747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265400"/>
            <a:ext cx="838980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Outcome of Topic 2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s in the practical implementation of countermeasure strategies and their optimisation during an emergency and how simulation models can support th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6360" y="2549160"/>
            <a:ext cx="83710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 of the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cussion focused on the usage of tools in the various phases of an emergency, having a clear distinction between the preparedness and the response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as little discussion about the technical content of the proposed new screening tool; the reason was that the content of the proposed tool was not known to several members of the audience and there was not enough time to discuss this in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scussion focused on the experience from the Japanese case, where most decisions were based on the plant status – in the early phase and monitoring in the later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 of the discussion co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1680" y="1198440"/>
            <a:ext cx="835668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n was raised that simulation models might be only suitable to support decisions on the time frame of days but not months and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emergency phase the group felt that information on the plant status and from monitoring is important to verify simul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other hand the group favoured the use of simulation models in the preparedness phase as an input for the implementation of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600" y="333000"/>
            <a:ext cx="6912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 of the discussion co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1680" y="1198440"/>
            <a:ext cx="8356680" cy="52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as nearly no discussion about the need to have a tool to develop strategies in accordance with the ICRP recommendations taking into account not individual measures, but all exposure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sonal statement of the chair of W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way the discussion reflected the current thinking with the experience of using the individual measures since more than 20 years – at least taking into account statements from the more active particip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RGOS and RODOS consortiums will continue in the development of the new tool, informing the NERIS partners about their ideas and using the feedback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4:55:19Z</dcterms:created>
  <dc:creator>Wolfgang Raskob</dc:creator>
  <dc:description/>
  <dc:language>en-US</dc:language>
  <cp:lastModifiedBy>Wolfgang Raskob</cp:lastModifiedBy>
  <dcterms:modified xsi:type="dcterms:W3CDTF">2012-02-08T07:56:51Z</dcterms:modified>
  <cp:revision>28</cp:revision>
  <dc:subject/>
  <dc:title>Folientitel: Arial 26pt fett 2-zeilig: Arial 22pt fett</dc:title>
</cp:coreProperties>
</file>