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7B4-4C04-4CCF-92CE-3BFDF964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CAE-15D3-441C-B245-CFD913E3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36E-31ED-4421-A116-5AE7CF2A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663-EA57-46B3-B78A-BA7C3F6D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47A7-4A5A-4C6C-9E17-BCAF0E31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4FFC-753D-4372-B9C8-AD28EA41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C46B-CC52-44E3-A1C6-F000D00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4691-DD50-4C64-910C-EBAAC039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D521-2A94-4A9E-9243-617D1FDC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79B3-DB7D-4FB7-85CE-8E8B484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79AC-4243-4CCA-BCE5-CCDE462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D5E-A240-402C-8A3A-C5EC36E9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C7ED-5B90-4249-B11E-957A19A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75FC-7EDA-4AD9-BE54-240B016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3728-77F1-4029-8BE9-BCF9C9F1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3433-4631-4DB6-9D51-01D0ACA1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A788-F565-4C59-9CF5-95AED250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03E-4A4E-4416-902F-C3A0F6DE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8F9-D9CF-4043-B213-712495D6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4F6-84BD-4E24-BCEE-BB43FFB8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A51-40C4-4F60-A3F7-30AF4215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3DB-B806-47E7-B889-0E0D408F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BA1-A547-4E66-994D-9F9C7DD9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AE7-ACE3-4B5F-804C-E8AB56C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EEDD-459F-4F75-A906-9895F4C563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087E-45EE-4536-A626-B3ADF256DBC0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68360" y="191628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ahoma"/>
              </a:rPr>
              <a:t>Working Group 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BUT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racterise vulnerabilities (zon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re information needed on long term behaviour of many radionucl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adequate calibration of monitoring equipment (aerial surveys) leading to bad management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042920" y="214200"/>
            <a:ext cx="8101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re the right tools available (2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ess overall evolution of residual d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ies exposure pathways and points to interv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ables elimination of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vides audit trail of decisions (BAT – resulting from expert knowledge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pplication of D.A.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n't include uncertain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y not be able to distinguish between similar sets of options on basis of residual d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suitable for malicious 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t source terms, particle size, deposition velocity, physico-chemic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pplication of D.A. T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orking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llenges in the practical implementation of countermeasure strategies and their optimisation in existing exposure situations and how decision aiding tools can support 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derator: Anne Nisb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pproach tak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und table intro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lection and reframing of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cu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change of no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scussion top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clean is cl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 we have the necessary tools for managing existing exposure situations? If not, what else can be d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can decision-aiding tools in particular, be used in existing exposure situ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ale (small vs lar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litical factors – respo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ident or malic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ust in auth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edness, awareness,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participates in dec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laces for dialogue at the local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clean is clea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ing of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ing of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verted dose vs social, ethical, env imp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oritisation of needs in the local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to clean and to what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ceptance of individual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y/go; self-help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clean is clea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6920" y="2017440"/>
            <a:ext cx="7767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ccesses from Jap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lture of re-building following natural disa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cal initiatives and networks for decontamination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ailability of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chnical approaches, monitor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cial network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ow clean is clea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GRICP and ERM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od production; inhabited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I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ANOS Recovery Hand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od production; inhabited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AGE Handbook  + CODIR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P 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560" y="23796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re the right tools available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BUT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ll tools need revising post Fukush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additional ‘simple’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app for I-Ph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new training programm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on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gage stakeholders for dialogue under non-crisis cond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042920" y="214200"/>
            <a:ext cx="8101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re the right tools available (2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0:19Z</dcterms:created>
  <dc:creator>anne.nisbet</dc:creator>
  <dc:description/>
  <dc:language>en-US</dc:language>
  <cp:lastModifiedBy>Anne.Nisbet</cp:lastModifiedBy>
  <dcterms:modified xsi:type="dcterms:W3CDTF">2012-02-07T23:07:51Z</dcterms:modified>
  <cp:revision>22</cp:revision>
  <dc:subject/>
  <dc:title>Slide 1</dc:title>
</cp:coreProperties>
</file>