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3774960" y="0"/>
            <a:ext cx="288792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851040" y="742680"/>
            <a:ext cx="49608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Click to move the slide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8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5"/>
          </p:nvPr>
        </p:nvSpPr>
        <p:spPr>
          <a:xfrm>
            <a:off x="-360" y="942984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6"/>
          </p:nvPr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AAB14B7-B2BC-4C6F-9509-7007EF4AA6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031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3AE74A7E-7904-4FD6-AA6C-B37FB1D42603}" type="slidenum">
              <a:rPr b="0" lang="en-GB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51040" y="74304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7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D560B-B783-4C09-82B1-F494A800C2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077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7720" y="3713400"/>
            <a:ext cx="8077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E9667-F2B9-40D5-8A17-5B35EF694D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7000" y="15238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37134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77000" y="37134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069F0-039E-46D0-A227-63DF39728F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8680" y="15238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0000" y="15238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7720" y="371340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68680" y="371340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0000" y="371340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B8E94-54D9-42D3-B7FF-7E7BE7A8EF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9AA7B-5E64-4911-A3D8-1ECFB50D58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7720" y="15238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06365-8EC7-438E-9F45-CC0E882FEE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19478-7222-405A-982A-A2A73988FF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77000" y="15238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57551-E3E7-4632-83B8-2C1B59AC0A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E4CD4-D50D-42E4-9C08-0DA657A1BF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40283-2842-47B6-907C-90E4196763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77000" y="15238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37720" y="37134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7E3CE-D6EE-423F-82C6-A5528C3F35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7720" y="15238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F9D36-64B3-46D2-B688-AC64198EE5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7000" y="15238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77000" y="37134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59D51-1E57-42A4-B940-332DA9FC52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7000" y="15238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7720" y="3713400"/>
            <a:ext cx="8077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B1505-D869-433E-A0D9-7C91758D55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077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37720" y="3713400"/>
            <a:ext cx="8077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BCC9D-7297-4D3D-BA9E-A09E6EB9E6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7000" y="15238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7720" y="37134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977000" y="37134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4807B-3C40-4908-899D-480E49F333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68680" y="15238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00000" y="15238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837720" y="371340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68680" y="371340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00000" y="371340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B3AE7-23A1-4DA9-B1E9-BF551810461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7CD4-B937-4570-8AEB-DE88287CC16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37720" y="15238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862D-B330-4C41-9E32-E00DD4D526B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321E-E0AB-49A8-BB74-FF125DD958E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77000" y="15238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BE3F-E1EC-456C-B31C-205A85C6045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6522-410F-4CF8-AA2F-99E794CE4E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1E26A-5922-4A20-8DD7-D6BE385EF0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706C-813D-455F-9FE5-27BB28B8F84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77000" y="15238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37720" y="37134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8511-A8AC-46CD-AD8E-3F83886090B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77000" y="15238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977000" y="37134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91ED-D216-4A1D-9B5B-87214C61B0E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7000" y="15238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7720" y="3713400"/>
            <a:ext cx="8077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B720-287B-4FEF-8E77-11EBC1FBC35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077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837720" y="3713400"/>
            <a:ext cx="8077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A0AC-585C-4760-9848-3CB0FC6389C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77000" y="15238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7720" y="37134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977000" y="37134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4925-C8EC-429A-BB6C-14951C642EB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68680" y="15238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300000" y="15238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837720" y="371340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568680" y="371340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300000" y="371340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9617-3289-4258-9026-7B79360455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77000" y="15238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C03C9-5638-4698-93C6-A1B72CA46F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2E941-FBEF-4B93-9D0F-4AC090EC79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534FA-A09A-4765-94E2-F18BD43699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77000" y="15238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7720" y="37134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7DF11-177B-4419-A7B8-191890A6A1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77000" y="15238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77000" y="37134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CF036-68BE-47BD-8EF1-7CCAF2A589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7000" y="15238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3713400"/>
            <a:ext cx="8077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22E79-5B3B-42A3-BC80-A88FDC3767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5238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rebuchet MS"/>
              </a:rPr>
              <a:t>Click to edit the outline text format</a:t>
            </a: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rebuchet MS"/>
              </a:rPr>
              <a:t>Second Outline Level</a:t>
            </a: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rebuchet MS"/>
              </a:rPr>
              <a:t>Third Outline Level</a:t>
            </a: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rebuchet MS"/>
              </a:rPr>
              <a:t>Fourth Outline Level</a:t>
            </a: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rebuchet MS"/>
              </a:rPr>
              <a:t>Fifth Outline Level</a:t>
            </a: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rebuchet MS"/>
              </a:rPr>
              <a:t>Sixth Outline Level</a:t>
            </a: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rebuchet MS"/>
              </a:rPr>
              <a:t>Seventh Outline Level</a:t>
            </a: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4AA0-4509-4436-8B2D-8BE36407F38A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37720" y="15238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rebuchet MS"/>
              </a:rPr>
              <a:t>Click to edit the outline text format</a:t>
            </a: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rebuchet MS"/>
              </a:rPr>
              <a:t>Second Outline Level</a:t>
            </a: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rebuchet MS"/>
              </a:rPr>
              <a:t>Third Outline Level</a:t>
            </a: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rebuchet MS"/>
              </a:rPr>
              <a:t>Fourth Outline Level</a:t>
            </a: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rebuchet MS"/>
              </a:rPr>
              <a:t>Fifth Outline Level</a:t>
            </a: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rebuchet MS"/>
              </a:rPr>
              <a:t>Sixth Outline Level</a:t>
            </a: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rebuchet MS"/>
              </a:rPr>
              <a:t>Seventh Outline Level</a:t>
            </a: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7015-6C55-4840-84F3-1E7804220D88}" type="slidenum">
              <a:rPr b="0" lang="en-GB" sz="10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17"/>
          <p:cNvSpPr/>
          <p:nvPr/>
        </p:nvSpPr>
        <p:spPr>
          <a:xfrm>
            <a:off x="685800" y="1371600"/>
            <a:ext cx="8229600" cy="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7720" y="15238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rebuchet MS"/>
              </a:rPr>
              <a:t>Click to edit the outline text format</a:t>
            </a: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rebuchet MS"/>
              </a:rPr>
              <a:t>Second Outline Level</a:t>
            </a: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rebuchet MS"/>
              </a:rPr>
              <a:t>Third Outline Level</a:t>
            </a: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rebuchet MS"/>
              </a:rPr>
              <a:t>Fourth Outline Level</a:t>
            </a: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rebuchet MS"/>
              </a:rPr>
              <a:t>Fifth Outline Level</a:t>
            </a: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rebuchet MS"/>
              </a:rPr>
              <a:t>Sixth Outline Level</a:t>
            </a: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rebuchet MS"/>
              </a:rPr>
              <a:t>Seventh Outline Level</a:t>
            </a:r>
            <a:endParaRPr b="1" lang="en-US" sz="2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3"/>
          </p:nvPr>
        </p:nvSpPr>
        <p:spPr>
          <a:xfrm>
            <a:off x="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B7B3-1F00-4DD5-AA8A-36C6467F4F06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53360" cy="417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rebuchet MS"/>
              </a:rPr>
              <a:t>Up-Scaling RP Measures for Emergency and Post-Emergency and the Need for Refinements further to the ICRP General Recommendations</a:t>
            </a:r>
            <a:br>
              <a:rPr sz="3600"/>
            </a:br>
            <a:br>
              <a:rPr sz="3600"/>
            </a:br>
            <a:r>
              <a:rPr b="1" i="1" lang="en-US" sz="2800" spc="-1" strike="noStrike">
                <a:solidFill>
                  <a:srgbClr val="ffff00"/>
                </a:solidFill>
                <a:latin typeface="Trebuchet MS"/>
              </a:rPr>
              <a:t>Plenary Session I: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Trebuchet MS"/>
              </a:rPr>
              <a:t>ICRP recommendations and their application</a:t>
            </a:r>
            <a:endParaRPr b="1" lang="en-US" sz="28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010280" y="1219320"/>
            <a:ext cx="2210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7" name="Oval 6"/>
          <p:cNvSpPr/>
          <p:nvPr/>
        </p:nvSpPr>
        <p:spPr>
          <a:xfrm>
            <a:off x="6429240" y="5715000"/>
            <a:ext cx="2643480" cy="1000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28" name="Picture 1" descr="WNAlogo"/>
          <p:cNvPicPr/>
          <p:nvPr/>
        </p:nvPicPr>
        <p:blipFill>
          <a:blip r:embed="rId1"/>
          <a:stretch/>
        </p:blipFill>
        <p:spPr>
          <a:xfrm>
            <a:off x="7072200" y="5929200"/>
            <a:ext cx="1500480" cy="6177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0"/>
              </a:srgbClr>
            </a:outerShdw>
          </a:effectLst>
        </p:spPr>
      </p:pic>
      <p:sp>
        <p:nvSpPr>
          <p:cNvPr id="129" name="Text Box 4"/>
          <p:cNvSpPr/>
          <p:nvPr/>
        </p:nvSpPr>
        <p:spPr>
          <a:xfrm>
            <a:off x="281160" y="5622840"/>
            <a:ext cx="6933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b0f0"/>
                </a:solidFill>
                <a:latin typeface="Trebuchet MS"/>
              </a:rPr>
              <a:t>Sylvain Saint-Pierr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b0f0"/>
                </a:solidFill>
                <a:latin typeface="Trebuchet MS"/>
              </a:rPr>
              <a:t>Director, WNA Outreach Initiativ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b0f0"/>
                </a:solidFill>
                <a:latin typeface="Trebuchet MS"/>
              </a:rPr>
              <a:t>Director for Environment and Radiological Protection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b0f0"/>
                </a:solidFill>
                <a:latin typeface="Trebuchet MS"/>
              </a:rPr>
              <a:t>World Nuclear Association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6012000" y="4707000"/>
            <a:ext cx="320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b0f0"/>
                </a:solidFill>
                <a:latin typeface="Trebuchet MS"/>
              </a:rPr>
              <a:t>First NERIS Platform Workshop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b0f0"/>
                </a:solidFill>
                <a:latin typeface="Trebuchet MS"/>
              </a:rPr>
              <a:t>6-8 February 2012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b0f0"/>
                </a:solidFill>
                <a:latin typeface="Trebuchet MS"/>
              </a:rPr>
              <a:t>Bratislava, Slovak Republic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0560" y="1461960"/>
            <a:ext cx="889308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f0"/>
                </a:solidFill>
                <a:latin typeface="Trebuchet MS"/>
              </a:rPr>
              <a:t>Int’l Policies: Examples of notions to review</a:t>
            </a:r>
            <a:r>
              <a:rPr b="1" lang="en-GB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Trebuchet MS"/>
            </a:endParaRPr>
          </a:p>
          <a:p>
            <a:pPr marL="272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f0"/>
                </a:solidFill>
                <a:latin typeface="Trebuchet MS"/>
              </a:rPr>
              <a:t>Optimization</a:t>
            </a:r>
            <a:r>
              <a:rPr b="1" lang="en-GB" sz="2400" spc="-1" strike="noStrike">
                <a:solidFill>
                  <a:srgbClr val="00b0f0"/>
                </a:solidFill>
                <a:latin typeface="Trebuchet MS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Trebuchet MS"/>
              </a:rPr>
              <a:t>: To which extent it is practically applicable during an emergency and afterward?</a:t>
            </a:r>
            <a:endParaRPr b="1" lang="en-US" sz="2400" spc="-1" strike="noStrike">
              <a:solidFill>
                <a:srgbClr val="ffff00"/>
              </a:solidFill>
              <a:latin typeface="Trebuchet MS"/>
            </a:endParaRPr>
          </a:p>
          <a:p>
            <a:pPr marL="272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f0"/>
                </a:solidFill>
                <a:latin typeface="Trebuchet MS"/>
              </a:rPr>
              <a:t>‘</a:t>
            </a:r>
            <a:r>
              <a:rPr b="1" lang="en-GB" sz="2800" spc="-1" strike="noStrike" u="sng">
                <a:solidFill>
                  <a:srgbClr val="00b0f0"/>
                </a:solidFill>
                <a:uFillTx/>
                <a:latin typeface="Trebuchet MS"/>
              </a:rPr>
              <a:t>Voluntary</a:t>
            </a:r>
            <a:r>
              <a:rPr b="1" lang="en-GB" sz="2800" spc="-1" strike="noStrike">
                <a:solidFill>
                  <a:srgbClr val="00b0f0"/>
                </a:solidFill>
                <a:latin typeface="Trebuchet MS"/>
              </a:rPr>
              <a:t> responders’</a:t>
            </a:r>
            <a:r>
              <a:rPr b="1" lang="en-GB" sz="2400" spc="-1" strike="noStrike">
                <a:solidFill>
                  <a:srgbClr val="ffff00"/>
                </a:solidFill>
                <a:latin typeface="Trebuchet MS"/>
              </a:rPr>
              <a:t>? If most experienced staff are not willing to respond voluntary, then what?</a:t>
            </a:r>
            <a:endParaRPr b="1" lang="en-US" sz="2400" spc="-1" strike="noStrike">
              <a:solidFill>
                <a:srgbClr val="ffff00"/>
              </a:solidFill>
              <a:latin typeface="Trebuchet MS"/>
            </a:endParaRPr>
          </a:p>
          <a:p>
            <a:pPr marL="272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b0f0"/>
                </a:solidFill>
                <a:latin typeface="Trebuchet MS"/>
              </a:rPr>
              <a:t>Transition between emergency </a:t>
            </a:r>
            <a:r>
              <a:rPr b="1" lang="en-GB" sz="2400" spc="-1" strike="noStrike">
                <a:solidFill>
                  <a:srgbClr val="ffff00"/>
                </a:solidFill>
                <a:latin typeface="Trebuchet MS"/>
              </a:rPr>
              <a:t>(e.g. several months) </a:t>
            </a:r>
            <a:r>
              <a:rPr b="1" lang="en-GB" sz="2400" spc="-1" strike="noStrike">
                <a:solidFill>
                  <a:srgbClr val="00b0f0"/>
                </a:solidFill>
                <a:latin typeface="Trebuchet MS"/>
              </a:rPr>
              <a:t>and post-emergency</a:t>
            </a:r>
            <a:r>
              <a:rPr b="1" lang="en-GB" sz="2400" spc="-1" strike="noStrike">
                <a:solidFill>
                  <a:srgbClr val="ffff00"/>
                </a:solidFill>
                <a:latin typeface="Trebuchet MS"/>
              </a:rPr>
              <a:t> (e.g. several decades): How should it be managed, including all applicable rules?</a:t>
            </a:r>
            <a:endParaRPr b="1" lang="en-US" sz="2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AF94-996A-49AF-9092-B9F495D184C3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53928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b0f0"/>
                </a:solidFill>
                <a:latin typeface="Trebuchet MS"/>
              </a:rPr>
              <a:t>RP for emergency/post-emergency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1461600"/>
            <a:ext cx="9144000" cy="53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f0"/>
                </a:solidFill>
                <a:latin typeface="Trebuchet MS"/>
              </a:rPr>
              <a:t>Reference levels for responders: </a:t>
            </a:r>
            <a:r>
              <a:rPr b="1" lang="en-GB" sz="2400" spc="-1" strike="noStrike">
                <a:solidFill>
                  <a:srgbClr val="ffff00"/>
                </a:solidFill>
                <a:latin typeface="Trebuchet MS"/>
              </a:rPr>
              <a:t>Important not to overlook subtleties of numerical values (ICRP 103, p.117)</a:t>
            </a:r>
            <a:endParaRPr b="1" lang="en-US" sz="2400" spc="-1" strike="noStrike">
              <a:solidFill>
                <a:srgbClr val="ffff00"/>
              </a:solidFill>
              <a:latin typeface="Trebuchet MS"/>
            </a:endParaRPr>
          </a:p>
          <a:p>
            <a:pPr lvl="1" marL="66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f0"/>
                </a:solidFill>
                <a:latin typeface="Trebuchet MS"/>
              </a:rPr>
              <a:t>For </a:t>
            </a:r>
            <a:r>
              <a:rPr b="0" lang="en-GB" sz="2400" spc="-1" strike="noStrike" u="sng">
                <a:solidFill>
                  <a:srgbClr val="00b0f0"/>
                </a:solidFill>
                <a:uFillTx/>
                <a:latin typeface="Trebuchet MS"/>
              </a:rPr>
              <a:t>life saving</a:t>
            </a:r>
            <a:r>
              <a:rPr b="0" lang="en-GB" sz="2400" spc="-1" strike="noStrike">
                <a:solidFill>
                  <a:srgbClr val="00b0f0"/>
                </a:solidFill>
                <a:latin typeface="Trebuchet MS"/>
              </a:rPr>
              <a:t>, </a:t>
            </a:r>
            <a:r>
              <a:rPr b="0" lang="en-GB" sz="2400" spc="-1" strike="noStrike">
                <a:solidFill>
                  <a:srgbClr val="ffc000"/>
                </a:solidFill>
                <a:latin typeface="Trebuchet MS"/>
              </a:rPr>
              <a:t>no dose restrictions</a:t>
            </a:r>
            <a:r>
              <a:rPr b="0" lang="en-GB" sz="2400" spc="-1" strike="noStrike">
                <a:solidFill>
                  <a:srgbClr val="00b0f0"/>
                </a:solidFill>
                <a:latin typeface="Trebuchet MS"/>
              </a:rPr>
              <a:t>: If benefit to others outweighs rescuers’ risk</a:t>
            </a:r>
            <a:endParaRPr b="0" lang="en-US" sz="2400" spc="-1" strike="noStrike">
              <a:solidFill>
                <a:srgbClr val="ffff00"/>
              </a:solidFill>
              <a:latin typeface="Trebuchet MS"/>
            </a:endParaRPr>
          </a:p>
          <a:p>
            <a:pPr lvl="1" marL="66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f0"/>
                </a:solidFill>
                <a:latin typeface="Trebuchet MS"/>
              </a:rPr>
              <a:t>For </a:t>
            </a:r>
            <a:r>
              <a:rPr b="0" lang="en-GB" sz="2400" spc="-1" strike="noStrike" u="sng">
                <a:solidFill>
                  <a:srgbClr val="00b0f0"/>
                </a:solidFill>
                <a:uFillTx/>
                <a:latin typeface="Trebuchet MS"/>
              </a:rPr>
              <a:t>other urgent rescue operations</a:t>
            </a:r>
            <a:r>
              <a:rPr b="0" lang="en-GB" sz="2400" spc="-1" strike="noStrike">
                <a:solidFill>
                  <a:srgbClr val="00b0f0"/>
                </a:solidFill>
                <a:latin typeface="Trebuchet MS"/>
              </a:rPr>
              <a:t> (</a:t>
            </a:r>
            <a:r>
              <a:rPr b="0" lang="en-GB" sz="2400" spc="-1" strike="noStrike">
                <a:solidFill>
                  <a:srgbClr val="ffc000"/>
                </a:solidFill>
                <a:latin typeface="Trebuchet MS"/>
              </a:rPr>
              <a:t>&lt;500 mSv</a:t>
            </a:r>
            <a:r>
              <a:rPr b="0" lang="en-GB" sz="2400" spc="-1" strike="noStrike">
                <a:solidFill>
                  <a:srgbClr val="00b0f0"/>
                </a:solidFill>
                <a:latin typeface="Trebuchet MS"/>
              </a:rPr>
              <a:t>) and for </a:t>
            </a:r>
            <a:r>
              <a:rPr b="0" lang="en-GB" sz="2400" spc="-1" strike="noStrike" u="sng">
                <a:solidFill>
                  <a:srgbClr val="00b0f0"/>
                </a:solidFill>
                <a:uFillTx/>
                <a:latin typeface="Trebuchet MS"/>
              </a:rPr>
              <a:t>other rescue operations</a:t>
            </a:r>
            <a:r>
              <a:rPr b="0" lang="en-GB" sz="2400" spc="-1" strike="noStrike">
                <a:solidFill>
                  <a:srgbClr val="00b0f0"/>
                </a:solidFill>
                <a:latin typeface="Trebuchet MS"/>
              </a:rPr>
              <a:t> (</a:t>
            </a:r>
            <a:r>
              <a:rPr b="0" lang="en-GB" sz="2400" spc="-1" strike="noStrike">
                <a:solidFill>
                  <a:srgbClr val="ffc000"/>
                </a:solidFill>
                <a:latin typeface="Trebuchet MS"/>
              </a:rPr>
              <a:t>&lt;100 mSv</a:t>
            </a:r>
            <a:r>
              <a:rPr b="0" lang="en-GB" sz="2400" spc="-1" strike="noStrike">
                <a:solidFill>
                  <a:srgbClr val="00b0f0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ffff00"/>
              </a:solidFill>
              <a:latin typeface="Trebuchet MS"/>
            </a:endParaRPr>
          </a:p>
          <a:p>
            <a:pPr marL="2635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rebuchet MS"/>
              </a:rPr>
              <a:t>If any, benefit of reducing emergency limit values is unclear</a:t>
            </a:r>
            <a:endParaRPr b="1" lang="en-US" sz="2400" spc="-1" strike="noStrike">
              <a:solidFill>
                <a:srgbClr val="ffff00"/>
              </a:solidFill>
              <a:latin typeface="Trebuchet MS"/>
            </a:endParaRPr>
          </a:p>
          <a:p>
            <a:pPr marL="2635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rebuchet MS"/>
              </a:rPr>
              <a:t>Would an activity involving five inexperienced responders instead of a single experienced one be an improvement?</a:t>
            </a:r>
            <a:endParaRPr b="1" lang="en-US" sz="2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9473-33DD-496B-97C3-511856C124A7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53928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b0f0"/>
                </a:solidFill>
                <a:latin typeface="Trebuchet MS"/>
              </a:rPr>
              <a:t>RP for emergency/post-emergency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560" y="1461600"/>
            <a:ext cx="8893080" cy="53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f0"/>
                </a:solidFill>
                <a:latin typeface="Trebuchet MS"/>
              </a:rPr>
              <a:t>Reference levels for the public: 1, 20, 100 mSv/y</a:t>
            </a:r>
            <a:endParaRPr b="1" lang="en-US" sz="2800" spc="-1" strike="noStrike">
              <a:solidFill>
                <a:srgbClr val="ffff00"/>
              </a:solidFill>
              <a:latin typeface="Trebuchet MS"/>
            </a:endParaRPr>
          </a:p>
          <a:p>
            <a:pPr marL="2635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rebuchet MS"/>
              </a:rPr>
              <a:t>What they really mean in terms of </a:t>
            </a:r>
            <a:r>
              <a:rPr b="1" lang="en-GB" sz="2400" spc="-1" strike="noStrike">
                <a:solidFill>
                  <a:srgbClr val="00b0f0"/>
                </a:solidFill>
                <a:latin typeface="Trebuchet MS"/>
              </a:rPr>
              <a:t>public health</a:t>
            </a:r>
            <a:r>
              <a:rPr b="1" lang="en-GB" sz="2400" spc="-1" strike="noStrike">
                <a:solidFill>
                  <a:srgbClr val="ffff00"/>
                </a:solidFill>
                <a:latin typeface="Trebuchet MS"/>
              </a:rPr>
              <a:t> and of </a:t>
            </a:r>
            <a:r>
              <a:rPr b="1" lang="en-GB" sz="2400" spc="-1" strike="noStrike">
                <a:solidFill>
                  <a:srgbClr val="00b0f0"/>
                </a:solidFill>
                <a:latin typeface="Trebuchet MS"/>
              </a:rPr>
              <a:t>socio-economic</a:t>
            </a:r>
            <a:r>
              <a:rPr b="1" lang="en-GB" sz="2400" spc="-1" strike="noStrike">
                <a:solidFill>
                  <a:srgbClr val="ffff00"/>
                </a:solidFill>
                <a:latin typeface="Trebuchet MS"/>
              </a:rPr>
              <a:t> issues in relation to allowing/disallowing evacuees to return to their homes?</a:t>
            </a:r>
            <a:endParaRPr b="1" lang="en-US" sz="2400" spc="-1" strike="noStrike">
              <a:solidFill>
                <a:srgbClr val="ffff00"/>
              </a:solidFill>
              <a:latin typeface="Trebuchet MS"/>
            </a:endParaRPr>
          </a:p>
          <a:p>
            <a:pPr marL="2635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rebuchet MS"/>
              </a:rPr>
              <a:t>After a major accident, as you cannot know a priori what you would end-up with, is international guidance helpful?</a:t>
            </a:r>
            <a:endParaRPr b="1" lang="en-US" sz="2400" spc="-1" strike="noStrike">
              <a:solidFill>
                <a:srgbClr val="ffff00"/>
              </a:solidFill>
              <a:latin typeface="Trebuchet MS"/>
            </a:endParaRPr>
          </a:p>
          <a:p>
            <a:pPr marL="2635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rebuchet MS"/>
              </a:rPr>
              <a:t>For example, what about a maximal value of 20 mSv/y, and a long term goal of 1 mSv/y?</a:t>
            </a:r>
            <a:endParaRPr b="1" lang="en-US" sz="2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F8E0-AE0C-4C16-9EED-2AB5488C549C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53928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b0f0"/>
                </a:solidFill>
                <a:latin typeface="Trebuchet MS"/>
              </a:rPr>
              <a:t>RP for emergency/post-emergency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b0f0"/>
                </a:solidFill>
                <a:latin typeface="Trebuchet MS"/>
              </a:rPr>
              <a:t>RP for emergency/post-emergency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395280" y="1557360"/>
            <a:ext cx="8640720" cy="45432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A subsequent priority (policies &amp; standards):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A 1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rebuchet MS"/>
                <a:ea typeface="Arial"/>
              </a:rPr>
              <a:t>st</a:t>
            </a: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 IAEA review has been launched in Sep 2011 with a duty to report one year later 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Analysis of Fukushima will provide an opportunity to seriously test the ICRP new approach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Industry is committed to deploy effort recognizing though that this is a subsequent priority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0" y="659772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133F-2554-40DD-8FA5-C1329B72CD8E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b0f0"/>
                </a:solidFill>
                <a:latin typeface="Trebuchet MS"/>
              </a:rPr>
              <a:t>RP for emergency/post-emergency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395280" y="1704960"/>
            <a:ext cx="8640720" cy="37659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A subsequent priority (policies &amp; standards):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We recommend a reasonable pace of development that would benefit from the analysis of Fukushima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This should serve as a basis to improve/refine international policies &amp; standards afterward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0" y="659772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8371-3D9E-4CB6-9223-E51797A3AB72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50560" y="1628280"/>
            <a:ext cx="88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18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</a:rPr>
              <a:t>National/company choices of RP measures for large scale events will likely vary significantly</a:t>
            </a:r>
            <a:endParaRPr b="1" lang="en-US" sz="2800" spc="-1" strike="noStrike">
              <a:solidFill>
                <a:srgbClr val="ffff00"/>
              </a:solidFill>
              <a:latin typeface="Trebuchet MS"/>
            </a:endParaRPr>
          </a:p>
          <a:p>
            <a:pPr marL="272880" indent="0">
              <a:spcBef>
                <a:spcPts val="18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</a:rPr>
              <a:t>International dialogue (ICRP , IAEA, etc.) will be key to develop a supporting rationale for choices </a:t>
            </a:r>
            <a:endParaRPr b="1" lang="en-US" sz="2800" spc="-1" strike="noStrike">
              <a:solidFill>
                <a:srgbClr val="ffff00"/>
              </a:solidFill>
              <a:latin typeface="Trebuchet MS"/>
            </a:endParaRPr>
          </a:p>
          <a:p>
            <a:pPr marL="272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rebuchet MS"/>
            </a:endParaRPr>
          </a:p>
          <a:p>
            <a:pPr marL="272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F24E-32F6-4187-A9EA-340C435F2FC6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53928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b0f0"/>
                </a:solidFill>
                <a:latin typeface="Trebuchet MS"/>
              </a:rPr>
              <a:t>RP for emergency/post-emergency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560" y="1628280"/>
            <a:ext cx="8893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spcBef>
                <a:spcPts val="18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</a:rPr>
              <a:t>In-depth understanding of nuclear technologies and of their implementation is key for sound improvements in RP policies/standards </a:t>
            </a:r>
            <a:endParaRPr b="1" lang="en-US" sz="2800" spc="-1" strike="noStrike">
              <a:solidFill>
                <a:srgbClr val="ffff00"/>
              </a:solidFill>
              <a:latin typeface="Trebuchet MS"/>
            </a:endParaRPr>
          </a:p>
          <a:p>
            <a:pPr marL="2617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</a:rPr>
              <a:t>Otherwise, it is not self-evident for policy-makers to really improve policies/standards</a:t>
            </a:r>
            <a:endParaRPr b="1" lang="en-US" sz="2800" spc="-1" strike="noStrike">
              <a:solidFill>
                <a:srgbClr val="ffff00"/>
              </a:solidFill>
              <a:latin typeface="Trebuchet MS"/>
            </a:endParaRPr>
          </a:p>
          <a:p>
            <a:pPr marL="2617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</a:rPr>
              <a:t>Systematic input from nuclear industry leaders should be the norm</a:t>
            </a:r>
            <a:endParaRPr b="1" lang="en-US" sz="28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8F7A-5065-43C3-8270-4F11856FEDE8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53928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b0f0"/>
                </a:solidFill>
                <a:latin typeface="Trebuchet MS"/>
              </a:rPr>
              <a:t>RP for emergency/post-emergency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7B11-A230-422B-AE23-283177329CF1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468360" y="1700280"/>
            <a:ext cx="8643960" cy="17838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b0f0"/>
                </a:solidFill>
                <a:latin typeface="Trebuchet MS"/>
              </a:rPr>
              <a:t>Tissue reactions and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b0f0"/>
                </a:solidFill>
                <a:latin typeface="Trebuchet MS"/>
              </a:rPr>
              <a:t>non-cancer effects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b0f0"/>
                </a:solidFill>
                <a:latin typeface="Trebuchet MS"/>
              </a:rPr>
              <a:t>Tissue reactions and non-cancer effects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684360" y="1628640"/>
            <a:ext cx="8351640" cy="39639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ICRP and the RP system were created after the discovery of health casualties from the increased use of X-Ray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The RP system is generally based on the risk (stochastic) of </a:t>
            </a: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cancer and hereditary disease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In addition, it covers protection against deterministic effects on </a:t>
            </a: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tissues and organs </a:t>
            </a: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that differ from cancer (non-cancer effects)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0" y="659772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BC06-1364-4DAD-BE2C-8B297F85B819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b0f0"/>
                </a:solidFill>
                <a:latin typeface="Trebuchet MS"/>
              </a:rPr>
              <a:t>Tissue reactions and non-cancer effects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684360" y="1628640"/>
            <a:ext cx="8351640" cy="4863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The rapid increase and wider use of radiation-nuclear technology in the medical sector may bring a </a:t>
            </a: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‘game changer’ </a:t>
            </a: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in the RP system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This enhanced use – for beneficial reasons – will likely lead to the emergence of </a:t>
            </a: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statistically significant radio-induced non-cancer effects</a:t>
            </a: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: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rebuchet MS"/>
                <a:ea typeface="Arial"/>
              </a:rPr>
              <a:t>e.g. cataracts, blood circulatory diseases, cardiovascular diseases, etc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0" y="659772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3F56-4C88-4A67-94F8-41ABF895BA7D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f0"/>
                </a:solidFill>
                <a:latin typeface="Trebuchet MS"/>
              </a:rPr>
              <a:t>Outline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611280" y="1704960"/>
            <a:ext cx="8424720" cy="44211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RP for emergency and post-emergency exposure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RP review/upgrade measures for plant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International policies &amp; standard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Tissue reactions and non-cancer effect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Incidence of more or less severe non-fatal health diseases (with many that are curable)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0" y="659772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F05A-403A-42B8-93BD-AF11A59F6CFF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b0f0"/>
                </a:solidFill>
                <a:latin typeface="Trebuchet MS"/>
              </a:rPr>
              <a:t>Tissue reactions and non-cancer effects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539640" y="1628640"/>
            <a:ext cx="8496360" cy="3308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The notion of thresholds for deterministic effects on organs-tissues will likely change as refined knowledge on effects and protection is gained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Correspondingly, ICRP evolved from the notion of ‘</a:t>
            </a: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deterministic effects</a:t>
            </a: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’ to the notion of ‘</a:t>
            </a: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tissue reactions and non-cancer effects</a:t>
            </a: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’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0" y="659772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4E6B-9A47-48D3-B018-190DD85B1EE0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b0f0"/>
                </a:solidFill>
                <a:latin typeface="Trebuchet MS"/>
              </a:rPr>
              <a:t>Tissue reactions and non-cancer effects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468360" y="1428840"/>
            <a:ext cx="8567640" cy="37353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Evolving, from general protection against </a:t>
            </a: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cancer and mortality </a:t>
            </a: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to protection against the </a:t>
            </a: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incidence of more or less severe non-fatal health diseases </a:t>
            </a: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(with many that are curable) needs to involve </a:t>
            </a: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well considered judgement call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This is because it can create significant imbalance in the RP system 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0" y="659772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E29F-FFEB-49B3-8C22-E446A6514CF7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b0f0"/>
                </a:solidFill>
                <a:latin typeface="Trebuchet MS"/>
              </a:rPr>
              <a:t>Tissue reactions and non-cancer effects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468360" y="1628640"/>
            <a:ext cx="8567640" cy="9471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Is the change only for the medical sector? Let’s consider the following protection levels: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0" y="659772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7F35-2B5F-439F-B0F0-C25945AFC2C9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539640" y="2690640"/>
            <a:ext cx="8569440" cy="1373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1% </a:t>
            </a: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incidence (Err/Gy) against the risk of a more or less severe </a:t>
            </a: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non-cancer effects </a:t>
            </a: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(e.g. cataract) 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539640" y="3860640"/>
            <a:ext cx="8568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5%</a:t>
            </a: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 (%/Sv) against the risk of </a:t>
            </a: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cancer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539640" y="4581360"/>
            <a:ext cx="8568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Is the above coherent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b0f0"/>
                </a:solidFill>
                <a:latin typeface="Trebuchet MS"/>
              </a:rPr>
              <a:t>Tissue reactions and non-cancer effects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468360" y="1628640"/>
            <a:ext cx="8567640" cy="3308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As </a:t>
            </a: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large workforces </a:t>
            </a: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are part of the nuclear industry, any incoherence in the evolution of stochastic health risks related to non-cancer effects is a source of concern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Such a concern would be amplified if a major nuclear accident results in the </a:t>
            </a: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exposure of large population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0" y="659772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10E7-3329-420A-8E92-5C19518A07E7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b0f0"/>
                </a:solidFill>
                <a:latin typeface="Trebuchet MS"/>
              </a:rPr>
              <a:t>Tissue reactions and non-cancer effects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684360" y="1628640"/>
            <a:ext cx="8351640" cy="2531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Continued scientific developments on health effects of ionizing radiation are important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We understand ICRP interest in re-examining deterministic effects (tissue reactions and non-cancer effects)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0" y="659772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9B36-9348-411B-8572-0E932DDB0C0E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b0f0"/>
                </a:solidFill>
                <a:latin typeface="Trebuchet MS"/>
              </a:rPr>
              <a:t>Tissue reactions and non-cancer effects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684360" y="1628640"/>
            <a:ext cx="8351640" cy="3308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In seeking such refinements in protection, we invite ICRP to pay increased attention to the fact that the matter is not just about protection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We emphasize that a continued balance must be struck between beneficial activities which cause exposures, and protection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0" y="659772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7BC0-EFD7-4F5C-97E8-EF033B5EA51D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b0f0"/>
                </a:solidFill>
                <a:latin typeface="Trebuchet MS"/>
              </a:rPr>
              <a:t>In summary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39640" y="1628640"/>
            <a:ext cx="8352000" cy="39639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On </a:t>
            </a: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RP for emergency/post-emergency</a:t>
            </a: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, RP upgrades are getting deployed at plants (top priority for both industry and regulators)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Post-Fukushima, international policies &amp; standards will need improvements later on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Industry input will be key and we are prepared to fulfil this key role gradually over time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0" y="659772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9854-0EB3-4B1F-BA68-2FEFDC78A6FD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b0f0"/>
                </a:solidFill>
                <a:latin typeface="Trebuchet MS"/>
              </a:rPr>
              <a:t>In summary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539640" y="1558800"/>
            <a:ext cx="8352000" cy="2455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On </a:t>
            </a: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RP refinements</a:t>
            </a: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 (e.g. tissue reactions and non-cancer effects) 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We emphasize that a continued balance must be struck between beneficial activities which cause exposures, and protection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0" y="659772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68A2-CF7B-4FA6-80EC-87484CB2A9EF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83FB-69B0-43DF-8453-B6C4DC57F504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500040" y="2060640"/>
            <a:ext cx="8643960" cy="703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rebuchet MS"/>
              </a:rPr>
              <a:t>Thank you for your attention</a:t>
            </a:r>
            <a:endParaRPr b="0" lang="en-US" sz="4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1523880" y="3213000"/>
            <a:ext cx="607248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b0f0"/>
                </a:solidFill>
                <a:latin typeface="Humanst521 BT"/>
                <a:ea typeface="Arial"/>
              </a:rPr>
              <a:t>Questions?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  <a:p>
            <a:pPr lvl="1" marL="1904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904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Humanst521 BT"/>
                <a:ea typeface="Arial"/>
              </a:rPr>
              <a:t>saintpierre@world-nuclear.org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2195640" y="4581360"/>
            <a:ext cx="460836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b0f0"/>
                </a:solidFill>
                <a:latin typeface="Trebuchet MS"/>
              </a:rPr>
              <a:t>Sylvain Saint-Pierr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b0f0"/>
                </a:solidFill>
                <a:latin typeface="Trebuchet MS"/>
              </a:rPr>
              <a:t>Director, WNA Outreach Initiative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b0f0"/>
                </a:solidFill>
                <a:latin typeface="Trebuchet MS"/>
              </a:rPr>
              <a:t>Director for Environment and Radiological Protection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b0f0"/>
                </a:solidFill>
                <a:latin typeface="Trebuchet MS"/>
              </a:rPr>
              <a:t>World Nuclear Association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BD24-D102-4679-9E5B-CA58B1C48B99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468360" y="1700280"/>
            <a:ext cx="8643960" cy="17838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b0f0"/>
                </a:solidFill>
                <a:latin typeface="Trebuchet MS"/>
              </a:rPr>
              <a:t>RP for Emergency and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b0f0"/>
                </a:solidFill>
                <a:latin typeface="Trebuchet MS"/>
              </a:rPr>
              <a:t>Post-Emergency Exposures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b0f0"/>
                </a:solidFill>
                <a:latin typeface="Trebuchet MS"/>
              </a:rPr>
              <a:t>RP for emergency/post-emergency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468360" y="1704960"/>
            <a:ext cx="8675640" cy="2379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Post-Fukushima has set a new context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A severe nuclear accident is possible and it can involve much more than a simple evacuation that last 24-48 hours with people safely returning to their homes shortly afterward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0" y="659772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F4F0-0FB2-4405-B5B3-8E72990A49B7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b0f0"/>
                </a:solidFill>
                <a:latin typeface="Trebuchet MS"/>
              </a:rPr>
              <a:t>RP for emergency/post-emergency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468360" y="1704960"/>
            <a:ext cx="8675640" cy="4452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First priority (measures for plants):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Industry/regulators are reviewing/upgrading measures for plants against 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Trebuchet MS"/>
                <a:ea typeface="Arial"/>
              </a:rPr>
              <a:t>severe</a:t>
            </a: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 accident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Example of topics: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rebuchet MS"/>
                <a:ea typeface="Arial"/>
              </a:rPr>
              <a:t>Source terms and impacts, evacuation, sheltering, protective and monitoring equipment, etc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National agendas are the 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Trebuchet MS"/>
                <a:ea typeface="Arial"/>
              </a:rPr>
              <a:t>top priority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0" y="659772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7EAC-7D9A-4DB3-B226-CD0DD4808966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0"/>
          <p:cNvSpPr/>
          <p:nvPr/>
        </p:nvSpPr>
        <p:spPr>
          <a:xfrm>
            <a:off x="500040" y="1844640"/>
            <a:ext cx="8643960" cy="461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642960" y="1695600"/>
            <a:ext cx="8459640" cy="5060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First priority (measures for plants):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Intervention for 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Trebuchet MS"/>
                <a:ea typeface="Arial"/>
              </a:rPr>
              <a:t>severe</a:t>
            </a: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 accident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Ensure capacity for </a:t>
            </a: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on-site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2" marL="800280" indent="-343080">
              <a:lnSpc>
                <a:spcPct val="100000"/>
              </a:lnSpc>
              <a:spcBef>
                <a:spcPts val="1199"/>
              </a:spcBef>
              <a:buClr>
                <a:srgbClr val="00b0f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b0f0"/>
                </a:solidFill>
                <a:latin typeface="Trebuchet MS"/>
                <a:ea typeface="Arial"/>
              </a:rPr>
              <a:t>Upgrade immediate readines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2" marL="800280" indent="-3430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rebuchet MS"/>
                <a:ea typeface="Arial"/>
              </a:rPr>
              <a:t>Study/redefine/upgrade preparedness and respons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Ensure capacity </a:t>
            </a: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off-site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rebuchet MS"/>
                <a:ea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Trebuchet MS"/>
                <a:ea typeface="Arial"/>
              </a:rPr>
              <a:t>-</a:t>
            </a:r>
            <a:r>
              <a:rPr b="1" lang="en-GB" sz="1800" spc="-1" strike="noStrike">
                <a:solidFill>
                  <a:srgbClr val="ffff00"/>
                </a:solidFill>
                <a:latin typeface="Trebuchet MS"/>
                <a:ea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Trebuchet MS"/>
                <a:ea typeface="Arial"/>
              </a:rPr>
              <a:t>Study/redefine/upgrade preparedness and respons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9D34-4059-4851-9B34-2C3EC7C41DA7}" type="slidenum">
              <a:rPr b="0" lang="en-GB" sz="10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b0f0"/>
                </a:solidFill>
                <a:latin typeface="Trebuchet MS"/>
              </a:rPr>
              <a:t>RP for emergency/post-emergency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292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b0f0"/>
                </a:solidFill>
                <a:latin typeface="Trebuchet MS"/>
              </a:rPr>
              <a:t>RP for emergency/post-emergency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395280" y="1557360"/>
            <a:ext cx="8640720" cy="4406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A subsequent priority (policies &amp; standards):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ICRP new policies have been ‘</a:t>
            </a: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the only show in town</a:t>
            </a: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’ in terms of some genuine evolution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rebuchet MS"/>
                <a:ea typeface="Arial"/>
              </a:rPr>
              <a:t>No matter how genuine, these policies are tutorial in style and they have not been ‘road tested’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rebuchet MS"/>
                <a:ea typeface="Arial"/>
              </a:rPr>
              <a:t>Moreover, they have been incorporated within the recent revision of the IAEA BSS (March 2011)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rebuchet MS"/>
                <a:ea typeface="Arial"/>
              </a:rPr>
              <a:t>One of the industry regrets is not to have flagged earlier this insufficiency of the IAEA BSS revisio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0" y="659772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5FEB-3771-4FB3-AA72-A6EDC829E609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7640" y="2491920"/>
            <a:ext cx="9180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</a:rPr>
              <a:t>“</a:t>
            </a:r>
            <a:r>
              <a:rPr b="1" i="1" lang="en-GB" sz="2800" spc="-1" strike="noStrike">
                <a:solidFill>
                  <a:srgbClr val="ffff00"/>
                </a:solidFill>
                <a:latin typeface="Trebuchet MS"/>
              </a:rPr>
              <a:t>Refocusing RP on real safety gains</a:t>
            </a:r>
            <a:endParaRPr b="1" lang="en-US" sz="2800" spc="-1" strike="noStrike">
              <a:solidFill>
                <a:srgbClr val="ffff00"/>
              </a:solidFill>
              <a:latin typeface="Trebuchet MS"/>
            </a:endParaRPr>
          </a:p>
          <a:p>
            <a:pPr marL="623880" indent="-351000">
              <a:spcBef>
                <a:spcPts val="1199"/>
              </a:spcBef>
              <a:buClr>
                <a:srgbClr val="00b0f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b0f0"/>
                </a:solidFill>
                <a:latin typeface="Trebuchet MS"/>
              </a:rPr>
              <a:t>RP for workers</a:t>
            </a:r>
            <a:r>
              <a:rPr b="1" i="1" lang="en-GB" sz="2400" spc="-1" strike="noStrike">
                <a:solidFill>
                  <a:srgbClr val="ffff00"/>
                </a:solidFill>
                <a:latin typeface="Trebuchet MS"/>
              </a:rPr>
              <a:t>, especially the most exposed</a:t>
            </a:r>
            <a:endParaRPr b="1" lang="en-US" sz="2400" spc="-1" strike="noStrike">
              <a:solidFill>
                <a:srgbClr val="ffff00"/>
              </a:solidFill>
              <a:latin typeface="Trebuchet MS"/>
            </a:endParaRPr>
          </a:p>
          <a:p>
            <a:pPr marL="62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i="1" lang="en-GB" sz="1800" spc="-1" strike="noStrike">
                <a:solidFill>
                  <a:srgbClr val="ffff00"/>
                </a:solidFill>
                <a:latin typeface="Trebuchet MS"/>
              </a:rPr>
              <a:t>– </a:t>
            </a:r>
            <a:r>
              <a:rPr b="1" i="1" lang="en-GB" sz="1800" spc="-1" strike="noStrike">
                <a:solidFill>
                  <a:srgbClr val="ffff00"/>
                </a:solidFill>
                <a:latin typeface="Trebuchet MS"/>
              </a:rPr>
              <a:t>Typically addressed via RP measures</a:t>
            </a:r>
            <a:endParaRPr b="1" lang="en-US" sz="1800" spc="-1" strike="noStrike">
              <a:solidFill>
                <a:srgbClr val="ffff00"/>
              </a:solidFill>
              <a:latin typeface="Trebuchet MS"/>
            </a:endParaRPr>
          </a:p>
          <a:p>
            <a:pPr marL="623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Trebuchet MS"/>
              </a:rPr>
              <a:t>2)</a:t>
            </a:r>
            <a:r>
              <a:rPr b="1" i="1" lang="en-GB" sz="20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i="1" lang="en-GB" sz="2400" spc="-1" strike="noStrike">
                <a:solidFill>
                  <a:srgbClr val="ffff00"/>
                </a:solidFill>
                <a:latin typeface="Trebuchet MS"/>
              </a:rPr>
              <a:t>Risk of public exposures from </a:t>
            </a:r>
            <a:r>
              <a:rPr b="1" i="1" lang="en-GB" sz="2400" spc="-1" strike="noStrike">
                <a:solidFill>
                  <a:srgbClr val="00b0f0"/>
                </a:solidFill>
                <a:latin typeface="Trebuchet MS"/>
              </a:rPr>
              <a:t>major accidental releases</a:t>
            </a:r>
            <a:endParaRPr b="1" lang="en-US" sz="2400" spc="-1" strike="noStrike">
              <a:solidFill>
                <a:srgbClr val="ffff00"/>
              </a:solidFill>
              <a:latin typeface="Trebuchet MS"/>
            </a:endParaRPr>
          </a:p>
          <a:p>
            <a:pPr marL="62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i="1" lang="en-GB" sz="1800" spc="-1" strike="noStrike">
                <a:solidFill>
                  <a:srgbClr val="ffff00"/>
                </a:solidFill>
                <a:latin typeface="Trebuchet MS"/>
              </a:rPr>
              <a:t>– </a:t>
            </a:r>
            <a:r>
              <a:rPr b="1" i="1" lang="en-GB" sz="1800" spc="-1" strike="noStrike">
                <a:solidFill>
                  <a:srgbClr val="ffff00"/>
                </a:solidFill>
                <a:latin typeface="Trebuchet MS"/>
              </a:rPr>
              <a:t>Typically addressed via nuclear safety measures (against core melt down and loss of containment) and emergency preparedness and response</a:t>
            </a:r>
            <a:endParaRPr b="1" lang="en-US" sz="18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B087-9FBE-4E75-ADC0-9154303493CA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57420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b0f0"/>
                </a:solidFill>
                <a:latin typeface="Trebuchet MS"/>
              </a:rPr>
              <a:t>Re-centring RP on where it counts the most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468360" y="1484280"/>
            <a:ext cx="878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f0"/>
                </a:solidFill>
                <a:latin typeface="Trebuchet MS"/>
              </a:rPr>
              <a:t>WNA report to IAEA RASSC (</a:t>
            </a:r>
            <a:r>
              <a:rPr b="1" lang="en-GB" sz="2800" spc="-1" strike="noStrike" u="sng">
                <a:solidFill>
                  <a:srgbClr val="00b0f0"/>
                </a:solidFill>
                <a:uFillTx/>
                <a:latin typeface="Trebuchet MS"/>
              </a:rPr>
              <a:t>June 2010</a:t>
            </a:r>
            <a:r>
              <a:rPr b="1" lang="en-GB" sz="2800" spc="-1" strike="noStrike">
                <a:solidFill>
                  <a:srgbClr val="00b0f0"/>
                </a:solidFill>
                <a:latin typeface="Trebuchet MS"/>
              </a:rPr>
              <a:t>) contextual to the BSS revision (int’l RP policies):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2920" y="15192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b0f0"/>
                </a:solidFill>
                <a:latin typeface="Trebuchet MS"/>
              </a:rPr>
              <a:t>RP for emergency/post-emergency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395280" y="1557360"/>
            <a:ext cx="8640720" cy="5198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A subsequent priority (policies &amp; standards):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As for the up-scaled RP measures that are currently deployed at plants against severe events, </a:t>
            </a:r>
            <a:r>
              <a:rPr b="1" lang="en-GB" sz="2800" spc="-1" strike="noStrike">
                <a:solidFill>
                  <a:srgbClr val="00b0f0"/>
                </a:solidFill>
                <a:latin typeface="Trebuchet MS"/>
                <a:ea typeface="Arial"/>
              </a:rPr>
              <a:t>the review/revision of international RP policies and standards also needs to assume that severe nuclear accidents are possible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rebuchet MS"/>
                <a:ea typeface="Arial"/>
              </a:rPr>
              <a:t>There are signs in current RP policies and standards that this needs to be better factor in 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0" y="6597720"/>
            <a:ext cx="190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05EC-E148-4706-B5FE-D13786E37ADF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15:37:32Z</dcterms:created>
  <dc:creator>Amit Chakrabarti</dc:creator>
  <dc:description/>
  <dc:language>en-US</dc:language>
  <cp:lastModifiedBy>Sylvain</cp:lastModifiedBy>
  <cp:lastPrinted>2012-02-03T15:45:13Z</cp:lastPrinted>
  <dcterms:modified xsi:type="dcterms:W3CDTF">2012-02-06T08:10:48Z</dcterms:modified>
  <cp:revision>655</cp:revision>
  <dc:subject/>
  <dc:title>Pick a title, any title will do…</dc:title>
</cp:coreProperties>
</file>