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E6CA8-FC8D-4C24-8F9A-A521E165EA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0FDEB-5469-4470-896B-CD7DD191E8F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2F79FC-8920-4A0E-AB73-A04FC993F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133175-7F88-46D7-B40E-7D907DDD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BBD1F8-D5AC-492A-8C98-08EC80E95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BD198B-73C8-4ECE-A3F3-3653C675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2D67FF-0E19-4A54-A215-A6090414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9F8705-A971-40A2-9BB8-01369318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22F701-46E9-41C5-A1FF-D2FE1B1CB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C14330-474A-473A-B184-41A385F36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391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1920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763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391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1920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56B9A2-0EA4-42C5-A431-3508ECAEB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B1F994-F1EA-48DF-BA8D-CF702C986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46E68-3250-46B8-90B6-A2BCF3FE1BD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6DDFC8-4DDE-4AAC-86E2-4E3F43657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A05D1D-CC11-4960-9927-BCA3784A5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735660-E4D9-4DDB-AAE4-D8BA8275D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45248F-9A83-4855-8BDD-C8A4C4E17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9656F8-A2EC-4EF1-8FB9-A7A18E01D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5EA984-4157-4DAF-9B37-BE6F0838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BBBC97-12D9-4648-874E-1F54F3D1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1D34F0-1A67-4F6A-B299-B46E53D1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8A9D9E-5584-4A59-B235-4B36EB539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D83260-DB22-4C22-BED2-565EDC775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1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20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3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1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20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DC2E8-3FBD-407E-9FDE-295C9A6A344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391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1920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763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391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1920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003770-C070-486D-85BA-94DFBF35C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0A7EBB-45D4-4697-81A6-A6848069E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27BF6B-23CC-4A54-AEA4-59A6910A8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9EBFD7-8C93-4CB2-A2DF-EC56FC2A6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2AD260-F9EA-4EDC-BBBE-CC0791CEA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6B18CD-1CBA-4D33-9B3E-715B0C58B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962F5A-6792-4ECF-A597-03B678544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D4B46D-33DB-453D-BBE7-78BECAD6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379A3D-916B-46E2-ACE6-836CB6FE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F82090-B2B7-4541-B140-20100316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43CE-6E8B-4252-93A6-5AAA2D5C6806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330AFA-9476-4B23-AD0D-72A0B5555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861B3E-1AE1-459C-842B-968782EBA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391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1920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763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391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1920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359E5F-1115-4039-BD51-D19CEC939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B7F98C-97A0-4585-A22D-0CD1386BA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B7DBA5-93C2-4ECE-B2C0-4D3CE8AF6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69BA21-4EE5-4195-8A68-8D06E19A6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CCDB8F-D875-478D-B712-E0F926782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5456B3-D027-4ADC-99E3-9CD45B4A5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66B2D9-C9BB-4348-BF79-B0D4ADD0B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80B553-1A4A-440D-9C3F-4AD5A868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CD85-F820-41A2-A51A-E819280E4F9F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335C21-26C3-4852-AB34-3A0155E8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2D2512-B71E-44C5-B54E-888BE498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FD4F85-838A-4007-A669-577A85140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1C3ABE-9541-49AF-B478-1E226CDCC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91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1920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763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91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1920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66876A-E684-4842-9500-B7BF3CEA3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63A02E-9037-4411-858E-B156E5E6FFBC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69201E-4FB3-4955-A3D3-A7FFDEE56F6B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3403A0-ED35-485C-B298-30E7521C35CB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282DB7-E25A-4163-8DDC-781D99C8A1A9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F1CF87-8F5F-4FF9-9AE8-5D70E06C3E3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5264-0347-478D-A3D5-271B25180D8D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DB8CB3-0C49-43A6-BC6B-4A91077495E2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23DED1-52A7-4C02-8FEE-C8F013721F88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D1BEE1-BEB9-46EB-9998-E9FF6C9CA1B4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9A9BF7-1835-4D8F-B923-EDF1A92B6D57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A2BFC7-D465-40A9-B6A7-B9DEAB49BA6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C4FACA-3761-4E49-92EA-B7691DD04B1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391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01920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763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391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01920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4599D9-6A49-425A-9A09-3A2D700E7D4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2A87-A3F4-4070-A760-3EC21AC177D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F89E-8495-4E9A-AEE7-C53D09FA03C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FE8D-5E6E-4987-B388-0462F390B4A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3AA7-BAF3-4F70-835F-3174A81147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7FB3F-922D-44A4-BB9D-734DF70CE5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7C12-36E0-44C8-BC07-5C1F97129E0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330A-DC13-40BC-877B-6DA7436FEA8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DB67-3CE7-4C69-93E4-9B5E98B993D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47D9-D589-462E-8A45-F6E1D1A4C89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91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920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3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91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920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D97B-166B-4BED-AADD-9685906FF71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7C224-0C23-4046-932E-5C0C878E1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C1252-8218-4610-942D-213CEC360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27611-0133-4C27-A531-A3C4D562F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F2EB8-D2BD-447C-A88D-8C89BF918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6C6B7-5F0C-4823-88FA-59595813E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2204B-D31F-483B-AB82-9AB076F7945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696EB-474C-4411-9DA0-680EAD125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FB158-0954-44C4-A3D0-A450D361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70719-1B6F-4F05-8614-8696866D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57207-A692-4C07-BCDB-6D91BDBD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14DD0-5B46-43F4-A510-2703DC8CD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7A503-DD85-43C8-93EA-7F56AF0CC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91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1920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763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91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1920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60A72-38B5-4343-BEE1-546CC3DD5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9CC30-D80D-4D43-BF43-9CE3536A1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D4C1C-2A0D-47DD-80B1-2936A40E0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CF408-C062-4899-ABD1-23F87ACE1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4B6B2-65EA-4FC4-A899-0FB5133C405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D4F50-BFAB-46EE-91D9-E92099C8A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D2268-1281-4D14-B894-A18AB96BF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EC03D-077E-46C5-A8CE-3D32F7582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98B58-0E34-4BCD-9D7C-3ACB89D3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FDF54-1F78-46B3-A73C-F3B9F002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2DEE1-904F-4C92-8D26-7E08021E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7C38C-BB8C-475A-89A5-FA66A666E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7E416-4E27-4303-9389-6DC0FDC0E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91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1920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763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91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1920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A97B1-1252-4E16-A88E-E3BC82101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6D57C-0772-47A3-92AF-1BC3AA1B0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BFC25-1090-4D31-B275-45EC510B362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05085-B73F-4CFB-9D31-AEC85725E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A7DCF-065F-40F9-BB4D-75DE4FAB3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7F6C1-A119-47D1-B03A-6A3871361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0E1DA-EC7C-45C5-8D99-B5704BFAF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5B64F-291B-424B-979F-01FDD46B1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DAE5E-D157-4E59-AFBE-53D42B04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5B725-7FEB-4664-8D27-DB5034A3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3DECD-8471-484E-A91B-089E68DF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087C0-5004-4AE9-BEBB-2ABB0FAE3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F579E-4A88-41D3-8BBA-5F40D80C9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A9CFA-22AA-4DFD-9AF2-613952432BA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391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1920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763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391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1920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6F272-03F8-441C-9087-F58251591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E034F-E02B-4735-BAEE-C6A0368B2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FDE47-C8E8-4608-BA45-41CD37C5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461D2-E370-4A46-8443-330F9CCE5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1F4C0-9B65-4DA8-B6BF-9478AAAF1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80D0C-7EDA-4E46-84AC-D16A11365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71D78-BCDE-452C-B8AB-AD675D540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F8791-1BCC-4B5E-9552-47753553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89E71-D351-4BCA-998C-57E93562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1FAF6-FDB7-4496-A8FA-054239A2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65959-55DD-4673-A29E-53BFDA6A247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7D6EA-2537-45F1-AFF5-55452A918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687F2-DF73-4D70-80EB-96B9A524A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91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1920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763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91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1920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ED012-FBD9-496D-83E6-F129B45F0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97B17-A9CA-410F-A672-22401F79D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4D202-77DA-483B-AFE8-DE726B59A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F2671D-BA17-4F3A-A375-FDD884C60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0488E6-B30E-46A9-BD62-D105BBB5A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74670-7B9D-4517-8364-3F4D79A88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9018A-E8BC-43A0-8635-4905842E6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163674-4D70-4C66-9A0F-27150B25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3B285-7ACD-4B6D-8295-1865F28BD0D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9CE84-7B8C-444C-BC73-5FDB3A49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FD13A-8D6B-45C2-B912-CF419CFB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EB135-BF46-4371-860A-2A147AB1F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8CF13E-C132-46EB-B3BC-42AD377CC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391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1920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763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391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1920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2E985-1757-49DA-BD18-4610D1BF9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52BA8-B1DB-44E2-B9FC-71341FE38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70131-5747-4B00-B526-7491B2B63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00A4DA-0F3B-4808-A42C-6A369BB60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335B36-4BA7-4ADD-A891-41642CD4B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68FBC4-4D85-4E26-8CBF-4F965EE69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4F60D-0A3C-4D24-A9C8-D403801205D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58C17-4689-4B66-BF3A-7E4897639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880EB-C0A5-46BD-9424-9F80188F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0B7582-C4B0-403F-B162-640DD62A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E3A7D-EEF9-4504-9D4E-7B510143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763560" y="3863880"/>
            <a:ext cx="77724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2E820A-B30E-48CC-8992-EE6F7D3BB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46240" y="126792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76356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746240" y="3863880"/>
            <a:ext cx="379260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592A1C-C4FA-4F2F-B310-530F0362A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9156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19200" y="126792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763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9156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19200" y="3863880"/>
            <a:ext cx="2502360" cy="2370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4B748-8A12-4D0B-A34B-9BAA196DC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49510A-2A2E-44B5-BBB8-54901EDA7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F9CCC2-A9F0-4CA7-8503-D928CBFE3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2AAFF-45D3-47BF-A4C8-8FFAD6FE1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marL="28728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7456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6364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15092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059280" y="6453000"/>
            <a:ext cx="30067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4c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4c98"/>
                </a:solidFill>
                <a:latin typeface="Times New Roman"/>
              </a:rPr>
              <a:t> </a:t>
            </a:r>
            <a:r>
              <a:rPr b="0" lang="en-GB" sz="900" spc="-1" strike="noStrike">
                <a:solidFill>
                  <a:srgbClr val="004c98"/>
                </a:solidFill>
                <a:latin typeface="Times New Roman"/>
              </a:rPr>
              <a:t>NERIS – ICRP, Bratislava, 6-8 February 2012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172360" y="6453000"/>
            <a:ext cx="4003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4c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40DAE-C367-4FDA-A3A7-7ED4C4511EC9}" type="slidenum">
              <a:rPr b="0" lang="fi-FI" sz="900" spc="-1" strike="noStrike">
                <a:solidFill>
                  <a:srgbClr val="004c98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0"/>
          <p:cNvSpPr/>
          <p:nvPr/>
        </p:nvSpPr>
        <p:spPr>
          <a:xfrm>
            <a:off x="0" y="990720"/>
            <a:ext cx="9144000" cy="206280"/>
          </a:xfrm>
          <a:prstGeom prst="rect">
            <a:avLst/>
          </a:prstGeom>
          <a:solidFill>
            <a:srgbClr val="348c77"/>
          </a:solidFill>
          <a:ln w="19080">
            <a:solidFill>
              <a:srgbClr val="348c77"/>
            </a:solidFill>
            <a:miter/>
          </a:ln>
          <a:effectLst>
            <a:outerShdw dist="1260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Image 4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2286000" cy="55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10"/>
          <p:cNvSpPr/>
          <p:nvPr/>
        </p:nvSpPr>
        <p:spPr>
          <a:xfrm>
            <a:off x="0" y="990720"/>
            <a:ext cx="9144000" cy="206280"/>
          </a:xfrm>
          <a:prstGeom prst="rect">
            <a:avLst/>
          </a:prstGeom>
          <a:solidFill>
            <a:srgbClr val="348c77"/>
          </a:solidFill>
          <a:ln w="19080">
            <a:solidFill>
              <a:srgbClr val="348c77"/>
            </a:solidFill>
            <a:miter/>
          </a:ln>
          <a:effectLst>
            <a:outerShdw dist="1260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8" name="Image 4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2286000" cy="5508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body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marL="28728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7456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6364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15092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dt" idx="26"/>
          </p:nvPr>
        </p:nvSpPr>
        <p:spPr>
          <a:xfrm>
            <a:off x="3619080" y="6584760"/>
            <a:ext cx="75564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sldNum" idx="27"/>
          </p:nvPr>
        </p:nvSpPr>
        <p:spPr>
          <a:xfrm>
            <a:off x="8172360" y="6453000"/>
            <a:ext cx="4003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4c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50C90-A3BA-4DFD-96F9-AB4B58E4E45D}" type="slidenum">
              <a:rPr b="0" lang="fi-FI" sz="900" spc="-1" strike="noStrike">
                <a:solidFill>
                  <a:srgbClr val="004c98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8"/>
          </p:nvPr>
        </p:nvSpPr>
        <p:spPr>
          <a:xfrm>
            <a:off x="3059280" y="6453000"/>
            <a:ext cx="30067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4c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4c98"/>
                </a:solidFill>
                <a:latin typeface="Times New Roman"/>
              </a:rPr>
              <a:t> </a:t>
            </a:r>
            <a:r>
              <a:rPr b="0" lang="fi-FI" sz="900" spc="-1" strike="noStrike">
                <a:solidFill>
                  <a:srgbClr val="004c98"/>
                </a:solidFill>
                <a:latin typeface="Times New Roman"/>
              </a:rPr>
              <a:t>NERIS – ICRP, Bratislava, 6-8 February 2012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10"/>
          <p:cNvSpPr/>
          <p:nvPr/>
        </p:nvSpPr>
        <p:spPr>
          <a:xfrm>
            <a:off x="0" y="990720"/>
            <a:ext cx="9144000" cy="206280"/>
          </a:xfrm>
          <a:prstGeom prst="rect">
            <a:avLst/>
          </a:prstGeom>
          <a:solidFill>
            <a:srgbClr val="348c77"/>
          </a:solidFill>
          <a:ln w="19080">
            <a:solidFill>
              <a:srgbClr val="348c77"/>
            </a:solidFill>
            <a:miter/>
          </a:ln>
          <a:effectLst>
            <a:outerShdw dist="1260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0" name="Image 4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2286000" cy="5508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marL="28728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7456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6364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15092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dt" idx="29"/>
          </p:nvPr>
        </p:nvSpPr>
        <p:spPr>
          <a:xfrm>
            <a:off x="3619080" y="6584760"/>
            <a:ext cx="75564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sldNum" idx="30"/>
          </p:nvPr>
        </p:nvSpPr>
        <p:spPr>
          <a:xfrm>
            <a:off x="8172360" y="6453000"/>
            <a:ext cx="4003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4c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9E005-6050-4FDC-B4DC-CA777A2481C9}" type="slidenum">
              <a:rPr b="0" lang="fi-FI" sz="900" spc="-1" strike="noStrike">
                <a:solidFill>
                  <a:srgbClr val="004c98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1"/>
          </p:nvPr>
        </p:nvSpPr>
        <p:spPr>
          <a:xfrm>
            <a:off x="3059280" y="6453000"/>
            <a:ext cx="30067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4c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4c98"/>
                </a:solidFill>
                <a:latin typeface="Times New Roman"/>
              </a:rPr>
              <a:t> </a:t>
            </a:r>
            <a:r>
              <a:rPr b="0" lang="fi-FI" sz="900" spc="-1" strike="noStrike">
                <a:solidFill>
                  <a:srgbClr val="004c98"/>
                </a:solidFill>
                <a:latin typeface="Times New Roman"/>
              </a:rPr>
              <a:t>NERIS – ICRP, Bratislava, 6-8 February 2012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10"/>
          <p:cNvSpPr/>
          <p:nvPr/>
        </p:nvSpPr>
        <p:spPr>
          <a:xfrm>
            <a:off x="0" y="990720"/>
            <a:ext cx="9144000" cy="206280"/>
          </a:xfrm>
          <a:prstGeom prst="rect">
            <a:avLst/>
          </a:prstGeom>
          <a:solidFill>
            <a:srgbClr val="348c77"/>
          </a:solidFill>
          <a:ln w="19080">
            <a:solidFill>
              <a:srgbClr val="348c77"/>
            </a:solidFill>
            <a:miter/>
          </a:ln>
          <a:effectLst>
            <a:outerShdw dist="1260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2" name="Image 4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2286000" cy="5508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marL="28728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7456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6364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15092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dt" idx="32"/>
          </p:nvPr>
        </p:nvSpPr>
        <p:spPr>
          <a:xfrm>
            <a:off x="3619080" y="6584760"/>
            <a:ext cx="75564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sldNum" idx="33"/>
          </p:nvPr>
        </p:nvSpPr>
        <p:spPr>
          <a:xfrm>
            <a:off x="8172360" y="6453000"/>
            <a:ext cx="4003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4c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B3726-8801-40EB-AB3B-2931A2FC6AB6}" type="slidenum">
              <a:rPr b="0" lang="fi-FI" sz="900" spc="-1" strike="noStrike">
                <a:solidFill>
                  <a:srgbClr val="004c98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4"/>
          </p:nvPr>
        </p:nvSpPr>
        <p:spPr>
          <a:xfrm>
            <a:off x="3059280" y="6453000"/>
            <a:ext cx="30067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4c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4c98"/>
                </a:solidFill>
                <a:latin typeface="Times New Roman"/>
              </a:rPr>
              <a:t> </a:t>
            </a:r>
            <a:r>
              <a:rPr b="0" lang="fi-FI" sz="900" spc="-1" strike="noStrike">
                <a:solidFill>
                  <a:srgbClr val="004c98"/>
                </a:solidFill>
                <a:latin typeface="Times New Roman"/>
              </a:rPr>
              <a:t>NERIS – ICRP, Bratislava, 6-8 February 2012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10"/>
          <p:cNvSpPr/>
          <p:nvPr/>
        </p:nvSpPr>
        <p:spPr>
          <a:xfrm>
            <a:off x="0" y="990720"/>
            <a:ext cx="9144000" cy="206280"/>
          </a:xfrm>
          <a:prstGeom prst="rect">
            <a:avLst/>
          </a:prstGeom>
          <a:solidFill>
            <a:srgbClr val="348c77"/>
          </a:solidFill>
          <a:ln w="19080">
            <a:solidFill>
              <a:srgbClr val="348c77"/>
            </a:solidFill>
            <a:miter/>
          </a:ln>
          <a:effectLst>
            <a:outerShdw dist="1260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4" name="Image 4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2286000" cy="55080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body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marL="28728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7456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6364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15092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ftr" idx="35"/>
          </p:nvPr>
        </p:nvSpPr>
        <p:spPr>
          <a:xfrm>
            <a:off x="3059280" y="6453000"/>
            <a:ext cx="30067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4c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4c98"/>
                </a:solidFill>
                <a:latin typeface="Times New Roman"/>
              </a:rPr>
              <a:t> </a:t>
            </a:r>
            <a:r>
              <a:rPr b="0" lang="en-GB" sz="900" spc="-1" strike="noStrike">
                <a:solidFill>
                  <a:srgbClr val="004c98"/>
                </a:solidFill>
                <a:latin typeface="Times New Roman"/>
              </a:rPr>
              <a:t>NERIS – ICRP, Bratislava, 6-8 February 2012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Num" idx="36"/>
          </p:nvPr>
        </p:nvSpPr>
        <p:spPr>
          <a:xfrm>
            <a:off x="8100720" y="6453000"/>
            <a:ext cx="3985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4c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66662-8A85-46F9-83A4-C6167B4EBF1B}" type="slidenum">
              <a:rPr b="0" lang="fi-FI" sz="900" spc="-1" strike="noStrike">
                <a:solidFill>
                  <a:srgbClr val="004c98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"/>
          <p:cNvSpPr/>
          <p:nvPr/>
        </p:nvSpPr>
        <p:spPr>
          <a:xfrm>
            <a:off x="0" y="990720"/>
            <a:ext cx="9144000" cy="206280"/>
          </a:xfrm>
          <a:prstGeom prst="rect">
            <a:avLst/>
          </a:prstGeom>
          <a:solidFill>
            <a:srgbClr val="348c77"/>
          </a:solidFill>
          <a:ln w="19080">
            <a:solidFill>
              <a:srgbClr val="348c77"/>
            </a:solidFill>
            <a:miter/>
          </a:ln>
          <a:effectLst>
            <a:outerShdw dist="1260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Image 4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2286000" cy="550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marL="28728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7456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6364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15092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3"/>
          </p:nvPr>
        </p:nvSpPr>
        <p:spPr>
          <a:xfrm>
            <a:off x="8172360" y="6453000"/>
            <a:ext cx="4003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4c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9BFFB-E534-4E45-AB91-393B2A77F627}" type="slidenum">
              <a:rPr b="0" lang="fi-FI" sz="900" spc="-1" strike="noStrike">
                <a:solidFill>
                  <a:srgbClr val="004c98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3059280" y="6453000"/>
            <a:ext cx="30067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4c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4c98"/>
                </a:solidFill>
                <a:latin typeface="Times New Roman"/>
              </a:rPr>
              <a:t>NERIS – ICRP, Bratislava, 6-8 February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0"/>
          <p:cNvSpPr/>
          <p:nvPr/>
        </p:nvSpPr>
        <p:spPr>
          <a:xfrm>
            <a:off x="0" y="990720"/>
            <a:ext cx="9144000" cy="206280"/>
          </a:xfrm>
          <a:prstGeom prst="rect">
            <a:avLst/>
          </a:prstGeom>
          <a:solidFill>
            <a:srgbClr val="348c77"/>
          </a:solidFill>
          <a:ln w="19080">
            <a:solidFill>
              <a:srgbClr val="348c77"/>
            </a:solidFill>
            <a:miter/>
          </a:ln>
          <a:effectLst>
            <a:outerShdw dist="1260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Image 4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2286000" cy="550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marL="28728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7456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6364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15092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5"/>
          </p:nvPr>
        </p:nvSpPr>
        <p:spPr>
          <a:xfrm>
            <a:off x="3619080" y="6584760"/>
            <a:ext cx="75564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8172360" y="6453000"/>
            <a:ext cx="4003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4c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BFD99-25B2-4A48-8C18-943CE4A6C8F5}" type="slidenum">
              <a:rPr b="0" lang="fi-FI" sz="900" spc="-1" strike="noStrike">
                <a:solidFill>
                  <a:srgbClr val="004c98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7"/>
          </p:nvPr>
        </p:nvSpPr>
        <p:spPr>
          <a:xfrm>
            <a:off x="3059280" y="6453000"/>
            <a:ext cx="30067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4c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4c98"/>
                </a:solidFill>
                <a:latin typeface="Times New Roman"/>
              </a:rPr>
              <a:t> </a:t>
            </a:r>
            <a:r>
              <a:rPr b="0" lang="fi-FI" sz="900" spc="-1" strike="noStrike">
                <a:solidFill>
                  <a:srgbClr val="004c98"/>
                </a:solidFill>
                <a:latin typeface="Times New Roman"/>
              </a:rPr>
              <a:t>NERIS – ICRP, Bratislava, 6-8 February 2012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c98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0"/>
          <p:cNvSpPr/>
          <p:nvPr/>
        </p:nvSpPr>
        <p:spPr>
          <a:xfrm>
            <a:off x="0" y="990720"/>
            <a:ext cx="9144000" cy="206280"/>
          </a:xfrm>
          <a:prstGeom prst="rect">
            <a:avLst/>
          </a:prstGeom>
          <a:solidFill>
            <a:srgbClr val="348c77"/>
          </a:solidFill>
          <a:ln w="19080">
            <a:solidFill>
              <a:srgbClr val="348c77"/>
            </a:solidFill>
            <a:miter/>
          </a:ln>
          <a:effectLst>
            <a:outerShdw dist="1260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Image 4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2286000" cy="5508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marL="28728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7456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6364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15092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8"/>
          </p:nvPr>
        </p:nvSpPr>
        <p:spPr>
          <a:xfrm>
            <a:off x="3619080" y="6584760"/>
            <a:ext cx="75564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Num" idx="9"/>
          </p:nvPr>
        </p:nvSpPr>
        <p:spPr>
          <a:xfrm>
            <a:off x="8172360" y="6453000"/>
            <a:ext cx="4003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4c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AC74D-113C-47ED-976A-1659E6D0B1C7}" type="slidenum">
              <a:rPr b="0" lang="fi-FI" sz="900" spc="-1" strike="noStrike">
                <a:solidFill>
                  <a:srgbClr val="004c98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0"/>
          </p:nvPr>
        </p:nvSpPr>
        <p:spPr>
          <a:xfrm>
            <a:off x="3059280" y="6453000"/>
            <a:ext cx="30067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4c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4c98"/>
                </a:solidFill>
                <a:latin typeface="Times New Roman"/>
              </a:rPr>
              <a:t> </a:t>
            </a:r>
            <a:r>
              <a:rPr b="0" lang="fi-FI" sz="900" spc="-1" strike="noStrike">
                <a:solidFill>
                  <a:srgbClr val="004c98"/>
                </a:solidFill>
                <a:latin typeface="Times New Roman"/>
              </a:rPr>
              <a:t>NERIS – ICRP, Bratislava, 6-8 February 2012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0"/>
          <p:cNvSpPr/>
          <p:nvPr/>
        </p:nvSpPr>
        <p:spPr>
          <a:xfrm>
            <a:off x="0" y="990720"/>
            <a:ext cx="9144000" cy="206280"/>
          </a:xfrm>
          <a:prstGeom prst="rect">
            <a:avLst/>
          </a:prstGeom>
          <a:solidFill>
            <a:srgbClr val="348c77"/>
          </a:solidFill>
          <a:ln w="19080">
            <a:solidFill>
              <a:srgbClr val="348c77"/>
            </a:solidFill>
            <a:miter/>
          </a:ln>
          <a:effectLst>
            <a:outerShdw dist="1260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Image 4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2286000" cy="5508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marL="28728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7456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6364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15092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11"/>
          </p:nvPr>
        </p:nvSpPr>
        <p:spPr>
          <a:xfrm>
            <a:off x="3619080" y="6584760"/>
            <a:ext cx="75564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12"/>
          </p:nvPr>
        </p:nvSpPr>
        <p:spPr>
          <a:xfrm>
            <a:off x="8172360" y="6453000"/>
            <a:ext cx="4003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4c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4D1BF-417C-4D35-B0DB-B9087553F930}" type="slidenum">
              <a:rPr b="0" lang="fi-FI" sz="900" spc="-1" strike="noStrike">
                <a:solidFill>
                  <a:srgbClr val="004c98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3"/>
          </p:nvPr>
        </p:nvSpPr>
        <p:spPr>
          <a:xfrm>
            <a:off x="3059280" y="6453000"/>
            <a:ext cx="30067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4c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4c98"/>
                </a:solidFill>
                <a:latin typeface="Times New Roman"/>
              </a:rPr>
              <a:t> </a:t>
            </a:r>
            <a:r>
              <a:rPr b="0" lang="fi-FI" sz="900" spc="-1" strike="noStrike">
                <a:solidFill>
                  <a:srgbClr val="004c98"/>
                </a:solidFill>
                <a:latin typeface="Times New Roman"/>
              </a:rPr>
              <a:t>NERIS – ICRP, Bratislava, 6-8 February 2012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0"/>
          <p:cNvSpPr/>
          <p:nvPr/>
        </p:nvSpPr>
        <p:spPr>
          <a:xfrm>
            <a:off x="0" y="990720"/>
            <a:ext cx="9144000" cy="206280"/>
          </a:xfrm>
          <a:prstGeom prst="rect">
            <a:avLst/>
          </a:prstGeom>
          <a:solidFill>
            <a:srgbClr val="348c77"/>
          </a:solidFill>
          <a:ln w="19080">
            <a:solidFill>
              <a:srgbClr val="348c77"/>
            </a:solidFill>
            <a:miter/>
          </a:ln>
          <a:effectLst>
            <a:outerShdw dist="1260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Image 4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2286000" cy="5508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marL="28728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7456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6364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15092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14"/>
          </p:nvPr>
        </p:nvSpPr>
        <p:spPr>
          <a:xfrm>
            <a:off x="3619080" y="6584760"/>
            <a:ext cx="75564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15"/>
          </p:nvPr>
        </p:nvSpPr>
        <p:spPr>
          <a:xfrm>
            <a:off x="8172360" y="6453000"/>
            <a:ext cx="4003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4c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2E523-18D6-40C1-9B0E-3D2FACC6CAD0}" type="slidenum">
              <a:rPr b="0" lang="fi-FI" sz="900" spc="-1" strike="noStrike">
                <a:solidFill>
                  <a:srgbClr val="004c98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6"/>
          </p:nvPr>
        </p:nvSpPr>
        <p:spPr>
          <a:xfrm>
            <a:off x="3059280" y="6453000"/>
            <a:ext cx="30067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4c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4c98"/>
                </a:solidFill>
                <a:latin typeface="Times New Roman"/>
              </a:rPr>
              <a:t> </a:t>
            </a:r>
            <a:r>
              <a:rPr b="0" lang="fi-FI" sz="900" spc="-1" strike="noStrike">
                <a:solidFill>
                  <a:srgbClr val="004c98"/>
                </a:solidFill>
                <a:latin typeface="Times New Roman"/>
              </a:rPr>
              <a:t>NERIS – ICRP, Bratislava, 6-8 February 2012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0"/>
          <p:cNvSpPr/>
          <p:nvPr/>
        </p:nvSpPr>
        <p:spPr>
          <a:xfrm>
            <a:off x="0" y="990720"/>
            <a:ext cx="9144000" cy="206280"/>
          </a:xfrm>
          <a:prstGeom prst="rect">
            <a:avLst/>
          </a:prstGeom>
          <a:solidFill>
            <a:srgbClr val="348c77"/>
          </a:solidFill>
          <a:ln w="19080">
            <a:solidFill>
              <a:srgbClr val="348c77"/>
            </a:solidFill>
            <a:miter/>
          </a:ln>
          <a:effectLst>
            <a:outerShdw dist="1260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Image 4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2286000" cy="5508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body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marL="28728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7456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6364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15092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dt" idx="17"/>
          </p:nvPr>
        </p:nvSpPr>
        <p:spPr>
          <a:xfrm>
            <a:off x="3619080" y="6584760"/>
            <a:ext cx="75564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Num" idx="18"/>
          </p:nvPr>
        </p:nvSpPr>
        <p:spPr>
          <a:xfrm>
            <a:off x="8172360" y="6453000"/>
            <a:ext cx="4003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4c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D4662-5D86-4D12-9401-947DE929218E}" type="slidenum">
              <a:rPr b="0" lang="fi-FI" sz="900" spc="-1" strike="noStrike">
                <a:solidFill>
                  <a:srgbClr val="004c98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19"/>
          </p:nvPr>
        </p:nvSpPr>
        <p:spPr>
          <a:xfrm>
            <a:off x="3059280" y="6453000"/>
            <a:ext cx="30067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4c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4c98"/>
                </a:solidFill>
                <a:latin typeface="Times New Roman"/>
              </a:rPr>
              <a:t> </a:t>
            </a:r>
            <a:r>
              <a:rPr b="0" lang="fi-FI" sz="900" spc="-1" strike="noStrike">
                <a:solidFill>
                  <a:srgbClr val="004c98"/>
                </a:solidFill>
                <a:latin typeface="Times New Roman"/>
              </a:rPr>
              <a:t>NERIS – ICRP, Bratislava, 6-8 February 2012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10"/>
          <p:cNvSpPr/>
          <p:nvPr/>
        </p:nvSpPr>
        <p:spPr>
          <a:xfrm>
            <a:off x="0" y="990720"/>
            <a:ext cx="9144000" cy="206280"/>
          </a:xfrm>
          <a:prstGeom prst="rect">
            <a:avLst/>
          </a:prstGeom>
          <a:solidFill>
            <a:srgbClr val="348c77"/>
          </a:solidFill>
          <a:ln w="19080">
            <a:solidFill>
              <a:srgbClr val="348c77"/>
            </a:solidFill>
            <a:miter/>
          </a:ln>
          <a:effectLst>
            <a:outerShdw dist="1260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4" name="Image 4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2286000" cy="5508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marL="28728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7456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6364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15092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dt" idx="20"/>
          </p:nvPr>
        </p:nvSpPr>
        <p:spPr>
          <a:xfrm>
            <a:off x="3619080" y="6584760"/>
            <a:ext cx="75564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sldNum" idx="21"/>
          </p:nvPr>
        </p:nvSpPr>
        <p:spPr>
          <a:xfrm>
            <a:off x="8172360" y="6453000"/>
            <a:ext cx="4003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4c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BEB31-92F7-4375-ADE7-5DABAFA35A82}" type="slidenum">
              <a:rPr b="0" lang="fi-FI" sz="900" spc="-1" strike="noStrike">
                <a:solidFill>
                  <a:srgbClr val="004c98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2"/>
          </p:nvPr>
        </p:nvSpPr>
        <p:spPr>
          <a:xfrm>
            <a:off x="3059280" y="6453000"/>
            <a:ext cx="30067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4c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4c98"/>
                </a:solidFill>
                <a:latin typeface="Times New Roman"/>
              </a:rPr>
              <a:t> </a:t>
            </a:r>
            <a:r>
              <a:rPr b="0" lang="fi-FI" sz="900" spc="-1" strike="noStrike">
                <a:solidFill>
                  <a:srgbClr val="004c98"/>
                </a:solidFill>
                <a:latin typeface="Times New Roman"/>
              </a:rPr>
              <a:t>NERIS – ICRP, Bratislava, 6-8 February 2012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10"/>
          <p:cNvSpPr/>
          <p:nvPr/>
        </p:nvSpPr>
        <p:spPr>
          <a:xfrm>
            <a:off x="0" y="990720"/>
            <a:ext cx="9144000" cy="206280"/>
          </a:xfrm>
          <a:prstGeom prst="rect">
            <a:avLst/>
          </a:prstGeom>
          <a:solidFill>
            <a:srgbClr val="348c77"/>
          </a:solidFill>
          <a:ln w="19080">
            <a:solidFill>
              <a:srgbClr val="348c77"/>
            </a:solidFill>
            <a:miter/>
          </a:ln>
          <a:effectLst>
            <a:outerShdw dist="1260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6" name="Image 4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2286000" cy="5508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7635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marL="28728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7456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6364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15092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23"/>
          </p:nvPr>
        </p:nvSpPr>
        <p:spPr>
          <a:xfrm>
            <a:off x="3619080" y="6584760"/>
            <a:ext cx="75564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sldNum" idx="24"/>
          </p:nvPr>
        </p:nvSpPr>
        <p:spPr>
          <a:xfrm>
            <a:off x="8172360" y="6453000"/>
            <a:ext cx="4003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4c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D3FFB-8529-4C85-B696-52D1DD71ABA2}" type="slidenum">
              <a:rPr b="0" lang="fi-FI" sz="900" spc="-1" strike="noStrike">
                <a:solidFill>
                  <a:srgbClr val="004c98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5"/>
          </p:nvPr>
        </p:nvSpPr>
        <p:spPr>
          <a:xfrm>
            <a:off x="3059280" y="6453000"/>
            <a:ext cx="30067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4c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4c98"/>
                </a:solidFill>
                <a:latin typeface="Times New Roman"/>
              </a:rPr>
              <a:t> </a:t>
            </a:r>
            <a:r>
              <a:rPr b="0" lang="fi-FI" sz="900" spc="-1" strike="noStrike">
                <a:solidFill>
                  <a:srgbClr val="004c98"/>
                </a:solidFill>
                <a:latin typeface="Times New Roman"/>
              </a:rPr>
              <a:t>NERIS – ICRP, Bratislava, 6-8 February 2012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u-neris.net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4360" y="148428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1476360" y="4868640"/>
            <a:ext cx="6400800" cy="11588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aimo Mustonen, STU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RIS – ICRP Worksh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-8 February 2012, Bratislav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8172360" y="6453360"/>
            <a:ext cx="4003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745DD-B5AE-4E9D-8903-3693265107DB}" type="slidenum">
              <a:rPr b="0" lang="fi-FI" sz="900" spc="-1" strike="noStrike">
                <a:solidFill>
                  <a:srgbClr val="004c98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Footer Placeholder 4"/>
          <p:cNvSpPr/>
          <p:nvPr/>
        </p:nvSpPr>
        <p:spPr>
          <a:xfrm>
            <a:off x="3059280" y="6453360"/>
            <a:ext cx="3006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4c98"/>
                </a:solidFill>
                <a:latin typeface="Calibri"/>
              </a:rPr>
              <a:t>NERIS – ICRP, Bratislava, 6-8 February 201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Rectangle 5"/>
          <p:cNvSpPr/>
          <p:nvPr/>
        </p:nvSpPr>
        <p:spPr>
          <a:xfrm>
            <a:off x="1116000" y="1916280"/>
            <a:ext cx="705636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RIS Platfo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 attempt to enhance European response to and recovery from radiological emergenc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4c98"/>
                </a:solidFill>
                <a:uFillTx/>
                <a:latin typeface="Calibri"/>
                <a:ea typeface="ＭＳ Ｐゴシック"/>
                <a:hlinkClick r:id="rId1"/>
              </a:rPr>
              <a:t>www.eu-neris.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59086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e European Platform on Preparedness for Nuclear and Radiological Emergency Response and Recovery</a:t>
            </a:r>
            <a:br>
              <a:rPr sz="2000"/>
            </a:br>
            <a:endParaRPr b="1" lang="en-US" sz="20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8172360" y="6453360"/>
            <a:ext cx="4003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AE05B-4AB5-47A1-8957-6C23049BAFB9}" type="slidenum">
              <a:rPr b="0" lang="fi-FI" sz="900" spc="-1" strike="noStrike">
                <a:solidFill>
                  <a:srgbClr val="004c98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Footer Placeholder 4"/>
          <p:cNvSpPr/>
          <p:nvPr/>
        </p:nvSpPr>
        <p:spPr>
          <a:xfrm>
            <a:off x="3059280" y="6453360"/>
            <a:ext cx="3006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4c98"/>
                </a:solidFill>
                <a:latin typeface="Calibri"/>
              </a:rPr>
              <a:t> </a:t>
            </a:r>
            <a:r>
              <a:rPr b="0" lang="fi-FI" sz="900" spc="-1" strike="noStrike">
                <a:solidFill>
                  <a:srgbClr val="004c98"/>
                </a:solidFill>
                <a:latin typeface="Calibri"/>
              </a:rPr>
              <a:t>NERIS – ICRP, Bratislava, 6-8 February 2012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TextBox 5"/>
          <p:cNvSpPr/>
          <p:nvPr/>
        </p:nvSpPr>
        <p:spPr>
          <a:xfrm>
            <a:off x="755640" y="2349360"/>
            <a:ext cx="806436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al need and desire to maintain the collaboration momemtum gained during the EURANOS project in 2004-20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endency of the EC to aggregate R&amp;D activities in Europe under lager platforms (Technology Platform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ssion orientation of the platform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uropean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need, challenge or problem, rather than simply seek to implement a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chnology. That is to say, the focus must be on the overall innovation challenge, including its social- economic- legislative- political- implementational aspects, rather than only the technological issues” (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URAB 04.010, 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European Research Advice Board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TextBox 6"/>
          <p:cNvSpPr/>
          <p:nvPr/>
        </p:nvSpPr>
        <p:spPr>
          <a:xfrm>
            <a:off x="618840" y="1557360"/>
            <a:ext cx="26816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Why NERIS ?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Slide Number Placeholder 3"/>
          <p:cNvSpPr/>
          <p:nvPr/>
        </p:nvSpPr>
        <p:spPr>
          <a:xfrm>
            <a:off x="8172360" y="6453360"/>
            <a:ext cx="4003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147C5-CCD0-4C08-AF46-0373714A00FD}" type="slidenum">
              <a:rPr b="0" lang="fi-FI" sz="900" spc="-1" strike="noStrike">
                <a:solidFill>
                  <a:srgbClr val="004c98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Footer Placeholder 4"/>
          <p:cNvSpPr/>
          <p:nvPr/>
        </p:nvSpPr>
        <p:spPr>
          <a:xfrm>
            <a:off x="3059280" y="6453360"/>
            <a:ext cx="3006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4c98"/>
                </a:solidFill>
                <a:latin typeface="Calibri"/>
              </a:rPr>
              <a:t> </a:t>
            </a:r>
            <a:r>
              <a:rPr b="0" lang="fi-FI" sz="900" spc="-1" strike="noStrike">
                <a:solidFill>
                  <a:srgbClr val="004c98"/>
                </a:solidFill>
                <a:latin typeface="Calibri"/>
              </a:rPr>
              <a:t>NERIS – ICRP, Bratislava, 6-8 February 2012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TextBox 5"/>
          <p:cNvSpPr/>
          <p:nvPr/>
        </p:nvSpPr>
        <p:spPr>
          <a:xfrm>
            <a:off x="618840" y="1557360"/>
            <a:ext cx="26816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Why NERIS ?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TextBox 6"/>
          <p:cNvSpPr/>
          <p:nvPr/>
        </p:nvSpPr>
        <p:spPr>
          <a:xfrm>
            <a:off x="826920" y="2565360"/>
            <a:ext cx="8066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mergency management includes all these aspects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cial, economical, legislative, political and implementational, and also technologica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urope: an array of countries with various cultural backgrounds and differences in administrative culture and legisl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urope needs more coherent response to nuclear emergen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xamples: Fukushima, I-131 release in Budapest, (Chernoby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Slide Number Placeholder 3"/>
          <p:cNvSpPr/>
          <p:nvPr/>
        </p:nvSpPr>
        <p:spPr>
          <a:xfrm>
            <a:off x="8172360" y="6453360"/>
            <a:ext cx="4003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CFAB2-48EC-4DFF-9366-7D907CA3EC7C}" type="slidenum">
              <a:rPr b="0" lang="fi-FI" sz="900" spc="-1" strike="noStrike">
                <a:solidFill>
                  <a:srgbClr val="004c98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Footer Placeholder 4"/>
          <p:cNvSpPr/>
          <p:nvPr/>
        </p:nvSpPr>
        <p:spPr>
          <a:xfrm>
            <a:off x="3059280" y="6453360"/>
            <a:ext cx="3006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4c98"/>
                </a:solidFill>
                <a:latin typeface="Calibri"/>
              </a:rPr>
              <a:t> </a:t>
            </a:r>
            <a:r>
              <a:rPr b="0" lang="fi-FI" sz="900" spc="-1" strike="noStrike">
                <a:solidFill>
                  <a:srgbClr val="004c98"/>
                </a:solidFill>
                <a:latin typeface="Calibri"/>
              </a:rPr>
              <a:t>NERIS – ICRP, Bratislava, 6-8 February 2012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TextBox 5"/>
          <p:cNvSpPr/>
          <p:nvPr/>
        </p:nvSpPr>
        <p:spPr>
          <a:xfrm>
            <a:off x="681480" y="1557360"/>
            <a:ext cx="3480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Mission of NERI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TextBox 6"/>
          <p:cNvSpPr/>
          <p:nvPr/>
        </p:nvSpPr>
        <p:spPr>
          <a:xfrm>
            <a:off x="826920" y="2565360"/>
            <a:ext cx="8066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nfidence buil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ncouragement of different stakeholders to co-oper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acilitate access to expertise and technology and maintain competence for the benefit of European countries and  citize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Slide Number Placeholder 3"/>
          <p:cNvSpPr/>
          <p:nvPr/>
        </p:nvSpPr>
        <p:spPr>
          <a:xfrm>
            <a:off x="8172360" y="6453360"/>
            <a:ext cx="4003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99FF6-20E6-4392-A8ED-36D451CE7779}" type="slidenum">
              <a:rPr b="0" lang="fi-FI" sz="900" spc="-1" strike="noStrike">
                <a:solidFill>
                  <a:srgbClr val="004c98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Footer Placeholder 4"/>
          <p:cNvSpPr/>
          <p:nvPr/>
        </p:nvSpPr>
        <p:spPr>
          <a:xfrm>
            <a:off x="3059280" y="6453360"/>
            <a:ext cx="3006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4c98"/>
                </a:solidFill>
                <a:latin typeface="Calibri"/>
              </a:rPr>
              <a:t> </a:t>
            </a:r>
            <a:r>
              <a:rPr b="0" lang="fi-FI" sz="900" spc="-1" strike="noStrike">
                <a:solidFill>
                  <a:srgbClr val="004c98"/>
                </a:solidFill>
                <a:latin typeface="Calibri"/>
              </a:rPr>
              <a:t>NERIS – ICRP, Bratislava, 6-8 February 2012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TextBox 5"/>
          <p:cNvSpPr/>
          <p:nvPr/>
        </p:nvSpPr>
        <p:spPr>
          <a:xfrm>
            <a:off x="679680" y="1557360"/>
            <a:ext cx="3152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Vision of NERI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TextBox 6"/>
          <p:cNvSpPr/>
          <p:nvPr/>
        </p:nvSpPr>
        <p:spPr>
          <a:xfrm>
            <a:off x="826920" y="2565360"/>
            <a:ext cx="8066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y 2015, the self-sustaining association for development of the joint European approach in responding to and recovering from nuclear and radiological emergencies exists, 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y 2020, all European organisations being members of NERIS are sharing common views and common approaches and developing and using compatible technology and methods for consequence management of the emergen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Slide Number Placeholder 3"/>
          <p:cNvSpPr/>
          <p:nvPr/>
        </p:nvSpPr>
        <p:spPr>
          <a:xfrm>
            <a:off x="8172360" y="6453360"/>
            <a:ext cx="4003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4AAA2-C9C1-4031-A277-2DA36BE37B0F}" type="slidenum">
              <a:rPr b="0" lang="fi-FI" sz="900" spc="-1" strike="noStrike">
                <a:solidFill>
                  <a:srgbClr val="004c98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Footer Placeholder 4"/>
          <p:cNvSpPr/>
          <p:nvPr/>
        </p:nvSpPr>
        <p:spPr>
          <a:xfrm>
            <a:off x="3059280" y="6453360"/>
            <a:ext cx="3006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4c98"/>
                </a:solidFill>
                <a:latin typeface="Calibri"/>
              </a:rPr>
              <a:t> </a:t>
            </a:r>
            <a:r>
              <a:rPr b="0" lang="fi-FI" sz="900" spc="-1" strike="noStrike">
                <a:solidFill>
                  <a:srgbClr val="004c98"/>
                </a:solidFill>
                <a:latin typeface="Calibri"/>
              </a:rPr>
              <a:t>NERIS – ICRP, Bratislava, 6-8 February 2012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TextBox 5"/>
          <p:cNvSpPr/>
          <p:nvPr/>
        </p:nvSpPr>
        <p:spPr>
          <a:xfrm>
            <a:off x="695160" y="1484280"/>
            <a:ext cx="7186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Strategic Research Agenda of NERI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TextBox 6"/>
          <p:cNvSpPr/>
          <p:nvPr/>
        </p:nvSpPr>
        <p:spPr>
          <a:xfrm>
            <a:off x="826920" y="2349360"/>
            <a:ext cx="8066160" cy="38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Atmospheric &amp; aquatic modelling – Needs for improv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Key Topic 1: Atmospheric dispersion modell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Key Topic 2: Aquatic dispersion modell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Better dose assessments and decision support based on improved knowledge: source term, scenarios, etc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Key Topic 3: Improvement of existing Decision Support Syste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Key Topic 4: Data mining, information gathering and exchange including providing information to stakeholders and mass med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Key Topic 5: Usage of the existing tools in the best possible w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Stakeholder involvement and local preparedness and communication strategi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Key Topic 6. Stakeholder engagement and dialog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Key Topic 7: Social media/networking technolo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Slide Number Placeholder 3"/>
          <p:cNvSpPr/>
          <p:nvPr/>
        </p:nvSpPr>
        <p:spPr>
          <a:xfrm>
            <a:off x="8172360" y="6453360"/>
            <a:ext cx="4003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42BF0-029F-47B9-82FC-5529B541F0F3}" type="slidenum">
              <a:rPr b="0" lang="fi-FI" sz="900" spc="-1" strike="noStrike">
                <a:solidFill>
                  <a:srgbClr val="004c98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Footer Placeholder 4"/>
          <p:cNvSpPr/>
          <p:nvPr/>
        </p:nvSpPr>
        <p:spPr>
          <a:xfrm>
            <a:off x="3059280" y="6453360"/>
            <a:ext cx="3006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4c98"/>
                </a:solidFill>
                <a:latin typeface="Calibri"/>
              </a:rPr>
              <a:t> </a:t>
            </a:r>
            <a:r>
              <a:rPr b="0" lang="fi-FI" sz="900" spc="-1" strike="noStrike">
                <a:solidFill>
                  <a:srgbClr val="004c98"/>
                </a:solidFill>
                <a:latin typeface="Calibri"/>
              </a:rPr>
              <a:t>NERIS – ICRP, Bratislava, 6-8 February 2012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TextBox 5"/>
          <p:cNvSpPr/>
          <p:nvPr/>
        </p:nvSpPr>
        <p:spPr>
          <a:xfrm>
            <a:off x="638280" y="1197000"/>
            <a:ext cx="7813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Status of the NERIS Platform (12/2011)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ext Box 2"/>
          <p:cNvSpPr/>
          <p:nvPr/>
        </p:nvSpPr>
        <p:spPr>
          <a:xfrm>
            <a:off x="539640" y="2060640"/>
            <a:ext cx="2611440" cy="41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ollege 1 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IEMAT (Spain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UVM (Germany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NRPA (Norway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uje (Slovakia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PA (UK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nstitute for Nuclear Research (Romania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RIVM (Netherland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TUK (Finland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NSA (Slovenia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BfS (Germany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SN (France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VIRA (Finland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SS (Italy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EMA (Denmark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RSN (France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RIKILT (Netherland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ZZZ (Croatia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NAEA (Poland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PA (Portugal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URO (Czech Republic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Text Box 3"/>
          <p:cNvSpPr/>
          <p:nvPr/>
        </p:nvSpPr>
        <p:spPr>
          <a:xfrm>
            <a:off x="3203640" y="2060640"/>
            <a:ext cx="2395440" cy="41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ollege 2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Risø (Denmark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AE POLATOM (Poland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KIT (Germany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IT (Austria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EPN (France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FIN-HH (Romania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utadis (France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UCEWP (Ukraine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UPM (Spain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NCCLI (France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DC (Denmark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UoM (United Kingdom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NRG (Netherland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CK.CEN (Belgium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KE (Germany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UMB (Norway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UOI (Greece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RIR (Belaru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MA (France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groParisTech (France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Rectangle 16"/>
          <p:cNvSpPr/>
          <p:nvPr/>
        </p:nvSpPr>
        <p:spPr>
          <a:xfrm>
            <a:off x="5796000" y="2060640"/>
            <a:ext cx="2592360" cy="2284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0 member organisation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0 in college 1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(authorities, TSOs, operators, professional organization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0 in college 2 (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research institutes/universities, consultants, local and national stakeholders, NGO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0T13:04:19Z</dcterms:created>
  <dc:creator>Raimo Mustonen</dc:creator>
  <dc:description/>
  <dc:language>en-US</dc:language>
  <cp:lastModifiedBy>Raimo Mustonen</cp:lastModifiedBy>
  <dcterms:modified xsi:type="dcterms:W3CDTF">2012-01-20T13:14:38Z</dcterms:modified>
  <cp:revision>2</cp:revision>
  <dc:subject/>
  <dc:title> </dc:title>
</cp:coreProperties>
</file>