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wmf" ContentType="image/x-wmf"/>
  <Override PartName="/ppt/media/image14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dt" idx="13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5CB1-2D64-4ED8-A754-EA0AF604D6B7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sldImg"/>
          </p:nvPr>
        </p:nvSpPr>
        <p:spPr>
          <a:xfrm>
            <a:off x="918720" y="740880"/>
            <a:ext cx="4932360" cy="369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body"/>
          </p:nvPr>
        </p:nvSpPr>
        <p:spPr>
          <a:xfrm>
            <a:off x="676080" y="4687560"/>
            <a:ext cx="5413320" cy="443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ftr" idx="14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 type="sldNum" idx="15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F6A4-6DA4-4112-BB8B-078BF7E2A16D}" type="slidenum">
              <a:rPr b="0" lang="en-C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1908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76080" y="4687560"/>
            <a:ext cx="5413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E17A-F395-4B9F-AA32-02BEF31AA72A}" type="slidenum">
              <a:rPr b="0" lang="en-C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1908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76080" y="4687560"/>
            <a:ext cx="5413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Espace réservé de la date 3"/>
          <p:cNvSpPr/>
          <p:nvPr/>
        </p:nvSpPr>
        <p:spPr>
          <a:xfrm>
            <a:off x="3833640" y="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9723-D95B-47D0-A46B-60683B4A6A54}" type="datetime">
              <a:rPr b="0" lang="fr-FR" sz="1200" spc="-1" strike="noStrike">
                <a:solidFill>
                  <a:srgbClr val="000000"/>
                </a:solidFill>
                <a:latin typeface="Constant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1" name="Espace réservé du numéro de diapositive 4"/>
          <p:cNvSpPr/>
          <p:nvPr/>
        </p:nvSpPr>
        <p:spPr>
          <a:xfrm>
            <a:off x="3833640" y="937260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ACAD-2602-4088-9B0A-3EC499C2038E}" type="slidenum">
              <a:rPr b="0" lang="fr-FR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1A84-64BD-4C23-943A-035067631665}" type="slidenum">
              <a:rPr b="0" lang="fr-FR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91908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76080" y="4687560"/>
            <a:ext cx="5413320" cy="44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1908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76080" y="4687560"/>
            <a:ext cx="5413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AA90-6F29-4363-8E8B-6FEF92B243F2}" type="slidenum">
              <a:rPr b="0" lang="en-C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1908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76080" y="4687560"/>
            <a:ext cx="5413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Espace réservé de la date 3"/>
          <p:cNvSpPr/>
          <p:nvPr/>
        </p:nvSpPr>
        <p:spPr>
          <a:xfrm>
            <a:off x="3833640" y="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EF38-38CE-47B8-8671-71F78B1AD3D4}" type="datetime">
              <a:rPr b="0" lang="fr-FR" sz="1200" spc="-1" strike="noStrike">
                <a:solidFill>
                  <a:srgbClr val="000000"/>
                </a:solidFill>
                <a:latin typeface="Constant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Espace réservé du numéro de diapositive 4"/>
          <p:cNvSpPr/>
          <p:nvPr/>
        </p:nvSpPr>
        <p:spPr>
          <a:xfrm>
            <a:off x="3833640" y="937260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0D65-D36E-40C0-BD52-D732C7292E51}" type="slidenum">
              <a:rPr b="0" lang="fr-FR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1908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76080" y="4687560"/>
            <a:ext cx="5413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Espace réservé de la date 3"/>
          <p:cNvSpPr/>
          <p:nvPr/>
        </p:nvSpPr>
        <p:spPr>
          <a:xfrm>
            <a:off x="3833640" y="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72EF-E79E-49AF-86C6-CBD879ECC1DC}" type="datetime">
              <a:rPr b="0" lang="fr-FR" sz="1200" spc="-1" strike="noStrike">
                <a:solidFill>
                  <a:srgbClr val="000000"/>
                </a:solidFill>
                <a:latin typeface="Constant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Espace réservé du numéro de diapositive 4"/>
          <p:cNvSpPr/>
          <p:nvPr/>
        </p:nvSpPr>
        <p:spPr>
          <a:xfrm>
            <a:off x="3833640" y="937260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B2D2-5A81-44A7-AFE8-9C13EAC2BAA9}" type="slidenum">
              <a:rPr b="0" lang="fr-FR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1908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76080" y="4687560"/>
            <a:ext cx="5413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Espace réservé de la date 3"/>
          <p:cNvSpPr/>
          <p:nvPr/>
        </p:nvSpPr>
        <p:spPr>
          <a:xfrm>
            <a:off x="3833640" y="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FA29-E380-4C68-877E-7F57A75F3D4C}" type="datetime">
              <a:rPr b="0" lang="fr-FR" sz="1200" spc="-1" strike="noStrike">
                <a:solidFill>
                  <a:srgbClr val="000000"/>
                </a:solidFill>
                <a:latin typeface="Constant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3" name="Espace réservé du numéro de diapositive 4"/>
          <p:cNvSpPr/>
          <p:nvPr/>
        </p:nvSpPr>
        <p:spPr>
          <a:xfrm>
            <a:off x="3833640" y="937260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FD62-E068-4A45-89CF-0B5C7CD7D4BC}" type="slidenum">
              <a:rPr b="0" lang="fr-FR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91908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76080" y="4687560"/>
            <a:ext cx="5413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Espace réservé de la date 3"/>
          <p:cNvSpPr/>
          <p:nvPr/>
        </p:nvSpPr>
        <p:spPr>
          <a:xfrm>
            <a:off x="3833640" y="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BD77-EFF4-4B81-BC4F-E52CCAD2B041}" type="datetime">
              <a:rPr b="0" lang="fr-FR" sz="1200" spc="-1" strike="noStrike">
                <a:solidFill>
                  <a:srgbClr val="000000"/>
                </a:solidFill>
                <a:latin typeface="Constant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Espace réservé du numéro de diapositive 4"/>
          <p:cNvSpPr/>
          <p:nvPr/>
        </p:nvSpPr>
        <p:spPr>
          <a:xfrm>
            <a:off x="3833640" y="937260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5B0D-BCF7-43D1-B58A-3D4643A43B29}" type="slidenum">
              <a:rPr b="0" lang="fr-FR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19080" y="74124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76080" y="4687560"/>
            <a:ext cx="541332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Espace réservé de la date 3"/>
          <p:cNvSpPr/>
          <p:nvPr/>
        </p:nvSpPr>
        <p:spPr>
          <a:xfrm>
            <a:off x="3833640" y="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C22C-7396-4CF8-AA85-ED49EDAAF2CB}" type="datetime">
              <a:rPr b="0" lang="fr-FR" sz="1200" spc="-1" strike="noStrike">
                <a:solidFill>
                  <a:srgbClr val="000000"/>
                </a:solidFill>
                <a:latin typeface="Constant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Espace réservé du numéro de diapositive 4"/>
          <p:cNvSpPr/>
          <p:nvPr/>
        </p:nvSpPr>
        <p:spPr>
          <a:xfrm>
            <a:off x="3833640" y="9372600"/>
            <a:ext cx="293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46E3-0D45-4AA2-8323-22C0AA734590}" type="slidenum">
              <a:rPr b="0" lang="fr-FR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D7524-17E7-41A9-8EF7-249E68BE7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D8DE4-023F-4E1F-95B9-E7D4F07BA9B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33BAD7-F9AD-4237-ADC3-DEC9C98EB61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B21838-BEFE-45C9-9E53-606E3972AD6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0B43B5-8357-4EF2-9F41-8BFFA4CA24B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E9C306-CB61-4FA2-BD04-27951833238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F4FFD2-08C3-47BF-B956-B2777C6861B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201D36-F74B-4E53-8AA3-BA9A1CD3BCA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13BF0C-CACE-4DA3-81BE-71DEB630688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A48C62-C7DF-46C3-8ACC-4C1C7064380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9C4216-896C-4C23-B2B8-53C8F1EEE55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88F76-057F-4F9F-BF4B-695A4BBB5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2E89-B3B0-435F-82DB-A8C5B5A9D70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9678E-CD82-438E-AA03-F17840A7F57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5C8ED-7253-4031-B00D-6D12A710947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8AB7B1-BE5E-4CDD-8E0D-508F371CCEE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431F9-CA25-4BE6-A749-E5D2734B736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A7104-C9EC-46F1-BA47-59E44968494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FF81E-DAF8-4353-9BFC-DFB0F100B74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E7103-19F3-4554-AA1D-093B0797FB0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B97A0-8562-4F08-BFB4-92A517A46A9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46A8B-108E-4D5C-A36D-01B5F089751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436B5-C72F-4079-971D-3346AB2F8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1BA91-0065-4A46-B1F2-E6F56B11405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1E883-16B4-4551-9D0F-21BD2A95DA2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C4CD8-0E63-4BB7-985F-BCE6C19DE2F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2AD1B-FD23-4421-A562-82EB2414DF4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473CD-BA9C-4A49-BE81-11CC03B9A42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C9C32-5FF4-40B7-8F20-157070901D7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08B13-30A3-4B73-9D61-3BD31EDDAA9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D99CF-3AB4-45C4-A02E-46A03589624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DE8BC-180F-45EA-B734-544850D9C31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CC0EE-9D36-4572-826A-B542A322A6B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5546F-41BB-42AE-A3F5-E4650171D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9CE92-236F-4F33-9D64-3577F6FE14A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4432B-7C1C-46FE-B346-622D1AB992D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1C183-AD6F-4C7A-91DE-7961B88B14B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7F1E9-E9DC-470D-BE0E-0789728C3CE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026F5-F8EB-444B-8FA9-B9068119EDD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B838E-6EEC-4223-9EAC-897600DB53E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977034-6D17-4FC2-9BF2-0ABDF7B793A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082A10-CECA-432B-8694-347CDE3CA4B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48B43E-5A68-4861-BAD7-578EEBA5AF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AE5A6-9564-442B-980E-27142BA6DCA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479399-2C90-460C-96E1-2D48579A9AB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7CEA00-C2C9-4DC9-9509-1AFD49E6C2C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8000B5-B5D5-4F5D-B64F-C2B3FCBD704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E23AD7-B38B-47E5-818C-79E80E2C81C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5DE8B9-DCB8-4F63-94BC-3C62696D6D8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748F5F-A26A-4281-BBAC-28DE4580647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067627-580F-428B-BE22-862E33B5F26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0E71E3-D9E3-45C2-978A-902D3306435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CE40A7-EC4D-42A6-9504-97AD0E16973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94D645-C234-49FB-81CC-1BCB6FA966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EEC66-0EDC-463A-A06C-0EE8EF5C089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58FAEA-7F65-4FC4-AC44-217C9E57137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EAFA8F-2A3E-450E-9670-1CAD5976564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69C0A0-522E-4A80-8C31-734FAA64337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05FA11-9BA8-469C-BB53-B604E4344EC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ECB099-3781-445E-9C16-2546445EE7C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6656D6-AEA7-4A95-B01D-F4AB5907F1A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FD3136-DFB3-4383-AFF5-26B51A53F39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A0BCE1-96EB-4673-8A5E-2D0E66E4E53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6D4C23-0261-485A-A03B-C7DF610032B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647606-7EE7-4C82-9266-738091302B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863FF-3EBA-459E-8E5C-2FD038DCFF0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6DA42E-7E56-4495-B893-34A21732DD6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99F39-5077-447E-8216-EC5D720CE6A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5CB6D-6906-499C-9843-92DA0107188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524C7-9248-405C-858F-D7B118B54FB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C5D94-4B20-4481-908E-75CDF2D70A5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BF230-ADAB-4267-AD6A-E1CB2730989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1C480-A13B-46DC-8E7D-558B4B06447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46731-A212-46A3-9E03-68C5FF33144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8DE8A-24BD-4DAA-9D5F-BDBA9F37F64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5CF39-137F-4177-AB82-A548EFADBC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AB5DF-8C02-4F1A-BF30-03BD1926960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64008-2604-435D-B093-3FD530E93DE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9F270-85DE-4612-A104-9DC782552AE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53288-71F7-4747-AAF1-2C6588533B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EC0C-3C03-42CC-AB94-543BDDC7E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B2D50-F8F1-49A9-83E0-6AEED20333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AC366-5CC9-467E-9284-5B8E05266B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3DF0D-442B-413D-A7F8-E4FB2EFDF9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E86D8-C7D1-4F5E-AC51-D66B91494A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DB7F5-C4DC-4FCD-8A38-FA60D5CBD34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B8D-DE72-4C9C-8872-68057197CE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95B9-83C5-4357-B3CA-702DA3580B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36E-58D7-4407-ADE0-0CFC2F288E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EA3-E997-43A3-AFD9-EF8B2E879F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5FF6-184A-4BE4-80C1-B37E885BD3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4351F-71B0-43E9-BF6F-A1919A91AE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45E-4AA9-4EFC-B2D5-35B4FC9EF5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06B-5194-4A4C-90CB-D754F5C946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279F-76FC-4027-AE5B-3B212943D3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5F42-572C-4BF5-8EFD-34011C3452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03E-8EBA-4276-B1B0-C84DF9887E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23E7-2F7A-4CAF-B640-AFE442CEAB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315F-0F39-45E3-8752-1692592A43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4BA46-054E-4412-8C3B-60723B2B1E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A3AD1-994E-4BC7-8A27-FBCE52E47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AEDE-DC9C-402E-AE74-5608A33D269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7E97E-510D-47BF-A6F4-4C057DA16DE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26DF6-E05D-4907-9F31-F8FAF67FC40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0D1EB-2272-4C61-A930-4E5A6495648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84005-DCA3-404C-A0D4-28AC30D5B01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06883-FFA9-4B50-AE52-4C375C7CF16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2F2AC-3EDD-4E05-94AC-F689207CE9B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F9A51-8A73-412D-8820-C3835B614FC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712FE-CE9D-4224-A973-4DC564FBBC6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CD997-A9FF-4BB2-AA6F-AB7847E8796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368C6-D10D-44B6-BB29-5CED384E5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A74E-E9AA-4B9E-9891-7B11BB91CF2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AA4D2-3ECD-4675-9C6A-A680A611F31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A4714-4DAD-46EA-A054-8A747CAC57F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3B754-DBC7-4E35-BF62-D6BEE8D75A6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85364-E3F5-4917-BE52-CD7CB10981A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0DDD3-BF01-4EEB-8466-7D46F71307B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A59F9-EE21-445F-B9DB-F1BE6D5FAC9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1A775-FF05-48C9-B336-DE5E9423FE1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9FF97-6F50-4297-A33E-0B3948DE891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3D60A-A756-4332-B74B-E000C16B817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3D5A0-F11D-4439-9EB1-E8D1BDB79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D043-82B9-44E6-9721-4373644AC65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DCEC0-DA7B-4592-8F4C-1B7095B7324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2909E-5C6F-40F7-B2C7-A24674E7738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19F82-E244-4E9C-BE3B-260C6DE7F5E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0EA7-F402-4C34-A8C1-22B439EDD57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6686-62A7-475D-8873-8E72E2210A8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9098-C7D4-4295-9A83-D2E5A3B1C68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3015-E0D4-4139-A7C3-033B31EAABC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E35F-17EC-4367-A566-A2DF7BA1A22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9204-C1A3-4260-A70B-49DD7C13490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A5D1-5633-4685-9A6B-E3D794BFF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88C13-C94E-44C6-AD0E-10CC26FEDCA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C218-636F-45DD-A0D5-1BB8AFC0FC7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DD69-498F-4C68-887B-64450F1D2D5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DF38-858A-422D-9753-8A510457A68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6659-7F5F-40DE-A2F3-0103C1C6D27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985F-7A6E-4719-8FE1-D9ABCD0FB46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B920-50E8-4802-B7D9-6DFDB979F5C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88C7E8-EBAB-416E-B7B3-671B54B6E2F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C25C46-BB21-4E1F-96D6-F79A9AA9273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304E03-AE91-42F3-8208-F18E35BD9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320" y="6324120"/>
            <a:ext cx="762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BCA2-162E-4132-B123-5FE694346714}" type="slidenum">
              <a:rPr b="0" lang="en-C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3" descr="ICRP Logo and Title.gif"/>
          <p:cNvPicPr/>
          <p:nvPr/>
        </p:nvPicPr>
        <p:blipFill>
          <a:blip r:embed="rId2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3" descr="ICRP Logo and Title.gif"/>
          <p:cNvPicPr/>
          <p:nvPr/>
        </p:nvPicPr>
        <p:blipFill>
          <a:blip r:embed="rId2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8"/>
          </p:nvPr>
        </p:nvSpPr>
        <p:spPr>
          <a:xfrm>
            <a:off x="7924320" y="6324120"/>
            <a:ext cx="762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884F-0B57-46CB-88A0-E3CF98A02A9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3" descr="ICRP Logo and Title.gif"/>
          <p:cNvPicPr/>
          <p:nvPr/>
        </p:nvPicPr>
        <p:blipFill>
          <a:blip r:embed="rId2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grpSp>
        <p:nvGrpSpPr>
          <p:cNvPr id="415" name="Rectangle 6"/>
          <p:cNvGrpSpPr/>
          <p:nvPr/>
        </p:nvGrpSpPr>
        <p:grpSpPr>
          <a:xfrm>
            <a:off x="255600" y="407880"/>
            <a:ext cx="2852640" cy="6053400"/>
            <a:chOff x="255600" y="407880"/>
            <a:chExt cx="2852640" cy="6053400"/>
          </a:xfrm>
        </p:grpSpPr>
        <p:pic>
          <p:nvPicPr>
            <p:cNvPr id="416" name="Rectangle 6" descr=""/>
            <p:cNvPicPr/>
            <p:nvPr/>
          </p:nvPicPr>
          <p:blipFill>
            <a:blip r:embed="rId4"/>
            <a:stretch/>
          </p:blipFill>
          <p:spPr>
            <a:xfrm>
              <a:off x="255600" y="407880"/>
              <a:ext cx="2852640" cy="60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304920" y="457200"/>
              <a:ext cx="243828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418" name="Straight Connector 7"/>
          <p:cNvSpPr/>
          <p:nvPr/>
        </p:nvSpPr>
        <p:spPr>
          <a:xfrm flipH="1">
            <a:off x="2895120" y="0"/>
            <a:ext cx="1800" cy="6326280"/>
          </a:xfrm>
          <a:prstGeom prst="line">
            <a:avLst/>
          </a:prstGeom>
          <a:ln cap="rnd"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19" name="Rectangle 8"/>
          <p:cNvGrpSpPr/>
          <p:nvPr/>
        </p:nvGrpSpPr>
        <p:grpSpPr>
          <a:xfrm>
            <a:off x="255600" y="407880"/>
            <a:ext cx="2852640" cy="6053400"/>
            <a:chOff x="255600" y="407880"/>
            <a:chExt cx="2852640" cy="6053400"/>
          </a:xfrm>
        </p:grpSpPr>
        <p:pic>
          <p:nvPicPr>
            <p:cNvPr id="420" name="Rectangle 8" descr=""/>
            <p:cNvPicPr/>
            <p:nvPr/>
          </p:nvPicPr>
          <p:blipFill>
            <a:blip r:embed="rId5"/>
            <a:stretch/>
          </p:blipFill>
          <p:spPr>
            <a:xfrm>
              <a:off x="255600" y="407880"/>
              <a:ext cx="2852640" cy="60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304920" y="457200"/>
              <a:ext cx="243828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422" name="Straight Connector 10"/>
          <p:cNvSpPr/>
          <p:nvPr/>
        </p:nvSpPr>
        <p:spPr>
          <a:xfrm flipH="1">
            <a:off x="2895120" y="0"/>
            <a:ext cx="1800" cy="6326280"/>
          </a:xfrm>
          <a:prstGeom prst="line">
            <a:avLst/>
          </a:prstGeom>
          <a:ln cap="rnd"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9"/>
          </p:nvPr>
        </p:nvSpPr>
        <p:spPr>
          <a:xfrm>
            <a:off x="7924320" y="6324120"/>
            <a:ext cx="762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3BB5-73B5-43A2-BBCC-BFB814DEE239}" type="slidenum">
              <a:rPr b="0" lang="en-C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3" descr="ICRP Logo and Title.gif"/>
          <p:cNvPicPr/>
          <p:nvPr/>
        </p:nvPicPr>
        <p:blipFill>
          <a:blip r:embed="rId2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3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ICRP Logo and Title.gif"/>
          <p:cNvPicPr/>
          <p:nvPr/>
        </p:nvPicPr>
        <p:blipFill>
          <a:blip r:embed="rId4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6" descr="ICRP Logo.gif"/>
          <p:cNvPicPr/>
          <p:nvPr/>
        </p:nvPicPr>
        <p:blipFill>
          <a:blip r:embed="rId5"/>
          <a:stretch/>
        </p:blipFill>
        <p:spPr>
          <a:xfrm>
            <a:off x="60480" y="73080"/>
            <a:ext cx="4298760" cy="2749320"/>
          </a:xfrm>
          <a:prstGeom prst="rect">
            <a:avLst/>
          </a:prstGeom>
          <a:ln w="0">
            <a:noFill/>
          </a:ln>
        </p:spPr>
      </p:pic>
      <p:sp>
        <p:nvSpPr>
          <p:cNvPr id="505" name="Straight Connector 7"/>
          <p:cNvSpPr/>
          <p:nvPr/>
        </p:nvSpPr>
        <p:spPr>
          <a:xfrm>
            <a:off x="0" y="3200400"/>
            <a:ext cx="8381880" cy="1440"/>
          </a:xfrm>
          <a:prstGeom prst="line">
            <a:avLst/>
          </a:prstGeom>
          <a:ln cap="rnd"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6" name="Picture 9" descr="ICRP Logo.gif"/>
          <p:cNvPicPr/>
          <p:nvPr/>
        </p:nvPicPr>
        <p:blipFill>
          <a:blip r:embed="rId6"/>
          <a:stretch/>
        </p:blipFill>
        <p:spPr>
          <a:xfrm>
            <a:off x="60480" y="73080"/>
            <a:ext cx="4298760" cy="2749320"/>
          </a:xfrm>
          <a:prstGeom prst="rect">
            <a:avLst/>
          </a:prstGeom>
          <a:ln w="0">
            <a:noFill/>
          </a:ln>
        </p:spPr>
      </p:pic>
      <p:sp>
        <p:nvSpPr>
          <p:cNvPr id="507" name="Straight Connector 10"/>
          <p:cNvSpPr/>
          <p:nvPr/>
        </p:nvSpPr>
        <p:spPr>
          <a:xfrm>
            <a:off x="0" y="3200400"/>
            <a:ext cx="8381880" cy="1440"/>
          </a:xfrm>
          <a:prstGeom prst="line">
            <a:avLst/>
          </a:prstGeom>
          <a:ln cap="rnd"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3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ICRP Logo and Title.gif"/>
          <p:cNvPicPr/>
          <p:nvPr/>
        </p:nvPicPr>
        <p:blipFill>
          <a:blip r:embed="rId4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10"/>
          </p:nvPr>
        </p:nvSpPr>
        <p:spPr>
          <a:xfrm>
            <a:off x="7924320" y="6324120"/>
            <a:ext cx="762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FB0F-5D84-4557-BA7A-E675B8ABC9A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13" descr="ICRP Logo and Title.gif"/>
          <p:cNvPicPr/>
          <p:nvPr/>
        </p:nvPicPr>
        <p:blipFill>
          <a:blip r:embed="rId2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Num" idx="11"/>
          </p:nvPr>
        </p:nvSpPr>
        <p:spPr>
          <a:xfrm>
            <a:off x="7924320" y="6324120"/>
            <a:ext cx="762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439C-12CF-410A-B217-3BADBA28E82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13" descr="ICRP Logo and Title.gif"/>
          <p:cNvPicPr/>
          <p:nvPr/>
        </p:nvPicPr>
        <p:blipFill>
          <a:blip r:embed="rId2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grpSp>
        <p:nvGrpSpPr>
          <p:cNvPr id="630" name="Rectangle 6"/>
          <p:cNvGrpSpPr/>
          <p:nvPr/>
        </p:nvGrpSpPr>
        <p:grpSpPr>
          <a:xfrm>
            <a:off x="255600" y="407880"/>
            <a:ext cx="2852640" cy="6053400"/>
            <a:chOff x="255600" y="407880"/>
            <a:chExt cx="2852640" cy="6053400"/>
          </a:xfrm>
        </p:grpSpPr>
        <p:pic>
          <p:nvPicPr>
            <p:cNvPr id="631" name="Rectangle 6" descr=""/>
            <p:cNvPicPr/>
            <p:nvPr/>
          </p:nvPicPr>
          <p:blipFill>
            <a:blip r:embed="rId4"/>
            <a:stretch/>
          </p:blipFill>
          <p:spPr>
            <a:xfrm>
              <a:off x="255600" y="407880"/>
              <a:ext cx="2852640" cy="60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04920" y="457200"/>
              <a:ext cx="243828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633" name="Straight Connector 7"/>
          <p:cNvSpPr/>
          <p:nvPr/>
        </p:nvSpPr>
        <p:spPr>
          <a:xfrm flipH="1">
            <a:off x="2895120" y="0"/>
            <a:ext cx="1800" cy="6326280"/>
          </a:xfrm>
          <a:prstGeom prst="line">
            <a:avLst/>
          </a:prstGeom>
          <a:ln cap="rnd"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634" name="Rectangle 8"/>
          <p:cNvGrpSpPr/>
          <p:nvPr/>
        </p:nvGrpSpPr>
        <p:grpSpPr>
          <a:xfrm>
            <a:off x="255600" y="407880"/>
            <a:ext cx="2852640" cy="6053400"/>
            <a:chOff x="255600" y="407880"/>
            <a:chExt cx="2852640" cy="6053400"/>
          </a:xfrm>
        </p:grpSpPr>
        <p:pic>
          <p:nvPicPr>
            <p:cNvPr id="635" name="Rectangle 8" descr=""/>
            <p:cNvPicPr/>
            <p:nvPr/>
          </p:nvPicPr>
          <p:blipFill>
            <a:blip r:embed="rId5"/>
            <a:stretch/>
          </p:blipFill>
          <p:spPr>
            <a:xfrm>
              <a:off x="255600" y="407880"/>
              <a:ext cx="2852640" cy="60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304920" y="457200"/>
              <a:ext cx="243828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637" name="Straight Connector 10"/>
          <p:cNvSpPr/>
          <p:nvPr/>
        </p:nvSpPr>
        <p:spPr>
          <a:xfrm flipH="1">
            <a:off x="2895120" y="0"/>
            <a:ext cx="1800" cy="6326280"/>
          </a:xfrm>
          <a:prstGeom prst="line">
            <a:avLst/>
          </a:prstGeom>
          <a:ln cap="rnd"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Num" idx="12"/>
          </p:nvPr>
        </p:nvSpPr>
        <p:spPr>
          <a:xfrm>
            <a:off x="7924320" y="6324120"/>
            <a:ext cx="762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1416-BCA4-4D0A-9996-1167415FDD9C}" type="slidenum">
              <a:rPr b="0" lang="en-C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7924320" y="6324120"/>
            <a:ext cx="762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5025-F9EF-44CD-A41A-7EA3E1C48B9B}" type="slidenum">
              <a:rPr b="0" lang="en-C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3" descr="ICRP Logo and Title.gif"/>
          <p:cNvPicPr/>
          <p:nvPr/>
        </p:nvPicPr>
        <p:blipFill>
          <a:blip r:embed="rId2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7924320" y="6324120"/>
            <a:ext cx="762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D315-6AC0-4869-B538-2EC23582C0F5}" type="slidenum">
              <a:rPr b="0" lang="en-C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3" descr="ICRP Logo and Title.gif"/>
          <p:cNvPicPr/>
          <p:nvPr/>
        </p:nvPicPr>
        <p:blipFill>
          <a:blip r:embed="rId2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3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ICRP Logo.gif"/>
          <p:cNvPicPr/>
          <p:nvPr/>
        </p:nvPicPr>
        <p:blipFill>
          <a:blip r:embed="rId4"/>
          <a:stretch/>
        </p:blipFill>
        <p:spPr>
          <a:xfrm>
            <a:off x="60480" y="73080"/>
            <a:ext cx="4298760" cy="2749320"/>
          </a:xfrm>
          <a:prstGeom prst="rect">
            <a:avLst/>
          </a:prstGeom>
          <a:ln w="0">
            <a:noFill/>
          </a:ln>
        </p:spPr>
      </p:pic>
      <p:sp>
        <p:nvSpPr>
          <p:cNvPr id="124" name="Straight Connector 6"/>
          <p:cNvSpPr/>
          <p:nvPr/>
        </p:nvSpPr>
        <p:spPr>
          <a:xfrm>
            <a:off x="0" y="3200400"/>
            <a:ext cx="8381880" cy="1440"/>
          </a:xfrm>
          <a:prstGeom prst="line">
            <a:avLst/>
          </a:prstGeom>
          <a:ln cap="rnd"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3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4"/>
          </p:nvPr>
        </p:nvSpPr>
        <p:spPr>
          <a:xfrm>
            <a:off x="7924320" y="6324120"/>
            <a:ext cx="762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9598-9EC1-481A-B8E6-7C0C9D5393C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3" descr="ICRP Logo and Title.gif"/>
          <p:cNvPicPr/>
          <p:nvPr/>
        </p:nvPicPr>
        <p:blipFill>
          <a:blip r:embed="rId2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5"/>
          </p:nvPr>
        </p:nvSpPr>
        <p:spPr>
          <a:xfrm>
            <a:off x="7924320" y="6324120"/>
            <a:ext cx="762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8C08-8D1B-4467-9CBA-C062DEAFCEF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3" descr="ICRP Logo and Title.gif"/>
          <p:cNvPicPr/>
          <p:nvPr/>
        </p:nvPicPr>
        <p:blipFill>
          <a:blip r:embed="rId2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grpSp>
        <p:nvGrpSpPr>
          <p:cNvPr id="244" name="Rectangle 5"/>
          <p:cNvGrpSpPr/>
          <p:nvPr/>
        </p:nvGrpSpPr>
        <p:grpSpPr>
          <a:xfrm>
            <a:off x="255600" y="407880"/>
            <a:ext cx="2852640" cy="6053400"/>
            <a:chOff x="255600" y="407880"/>
            <a:chExt cx="2852640" cy="6053400"/>
          </a:xfrm>
        </p:grpSpPr>
        <p:pic>
          <p:nvPicPr>
            <p:cNvPr id="245" name="Rectangle 5" descr=""/>
            <p:cNvPicPr/>
            <p:nvPr/>
          </p:nvPicPr>
          <p:blipFill>
            <a:blip r:embed="rId3"/>
            <a:stretch/>
          </p:blipFill>
          <p:spPr>
            <a:xfrm>
              <a:off x="255600" y="407880"/>
              <a:ext cx="2852640" cy="60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04920" y="457200"/>
              <a:ext cx="243828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47" name="Straight Connector 6"/>
          <p:cNvSpPr/>
          <p:nvPr/>
        </p:nvSpPr>
        <p:spPr>
          <a:xfrm flipH="1">
            <a:off x="2895120" y="0"/>
            <a:ext cx="1800" cy="6326280"/>
          </a:xfrm>
          <a:prstGeom prst="line">
            <a:avLst/>
          </a:prstGeom>
          <a:ln cap="rnd"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6"/>
          </p:nvPr>
        </p:nvSpPr>
        <p:spPr>
          <a:xfrm>
            <a:off x="7924320" y="6324120"/>
            <a:ext cx="762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A9D3-E97E-413E-A4C2-7A9260B9B795}" type="slidenum">
              <a:rPr b="0" lang="en-C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3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ICRP Logo and Title.gif"/>
          <p:cNvPicPr/>
          <p:nvPr/>
        </p:nvPicPr>
        <p:blipFill>
          <a:blip r:embed="rId4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ICRP Logo.gif"/>
          <p:cNvPicPr/>
          <p:nvPr/>
        </p:nvPicPr>
        <p:blipFill>
          <a:blip r:embed="rId5"/>
          <a:stretch/>
        </p:blipFill>
        <p:spPr>
          <a:xfrm>
            <a:off x="60480" y="73080"/>
            <a:ext cx="4298760" cy="2749320"/>
          </a:xfrm>
          <a:prstGeom prst="rect">
            <a:avLst/>
          </a:prstGeom>
          <a:ln w="0">
            <a:noFill/>
          </a:ln>
        </p:spPr>
      </p:pic>
      <p:sp>
        <p:nvSpPr>
          <p:cNvPr id="290" name="Straight Connector 7"/>
          <p:cNvSpPr/>
          <p:nvPr/>
        </p:nvSpPr>
        <p:spPr>
          <a:xfrm>
            <a:off x="0" y="3200400"/>
            <a:ext cx="8381880" cy="1440"/>
          </a:xfrm>
          <a:prstGeom prst="line">
            <a:avLst/>
          </a:prstGeom>
          <a:ln cap="rnd"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Picture 9" descr="ICRP Logo.gif"/>
          <p:cNvPicPr/>
          <p:nvPr/>
        </p:nvPicPr>
        <p:blipFill>
          <a:blip r:embed="rId6"/>
          <a:stretch/>
        </p:blipFill>
        <p:spPr>
          <a:xfrm>
            <a:off x="60480" y="73080"/>
            <a:ext cx="4298760" cy="2749320"/>
          </a:xfrm>
          <a:prstGeom prst="rect">
            <a:avLst/>
          </a:prstGeom>
          <a:ln w="0">
            <a:noFill/>
          </a:ln>
        </p:spPr>
      </p:pic>
      <p:sp>
        <p:nvSpPr>
          <p:cNvPr id="292" name="Straight Connector 10"/>
          <p:cNvSpPr/>
          <p:nvPr/>
        </p:nvSpPr>
        <p:spPr>
          <a:xfrm>
            <a:off x="0" y="3200400"/>
            <a:ext cx="8381880" cy="1440"/>
          </a:xfrm>
          <a:prstGeom prst="line">
            <a:avLst/>
          </a:prstGeom>
          <a:ln cap="rnd"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3" descr="ICRP Logo and Title.gif"/>
          <p:cNvPicPr/>
          <p:nvPr/>
        </p:nvPicPr>
        <p:blipFill>
          <a:blip r:embed="rId3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ICRP Logo and Title.gif"/>
          <p:cNvPicPr/>
          <p:nvPr/>
        </p:nvPicPr>
        <p:blipFill>
          <a:blip r:embed="rId4"/>
          <a:stretch/>
        </p:blipFill>
        <p:spPr>
          <a:xfrm>
            <a:off x="227160" y="6335640"/>
            <a:ext cx="4786200" cy="3999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83763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8376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7"/>
          </p:nvPr>
        </p:nvSpPr>
        <p:spPr>
          <a:xfrm>
            <a:off x="7924320" y="6324120"/>
            <a:ext cx="7621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38A3-7732-4B44-A4A5-6123B87E9F6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Title 1" descr=""/>
          <p:cNvPicPr/>
          <p:nvPr/>
        </p:nvPicPr>
        <p:blipFill>
          <a:blip r:embed="rId2"/>
          <a:stretch/>
        </p:blipFill>
        <p:spPr>
          <a:xfrm>
            <a:off x="-6480" y="1444680"/>
            <a:ext cx="8778960" cy="188892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685440" y="3580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Jacques Lochard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Chair of  ICRP Committee 4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irector of CEPN, Franc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440" y="4952880"/>
            <a:ext cx="80773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First NERIS Platform Workshop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reparedness for Nuclear and Radiological Emergency Response and Recovery: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Implementation of ICRP Recommendations “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ratislava, Slovak Republic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6 - 8 February 2012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3"/>
                </a:solidFill>
                <a:latin typeface="Arial"/>
                <a:ea typeface="Arial"/>
              </a:rPr>
              <a:t>Time factor – Emergency exposure situations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066320" y="15998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can be done for protective actions to be taken to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regain control of the source or the pathway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ective actions must be implemented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urgently and in a timely manne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maximize effectivenes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ure to react means loss of opportunities to reduce expos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FEAD-0D30-4AAF-B262-962164B8B4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5"/>
                </a:solidFill>
                <a:latin typeface="Arial"/>
                <a:ea typeface="Arial"/>
              </a:rPr>
              <a:t>Time factor – Existing exposure situat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6854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lanning protectiv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c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can only be done on the basis of a 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  <a:ea typeface="Arial"/>
              </a:rPr>
              <a:t>good knowledge of the actual conditions of exposure to control the pathways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tective actions should not need to be urgent and can be implemented at any 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tective actions are effective immediately when implemen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aching the desired level of protection may take time (e.g. radon and contaminated areas after a nuclear accident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57CF-FBE2-436A-BC78-B947F82CF3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45"/>
                </a:solidFill>
                <a:latin typeface="Arial"/>
                <a:ea typeface="Arial"/>
              </a:rPr>
              <a:t>Transitions between exposure situat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27" name="Object 2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808760" cy="4572000"/>
          </a:xfrm>
          <a:prstGeom prst="rect">
            <a:avLst/>
          </a:prstGeom>
          <a:ln w="0">
            <a:noFill/>
          </a:ln>
        </p:spPr>
      </p:pic>
      <p:sp>
        <p:nvSpPr>
          <p:cNvPr id="728" name="ZoneTexte 4"/>
          <p:cNvSpPr/>
          <p:nvPr/>
        </p:nvSpPr>
        <p:spPr>
          <a:xfrm>
            <a:off x="990720" y="2438280"/>
            <a:ext cx="2438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oss of control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of the sour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ZoneTexte 5"/>
          <p:cNvSpPr/>
          <p:nvPr/>
        </p:nvSpPr>
        <p:spPr>
          <a:xfrm>
            <a:off x="6019920" y="2362320"/>
            <a:ext cx="1904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Herit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of the sour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ZoneTexte 6"/>
          <p:cNvSpPr/>
          <p:nvPr/>
        </p:nvSpPr>
        <p:spPr>
          <a:xfrm>
            <a:off x="3886200" y="449568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Decis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Oval 7"/>
          <p:cNvSpPr/>
          <p:nvPr/>
        </p:nvSpPr>
        <p:spPr>
          <a:xfrm>
            <a:off x="3352680" y="4267080"/>
            <a:ext cx="2133720" cy="1752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5CDB-8874-428D-8C8B-1CEB915B84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45"/>
                </a:solidFill>
                <a:latin typeface="Arial"/>
                <a:ea typeface="Arial"/>
              </a:rPr>
              <a:t>The optimisation principle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Connecteur droit 42"/>
          <p:cNvSpPr/>
          <p:nvPr/>
        </p:nvSpPr>
        <p:spPr>
          <a:xfrm flipV="1">
            <a:off x="1600200" y="3733920"/>
            <a:ext cx="1440" cy="1440"/>
          </a:xfrm>
          <a:prstGeom prst="line">
            <a:avLst/>
          </a:prstGeom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Rectangle 5"/>
          <p:cNvSpPr/>
          <p:nvPr/>
        </p:nvSpPr>
        <p:spPr>
          <a:xfrm>
            <a:off x="2133720" y="1447920"/>
            <a:ext cx="49528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ZoneTexte 21"/>
          <p:cNvSpPr/>
          <p:nvPr/>
        </p:nvSpPr>
        <p:spPr>
          <a:xfrm>
            <a:off x="4648320" y="1219320"/>
            <a:ext cx="3886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36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37" name="Grouper 20"/>
          <p:cNvGrpSpPr/>
          <p:nvPr/>
        </p:nvGrpSpPr>
        <p:grpSpPr>
          <a:xfrm>
            <a:off x="2743200" y="1600200"/>
            <a:ext cx="3733920" cy="4421160"/>
            <a:chOff x="2743200" y="1600200"/>
            <a:chExt cx="3733920" cy="4421160"/>
          </a:xfrm>
        </p:grpSpPr>
        <p:grpSp>
          <p:nvGrpSpPr>
            <p:cNvPr id="738" name="Flèche vers le haut 25"/>
            <p:cNvGrpSpPr/>
            <p:nvPr/>
          </p:nvGrpSpPr>
          <p:grpSpPr>
            <a:xfrm>
              <a:off x="3200400" y="4838040"/>
              <a:ext cx="1066680" cy="1183320"/>
              <a:chOff x="3200400" y="4838040"/>
              <a:chExt cx="1066680" cy="1183320"/>
            </a:xfrm>
          </p:grpSpPr>
          <p:pic>
            <p:nvPicPr>
              <p:cNvPr id="739" name="Flèche vers le haut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400" y="4838040"/>
                <a:ext cx="1066680" cy="118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0" name=""/>
              <p:cNvSpPr/>
              <p:nvPr/>
            </p:nvSpPr>
            <p:spPr>
              <a:xfrm>
                <a:off x="3504960" y="5093640"/>
                <a:ext cx="45720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sp>
          <p:nvSpPr>
            <p:cNvPr id="741" name="ZoneTexte 9"/>
            <p:cNvSpPr/>
            <p:nvPr/>
          </p:nvSpPr>
          <p:spPr>
            <a:xfrm>
              <a:off x="2743200" y="1600200"/>
              <a:ext cx="3733920" cy="8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lanned exposure situations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7f7f7f"/>
                  </a:solidFill>
                  <a:latin typeface="Arial"/>
                </a:rPr>
                <a:t>(Identical to “practices”) 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2" name="ZoneTexte 10"/>
            <p:cNvSpPr/>
            <p:nvPr/>
          </p:nvSpPr>
          <p:spPr>
            <a:xfrm>
              <a:off x="3809880" y="3309840"/>
              <a:ext cx="19814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00"/>
                  </a:solidFill>
                  <a:latin typeface="Arial"/>
                </a:rPr>
                <a:t>Dose constraint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3" name="ZoneTexte 11"/>
            <p:cNvSpPr/>
            <p:nvPr/>
          </p:nvSpPr>
          <p:spPr>
            <a:xfrm>
              <a:off x="3733920" y="2640600"/>
              <a:ext cx="91440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00"/>
                  </a:solidFill>
                  <a:latin typeface="Arial"/>
                </a:rPr>
                <a:t>Limit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4" name="Connecteur droit 13"/>
            <p:cNvSpPr/>
            <p:nvPr/>
          </p:nvSpPr>
          <p:spPr>
            <a:xfrm>
              <a:off x="3124080" y="3012480"/>
              <a:ext cx="1905120" cy="144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5" name="Connecteur droit 14"/>
            <p:cNvSpPr/>
            <p:nvPr/>
          </p:nvSpPr>
          <p:spPr>
            <a:xfrm>
              <a:off x="3047760" y="3681360"/>
              <a:ext cx="1905120" cy="1440"/>
            </a:xfrm>
            <a:prstGeom prst="line">
              <a:avLst/>
            </a:prstGeom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6" name="ZoneTexte 15"/>
            <p:cNvSpPr/>
            <p:nvPr/>
          </p:nvSpPr>
          <p:spPr>
            <a:xfrm>
              <a:off x="4191120" y="4053240"/>
              <a:ext cx="198144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686d"/>
                  </a:solidFill>
                  <a:latin typeface="Arial"/>
                </a:rPr>
                <a:t>Optimisation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7" name="Connecteur droit 22"/>
            <p:cNvSpPr/>
            <p:nvPr/>
          </p:nvSpPr>
          <p:spPr>
            <a:xfrm flipH="1">
              <a:off x="2895480" y="2789280"/>
              <a:ext cx="1440" cy="3121920"/>
            </a:xfrm>
            <a:prstGeom prst="line">
              <a:avLst/>
            </a:prstGeom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8" name="Connecteur droit 24"/>
            <p:cNvSpPr/>
            <p:nvPr/>
          </p:nvSpPr>
          <p:spPr>
            <a:xfrm>
              <a:off x="2895480" y="5911560"/>
              <a:ext cx="3429360" cy="1440"/>
            </a:xfrm>
            <a:prstGeom prst="line">
              <a:avLst/>
            </a:prstGeom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9" name="Connecteur droit 47"/>
            <p:cNvSpPr/>
            <p:nvPr/>
          </p:nvSpPr>
          <p:spPr>
            <a:xfrm>
              <a:off x="3429000" y="4870800"/>
              <a:ext cx="609480" cy="1440"/>
            </a:xfrm>
            <a:prstGeom prst="line">
              <a:avLst/>
            </a:prstGeom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0" name="ZoneTexte 30"/>
            <p:cNvSpPr/>
            <p:nvPr/>
          </p:nvSpPr>
          <p:spPr>
            <a:xfrm>
              <a:off x="3504960" y="5094000"/>
              <a:ext cx="457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53"/>
                  </a:solidFill>
                  <a:latin typeface="Constant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1" name="ZoneTexte 32"/>
            <p:cNvSpPr/>
            <p:nvPr/>
          </p:nvSpPr>
          <p:spPr>
            <a:xfrm>
              <a:off x="4191120" y="5391000"/>
              <a:ext cx="2133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53"/>
                  </a:solidFill>
                  <a:latin typeface="Arial"/>
                </a:rPr>
                <a:t>1. Added dose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752" name="Connecteur droit avec flèche 37"/>
            <p:cNvCxnSpPr/>
            <p:nvPr/>
          </p:nvCxnSpPr>
          <p:spPr>
            <a:xfrm flipH="1">
              <a:off x="3731760" y="3682800"/>
              <a:ext cx="3600" cy="1189800"/>
            </a:xfrm>
            <a:prstGeom prst="straightConnector1">
              <a:avLst/>
            </a:prstGeom>
            <a:ln w="25560">
              <a:solidFill>
                <a:srgbClr val="0f6fc6"/>
              </a:solidFill>
              <a:miter/>
              <a:tailEnd len="med" type="arrow" w="med"/>
            </a:ln>
          </p:spPr>
        </p:cxnSp>
      </p:grpSp>
      <p:sp>
        <p:nvSpPr>
          <p:cNvPr id="753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6884-67A7-4919-ACAF-87A240C16A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47"/>
          <p:cNvSpPr/>
          <p:nvPr/>
        </p:nvSpPr>
        <p:spPr>
          <a:xfrm>
            <a:off x="533520" y="1219320"/>
            <a:ext cx="807696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55" name="Grouper 14"/>
          <p:cNvGrpSpPr/>
          <p:nvPr/>
        </p:nvGrpSpPr>
        <p:grpSpPr>
          <a:xfrm>
            <a:off x="4876920" y="2514600"/>
            <a:ext cx="3429000" cy="3201840"/>
            <a:chOff x="4876920" y="2514600"/>
            <a:chExt cx="3429000" cy="3201840"/>
          </a:xfrm>
        </p:grpSpPr>
        <p:grpSp>
          <p:nvGrpSpPr>
            <p:cNvPr id="756" name="Flèche vers le haut 4"/>
            <p:cNvGrpSpPr/>
            <p:nvPr/>
          </p:nvGrpSpPr>
          <p:grpSpPr>
            <a:xfrm>
              <a:off x="5181480" y="4544280"/>
              <a:ext cx="1066680" cy="1172160"/>
              <a:chOff x="5181480" y="4544280"/>
              <a:chExt cx="1066680" cy="1172160"/>
            </a:xfrm>
          </p:grpSpPr>
          <p:pic>
            <p:nvPicPr>
              <p:cNvPr id="757" name="Flèche vers le haut 4" descr=""/>
              <p:cNvPicPr/>
              <p:nvPr/>
            </p:nvPicPr>
            <p:blipFill>
              <a:blip r:embed="rId1"/>
              <a:stretch/>
            </p:blipFill>
            <p:spPr>
              <a:xfrm>
                <a:off x="5181480" y="4544280"/>
                <a:ext cx="1066680" cy="117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8" name=""/>
              <p:cNvSpPr/>
              <p:nvPr/>
            </p:nvSpPr>
            <p:spPr>
              <a:xfrm>
                <a:off x="5486040" y="4797360"/>
                <a:ext cx="457200" cy="81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sp>
          <p:nvSpPr>
            <p:cNvPr id="759" name="ZoneTexte 10"/>
            <p:cNvSpPr/>
            <p:nvPr/>
          </p:nvSpPr>
          <p:spPr>
            <a:xfrm>
              <a:off x="5791320" y="3030120"/>
              <a:ext cx="19810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00"/>
                  </a:solidFill>
                  <a:latin typeface="Arial"/>
                </a:rPr>
                <a:t>Reference level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0" name="Connecteur droit 6"/>
            <p:cNvSpPr/>
            <p:nvPr/>
          </p:nvSpPr>
          <p:spPr>
            <a:xfrm>
              <a:off x="5105520" y="3471840"/>
              <a:ext cx="1905120" cy="144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1" name="ZoneTexte 15"/>
            <p:cNvSpPr/>
            <p:nvPr/>
          </p:nvSpPr>
          <p:spPr>
            <a:xfrm>
              <a:off x="5715000" y="3840120"/>
              <a:ext cx="198108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686d"/>
                  </a:solidFill>
                  <a:latin typeface="Arial"/>
                </a:rPr>
                <a:t>Optimisation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2" name="Connecteur droit 8"/>
            <p:cNvSpPr/>
            <p:nvPr/>
          </p:nvSpPr>
          <p:spPr>
            <a:xfrm flipH="1">
              <a:off x="4876920" y="2514600"/>
              <a:ext cx="1440" cy="3093120"/>
            </a:xfrm>
            <a:prstGeom prst="line">
              <a:avLst/>
            </a:prstGeom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3" name="Connecteur droit 9"/>
            <p:cNvSpPr/>
            <p:nvPr/>
          </p:nvSpPr>
          <p:spPr>
            <a:xfrm>
              <a:off x="4876920" y="5607720"/>
              <a:ext cx="3429000" cy="1440"/>
            </a:xfrm>
            <a:prstGeom prst="line">
              <a:avLst/>
            </a:prstGeom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4" name="Connecteur droit 10"/>
            <p:cNvSpPr/>
            <p:nvPr/>
          </p:nvSpPr>
          <p:spPr>
            <a:xfrm>
              <a:off x="5410080" y="4576680"/>
              <a:ext cx="609480" cy="1440"/>
            </a:xfrm>
            <a:prstGeom prst="line">
              <a:avLst/>
            </a:prstGeom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5" name="ZoneTexte 30"/>
            <p:cNvSpPr/>
            <p:nvPr/>
          </p:nvSpPr>
          <p:spPr>
            <a:xfrm>
              <a:off x="5486400" y="47973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53"/>
                  </a:solidFill>
                  <a:latin typeface="Constanti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6" name="ZoneTexte 32"/>
            <p:cNvSpPr/>
            <p:nvPr/>
          </p:nvSpPr>
          <p:spPr>
            <a:xfrm>
              <a:off x="6172200" y="5092200"/>
              <a:ext cx="2133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53"/>
                  </a:solidFill>
                  <a:latin typeface="Arial"/>
                </a:rPr>
                <a:t>C. Added dose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cxnSp>
          <p:nvCxnSpPr>
            <p:cNvPr id="767" name="Connecteur droit avec flèche 13"/>
            <p:cNvCxnSpPr/>
            <p:nvPr/>
          </p:nvCxnSpPr>
          <p:spPr>
            <a:xfrm flipH="1">
              <a:off x="5713200" y="3471840"/>
              <a:ext cx="2160" cy="1106640"/>
            </a:xfrm>
            <a:prstGeom prst="straightConnector1">
              <a:avLst/>
            </a:prstGeom>
            <a:ln w="25560">
              <a:solidFill>
                <a:srgbClr val="0f6fc6"/>
              </a:solidFill>
              <a:miter/>
              <a:tailEnd len="med" type="arrow" w="med"/>
            </a:ln>
          </p:spPr>
        </p:cxnSp>
      </p:grpSp>
      <p:grpSp>
        <p:nvGrpSpPr>
          <p:cNvPr id="768" name="Grouper 29"/>
          <p:cNvGrpSpPr/>
          <p:nvPr/>
        </p:nvGrpSpPr>
        <p:grpSpPr>
          <a:xfrm>
            <a:off x="838080" y="2514600"/>
            <a:ext cx="3659400" cy="3201840"/>
            <a:chOff x="838080" y="2514600"/>
            <a:chExt cx="3659400" cy="3201840"/>
          </a:xfrm>
        </p:grpSpPr>
        <p:sp>
          <p:nvSpPr>
            <p:cNvPr id="769" name="Connecteur droit 30"/>
            <p:cNvSpPr/>
            <p:nvPr/>
          </p:nvSpPr>
          <p:spPr>
            <a:xfrm flipH="1">
              <a:off x="838080" y="2516040"/>
              <a:ext cx="2880" cy="3093120"/>
            </a:xfrm>
            <a:prstGeom prst="line">
              <a:avLst/>
            </a:prstGeom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0" name="Connecteur droit 31"/>
            <p:cNvSpPr/>
            <p:nvPr/>
          </p:nvSpPr>
          <p:spPr>
            <a:xfrm>
              <a:off x="839520" y="5607720"/>
              <a:ext cx="3353040" cy="1440"/>
            </a:xfrm>
            <a:prstGeom prst="line">
              <a:avLst/>
            </a:prstGeom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771" name="Flèche vers le haut 32"/>
            <p:cNvGrpSpPr/>
            <p:nvPr/>
          </p:nvGrpSpPr>
          <p:grpSpPr>
            <a:xfrm>
              <a:off x="1218960" y="4320360"/>
              <a:ext cx="1072800" cy="1396080"/>
              <a:chOff x="1218960" y="4320360"/>
              <a:chExt cx="1072800" cy="1396080"/>
            </a:xfrm>
          </p:grpSpPr>
          <p:pic>
            <p:nvPicPr>
              <p:cNvPr id="772" name="Flèche vers le haut 32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8960" y="4320360"/>
                <a:ext cx="1072800" cy="13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3" name=""/>
              <p:cNvSpPr/>
              <p:nvPr/>
            </p:nvSpPr>
            <p:spPr>
              <a:xfrm>
                <a:off x="1525320" y="4576320"/>
                <a:ext cx="457200" cy="103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sp>
          <p:nvSpPr>
            <p:cNvPr id="774" name="Connecteur droit 33"/>
            <p:cNvSpPr/>
            <p:nvPr/>
          </p:nvSpPr>
          <p:spPr>
            <a:xfrm>
              <a:off x="1449360" y="4355640"/>
              <a:ext cx="609480" cy="1440"/>
            </a:xfrm>
            <a:prstGeom prst="line">
              <a:avLst/>
            </a:prstGeom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5" name="ZoneTexte 31"/>
            <p:cNvSpPr/>
            <p:nvPr/>
          </p:nvSpPr>
          <p:spPr>
            <a:xfrm>
              <a:off x="1601640" y="4576680"/>
              <a:ext cx="30456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53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6" name="ZoneTexte 33"/>
            <p:cNvSpPr/>
            <p:nvPr/>
          </p:nvSpPr>
          <p:spPr>
            <a:xfrm>
              <a:off x="2516040" y="4723920"/>
              <a:ext cx="1981440" cy="7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53"/>
                  </a:solidFill>
                  <a:latin typeface="Arial"/>
                </a:rPr>
                <a:t>A. Averted dose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53"/>
                  </a:solidFill>
                  <a:latin typeface="Arial"/>
                </a:rPr>
                <a:t>B. Residual dose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7" name="ZoneTexte 17"/>
            <p:cNvSpPr/>
            <p:nvPr/>
          </p:nvSpPr>
          <p:spPr>
            <a:xfrm>
              <a:off x="2211480" y="3030120"/>
              <a:ext cx="221004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00"/>
                  </a:solidFill>
                  <a:latin typeface="Arial"/>
                </a:rPr>
                <a:t>Reference level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8" name="ZoneTexte 18"/>
            <p:cNvSpPr/>
            <p:nvPr/>
          </p:nvSpPr>
          <p:spPr>
            <a:xfrm>
              <a:off x="2287440" y="3619080"/>
              <a:ext cx="1905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686d"/>
                  </a:solidFill>
                  <a:latin typeface="Arial"/>
                </a:rPr>
                <a:t>Optimisation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779" name="Flèche vers le bas 38"/>
            <p:cNvGrpSpPr/>
            <p:nvPr/>
          </p:nvGrpSpPr>
          <p:grpSpPr>
            <a:xfrm>
              <a:off x="1218960" y="2552760"/>
              <a:ext cx="1072800" cy="1908720"/>
              <a:chOff x="1218960" y="2552760"/>
              <a:chExt cx="1072800" cy="1908720"/>
            </a:xfrm>
          </p:grpSpPr>
          <p:pic>
            <p:nvPicPr>
              <p:cNvPr id="780" name="Flèche vers le bas 38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8960" y="2552760"/>
                <a:ext cx="1072800" cy="19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1" name=""/>
              <p:cNvSpPr/>
              <p:nvPr/>
            </p:nvSpPr>
            <p:spPr>
              <a:xfrm>
                <a:off x="1551600" y="2588040"/>
                <a:ext cx="40428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sp>
          <p:nvSpPr>
            <p:cNvPr id="782" name="Connecteur droit 39"/>
            <p:cNvSpPr/>
            <p:nvPr/>
          </p:nvSpPr>
          <p:spPr>
            <a:xfrm>
              <a:off x="1144440" y="3398040"/>
              <a:ext cx="1905120" cy="144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3" name="ZoneTexte 18"/>
            <p:cNvSpPr/>
            <p:nvPr/>
          </p:nvSpPr>
          <p:spPr>
            <a:xfrm>
              <a:off x="2287440" y="2514600"/>
              <a:ext cx="1905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686d"/>
                  </a:solidFill>
                  <a:latin typeface="Arial"/>
                </a:rPr>
                <a:t>Optimisation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4" name="ZoneTexte 29"/>
            <p:cNvSpPr/>
            <p:nvPr/>
          </p:nvSpPr>
          <p:spPr>
            <a:xfrm>
              <a:off x="1525320" y="35438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36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53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45"/>
                </a:solidFill>
                <a:latin typeface="Arial"/>
                <a:ea typeface="Arial"/>
              </a:rPr>
              <a:t>The optimisation principl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6" name="ZoneTexte 44"/>
          <p:cNvSpPr/>
          <p:nvPr/>
        </p:nvSpPr>
        <p:spPr>
          <a:xfrm>
            <a:off x="1905120" y="190512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tig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ZoneTexte 45"/>
          <p:cNvSpPr/>
          <p:nvPr/>
        </p:nvSpPr>
        <p:spPr>
          <a:xfrm>
            <a:off x="5715000" y="182880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ven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ZoneTexte 21"/>
          <p:cNvSpPr/>
          <p:nvPr/>
        </p:nvSpPr>
        <p:spPr>
          <a:xfrm>
            <a:off x="1600200" y="1295280"/>
            <a:ext cx="6019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ergency and existing exposure situa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F493-2304-4C53-A8FE-18EEBF51AA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5"/>
                </a:solidFill>
                <a:latin typeface="Arial"/>
                <a:ea typeface="Arial"/>
              </a:rPr>
              <a:t>Protection strategy and protective actions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56840" y="12189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90000"/>
                </a:solidFill>
                <a:latin typeface="Arial"/>
                <a:ea typeface="Arial"/>
              </a:rPr>
              <a:t>All exposure pathways and all relevant protective actions </a:t>
            </a:r>
            <a:r>
              <a:rPr b="0" lang="en-GB" sz="2400" spc="-1" strike="noStrike">
                <a:solidFill>
                  <a:srgbClr val="000053"/>
                </a:solidFill>
                <a:latin typeface="Arial"/>
                <a:ea typeface="Arial"/>
              </a:rPr>
              <a:t>have to be considered when deciding on the optimum course of action to be taken</a:t>
            </a:r>
            <a:r>
              <a:rPr b="0" lang="de-DE" sz="2400" spc="-1" strike="noStrike">
                <a:solidFill>
                  <a:srgbClr val="000053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Protection strateg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a set of relevant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protective a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ective actions are implemente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Centrally and locally by authorities, experts, and profession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s self-help actions by the affected people themselves with the support of authorities and professional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2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F8DE-7438-446F-A886-FD6ABC56FA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5"/>
                </a:solidFill>
                <a:latin typeface="Arial"/>
                <a:ea typeface="Arial"/>
              </a:rPr>
              <a:t>Rationale for setting dose constraints and</a:t>
            </a:r>
            <a:br>
              <a:rPr sz="2800"/>
            </a:br>
            <a:r>
              <a:rPr b="1" lang="en-US" sz="2800" spc="-1" strike="noStrike">
                <a:solidFill>
                  <a:srgbClr val="000045"/>
                </a:solidFill>
                <a:latin typeface="Arial"/>
                <a:ea typeface="Arial"/>
              </a:rPr>
              <a:t> reference level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objective is to keep exposure below 100 mSv (ICRP 103, § 236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« At doses higher than 100 mSv, there is an increased likelihood of deterministic effects and a significant risk of cancer. For these reasons, the Commission considers that the maximum value for a reference level is 100 mSv incurred either acutely or in a year. Exposures above 100 mSv incurred either acutely or in a year would be justified only under extreme circumstances, either because the exposure is unavoidable or in exceptional situations such as the saving of life or the prevention of a serious disaster. No other individual or societal benefit would compensate for such high exposures 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E667-7F61-448C-94BE-8A46D4757C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5"/>
                </a:solidFill>
                <a:latin typeface="Arial"/>
                <a:ea typeface="Arial"/>
              </a:rPr>
              <a:t>Rationale for setting dose constraints and</a:t>
            </a:r>
            <a:br>
              <a:rPr sz="2800"/>
            </a:br>
            <a:r>
              <a:rPr b="1" lang="en-US" sz="2800" spc="-1" strike="noStrike">
                <a:solidFill>
                  <a:srgbClr val="000045"/>
                </a:solidFill>
                <a:latin typeface="Arial"/>
                <a:ea typeface="Arial"/>
              </a:rPr>
              <a:t> reference level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ccording to the characteristics of the exposure situation, including the degree of controllability of the radiation sources, the Commission is recommending a dose scale (corresponding de facto to a risk scale) with three bands:  0 to 1 mSv/year, 1 to 20 mSv/year and 20 to 100 mSv/year, in order to select dose constraints and reference level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  <a:ea typeface="Arial"/>
              </a:rPr>
              <a:t>For the protection of the public in case of a nuclear accident the Commission is recommending to select reference levels 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spcAft>
                <a:spcPts val="11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  <a:ea typeface="Arial"/>
              </a:rPr>
              <a:t>In the 20–100 mSv/year band for emergency exposure situations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spcAft>
                <a:spcPts val="11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  <a:ea typeface="Arial"/>
              </a:rPr>
              <a:t>In the lower part of the 1–20 mSv/year for existing exposure situations, with the objective of reducing exposure below 1 mSv/year  in the long term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  <a:ea typeface="Arial"/>
              </a:rPr>
              <a:t>Values of reference levels and timeframe will vary from place to place depending on the local circumstanc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F5D7-BE81-4FED-89FA-7031B287BE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5"/>
                </a:solidFill>
                <a:latin typeface="Arial"/>
                <a:ea typeface="Arial"/>
              </a:rPr>
              <a:t>Decisions  </a:t>
            </a:r>
            <a:br>
              <a:rPr sz="2800"/>
            </a:br>
            <a:r>
              <a:rPr b="1" lang="en-US" sz="2800" spc="-1" strike="noStrike">
                <a:solidFill>
                  <a:srgbClr val="000045"/>
                </a:solidFill>
                <a:latin typeface="Arial"/>
                <a:ea typeface="Arial"/>
              </a:rPr>
              <a:t>in emergency exposure situat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ergency exposure situations correlate to the early and intermediate phases of emergency plann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24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Urgent ac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lude sheltering, evacuation, but also temporary relocation and food ban as mechanisms designed to “quickly” avoid or reduce exposu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24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ontamination is also an urgent action to be implemented wherever it is feasible and effectiv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24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Key decision is whether people must leave, or can sta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1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B808-506F-490A-9038-00D14D6ECF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29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ommission does not recommend any particular radiation protectio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riter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29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decision must be taken by the authorities on a case by case basis taking into account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evailing circumstanc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.e. 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29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 residual level of exposure in the affected plac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29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 conditions and means to maintain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  <a:ea typeface="Arial"/>
              </a:rPr>
              <a:t>sustainable societal and economic living condi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the affected population in these pla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45"/>
                </a:solidFill>
                <a:latin typeface="Arial"/>
                <a:ea typeface="Arial"/>
              </a:rPr>
              <a:t>Permanent relocation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27B1-89C8-48C6-8F04-4417CE8F0B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5C46-DB89-482C-8D80-65C340C142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53"/>
                </a:solidFill>
                <a:latin typeface="Arial"/>
                <a:ea typeface="Arial"/>
              </a:rPr>
              <a:t>Content</a:t>
            </a:r>
            <a:br>
              <a:rPr sz="3200"/>
            </a:br>
            <a:br>
              <a:rPr sz="20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72880" indent="-27288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From ICRP 60 to ICRP 10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546120" indent="-27324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Exposure situa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546120" indent="-27324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Optimization of protec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546120" indent="-27324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Dose constraints and reference leve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Management of emergency exposure situa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Transition from an emergency to an existing exposure situ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Management of existing exposure situa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Chernobyl experien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  <a:ea typeface="Arial"/>
              </a:rPr>
              <a:t>good characterizat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f the radiological situation of the environment, foodstuffs, goods and peop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ions have reduced exposure levels to levels where habitation can be allowed living on an ongoing basi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40120" indent="-2401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viduals have returned from evacuation and temporary relocation or they are in an area that was never lef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 organization of public authorities (national and local) adapted to the situ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setting up of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  <a:ea typeface="Arial"/>
              </a:rPr>
              <a:t>the conditions and means for the involvement of local authorities and professionals and the local populat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decisions and actions for the rehabilitation of living conditions in the affected are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0">
              <a:lnSpc>
                <a:spcPct val="100000"/>
              </a:lnSpc>
              <a:spcBef>
                <a:spcPts val="300"/>
              </a:spcBef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0" algn="ctr">
              <a:lnSpc>
                <a:spcPct val="100000"/>
              </a:lnSpc>
              <a:spcBef>
                <a:spcPts val="4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6" name="Rectangle 2" descr=""/>
          <p:cNvPicPr/>
          <p:nvPr/>
        </p:nvPicPr>
        <p:blipFill>
          <a:blip r:embed="rId1"/>
          <a:stretch/>
        </p:blipFill>
        <p:spPr>
          <a:xfrm>
            <a:off x="-6480" y="530280"/>
            <a:ext cx="9156960" cy="1000080"/>
          </a:xfrm>
          <a:prstGeom prst="rect">
            <a:avLst/>
          </a:prstGeom>
          <a:ln w="0">
            <a:noFill/>
          </a:ln>
        </p:spPr>
      </p:pic>
      <p:sp>
        <p:nvSpPr>
          <p:cNvPr id="807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1C3E-E301-4247-9A4C-AF80F6A639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5"/>
                </a:solidFill>
                <a:latin typeface="Arial"/>
                <a:ea typeface="Arial"/>
              </a:rPr>
              <a:t>Return from evacuation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The Commission does not recommend any particular radiation protection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criterion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  <a:ea typeface="Arial"/>
              </a:rPr>
              <a:t>Decision to allow return rests with authoriti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  <a:ea typeface="Arial"/>
              </a:rPr>
              <a:t>Consistent with reference levels for existing exposure situatio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  <a:ea typeface="Arial"/>
              </a:rPr>
              <a:t>Ability to provide: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24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  <a:ea typeface="Arial"/>
              </a:rPr>
              <a:t>Protection against potential health consequenc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24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  <a:ea typeface="Arial"/>
              </a:rPr>
              <a:t>Sustainable living conditions including respectable lifestyles and livelihood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  <a:ea typeface="Arial"/>
              </a:rPr>
              <a:t>Individual choice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8EDE-994E-4B43-9086-A30CFA0B09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3"/>
          <p:cNvSpPr/>
          <p:nvPr/>
        </p:nvSpPr>
        <p:spPr>
          <a:xfrm>
            <a:off x="3049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914400" indent="-45720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ving in a contaminated environment is a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  <a:ea typeface="Arial"/>
              </a:rPr>
              <a:t>complex situation generating a lot of concerns</a:t>
            </a:r>
            <a:r>
              <a:rPr b="1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mong the affected popul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the long term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  <a:ea typeface="Arial"/>
              </a:rPr>
              <a:t>inges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is by far the dominant pathwa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posures are driven by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  <a:ea typeface="Arial"/>
              </a:rPr>
              <a:t>individual behaviours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the socio-economic situ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be effective protection strategies should include actions implemented by authorities at the national and local levels and by the affected population itself =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  <a:ea typeface="Arial"/>
              </a:rPr>
              <a:t>self help protection ac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the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  <a:ea typeface="Arial"/>
              </a:rPr>
              <a:t>responsibility of authoriti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establish programmes for continuous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  <a:ea typeface="Arial"/>
              </a:rPr>
              <a:t>radiation monitoring, health surveillance, information and education of the popul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Rectangle 2"/>
          <p:cNvSpPr/>
          <p:nvPr/>
        </p:nvSpPr>
        <p:spPr>
          <a:xfrm>
            <a:off x="0" y="3808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GB" sz="2800" spc="-1" strike="noStrike">
                <a:solidFill>
                  <a:srgbClr val="000053"/>
                </a:solidFill>
                <a:latin typeface="Arial"/>
              </a:rPr>
              <a:t>Living in contaminated area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BAEF-9283-4128-9106-5CFCE13C2C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5"/>
                </a:solidFill>
                <a:latin typeface="Arial"/>
                <a:ea typeface="Arial"/>
              </a:rPr>
              <a:t>Self-help protection act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8088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53"/>
                </a:solidFill>
                <a:latin typeface="Arial"/>
              </a:rPr>
              <a:t>Self help protection action </a:t>
            </a:r>
            <a:r>
              <a:rPr b="0" lang="en-CA" sz="2000" spc="-1" strike="noStrike">
                <a:solidFill>
                  <a:srgbClr val="000053"/>
                </a:solidFill>
                <a:latin typeface="Arial"/>
              </a:rPr>
              <a:t>can only be implemented if people understand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Where, when and how </a:t>
            </a:r>
            <a:r>
              <a:rPr b="0" lang="en-CA" sz="2000" spc="-1" strike="noStrike">
                <a:solidFill>
                  <a:srgbClr val="000053"/>
                </a:solidFill>
                <a:latin typeface="Arial"/>
              </a:rPr>
              <a:t>they are exposed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What can be done practically </a:t>
            </a:r>
            <a:r>
              <a:rPr b="0" lang="en-CA" sz="2000" spc="-1" strike="noStrike">
                <a:solidFill>
                  <a:srgbClr val="000058"/>
                </a:solidFill>
                <a:latin typeface="Arial"/>
                <a:ea typeface="Arial"/>
              </a:rPr>
              <a:t>to reduce their exposure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800000"/>
                </a:solidFill>
                <a:latin typeface="Arial"/>
                <a:ea typeface="Arial"/>
              </a:rPr>
              <a:t>      </a:t>
            </a:r>
            <a:r>
              <a:rPr b="1" lang="en-CA" sz="2000" spc="-1" strike="noStrike">
                <a:solidFill>
                  <a:srgbClr val="800000"/>
                </a:solidFill>
                <a:latin typeface="Arial"/>
                <a:ea typeface="Arial"/>
              </a:rPr>
              <a:t>- Basis of the radiation protection culture 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53"/>
                </a:solidFill>
                <a:latin typeface="Arial"/>
              </a:rPr>
              <a:t>Authorities</a:t>
            </a:r>
            <a:r>
              <a:rPr b="0" lang="en-CA" sz="2000" spc="-1" strike="noStrike">
                <a:solidFill>
                  <a:srgbClr val="000053"/>
                </a:solidFill>
                <a:latin typeface="Arial"/>
              </a:rPr>
              <a:t> should provid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 </a:t>
            </a: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Conditions and means for local monitor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 </a:t>
            </a: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General information on the exposure situ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 </a:t>
            </a: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Information on ways to reduce dos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Local forums involving the population, professionals and exper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53"/>
                </a:solidFill>
                <a:latin typeface="Arial"/>
              </a:rPr>
              <a:t>Local monitoring </a:t>
            </a:r>
            <a:r>
              <a:rPr b="0" lang="en-CA" sz="2000" spc="-1" strike="noStrike">
                <a:solidFill>
                  <a:srgbClr val="000053"/>
                </a:solidFill>
                <a:latin typeface="Arial"/>
              </a:rPr>
              <a:t>should be focused o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 </a:t>
            </a: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Ambient dose rates in living are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 </a:t>
            </a: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Concentrations of radionuclides in local foodstuff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 </a:t>
            </a:r>
            <a:r>
              <a:rPr b="0" lang="en-CA" sz="2000" spc="-1" strike="noStrike">
                <a:solidFill>
                  <a:srgbClr val="000053"/>
                </a:solidFill>
                <a:latin typeface="Arial"/>
                <a:ea typeface="ＭＳ Ｐゴシック"/>
              </a:rPr>
              <a:t>Internal exposure of peop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D44E-3D6F-4ABE-845C-74EC81F09F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5"/>
                </a:solidFill>
                <a:latin typeface="Arial"/>
                <a:ea typeface="Arial"/>
              </a:rPr>
              <a:t>Health surveillanc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800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</a:rPr>
              <a:t>Authorities should establish a health surveillance program ensuring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1800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</a:rPr>
              <a:t>The</a:t>
            </a:r>
            <a:r>
              <a:rPr b="1" lang="en-GB" sz="2000" spc="-1" strike="noStrike">
                <a:solidFill>
                  <a:srgbClr val="00005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follow up of individuals </a:t>
            </a:r>
            <a:r>
              <a:rPr b="0" lang="en-GB" sz="2000" spc="-1" strike="noStrike">
                <a:solidFill>
                  <a:srgbClr val="000053"/>
                </a:solidFill>
                <a:latin typeface="Arial"/>
              </a:rPr>
              <a:t>having received significant exposures during the emergency pha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1800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5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general medical monitoring </a:t>
            </a:r>
            <a:r>
              <a:rPr b="0" lang="en-GB" sz="2000" spc="-1" strike="noStrike">
                <a:solidFill>
                  <a:srgbClr val="000053"/>
                </a:solidFill>
                <a:latin typeface="Arial"/>
              </a:rPr>
              <a:t>of the popul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1800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</a:rPr>
              <a:t>The maintenance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of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health registries </a:t>
            </a:r>
            <a:r>
              <a:rPr b="0" lang="en-GB" sz="2000" spc="-1" strike="noStrike">
                <a:solidFill>
                  <a:srgbClr val="000053"/>
                </a:solidFill>
                <a:latin typeface="Arial"/>
              </a:rPr>
              <a:t>for potential epidemiological stud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800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horities should be prepared to modify protection strateg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FFD1-6781-47C3-9599-DA4698392B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877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53"/>
                </a:solidFill>
                <a:latin typeface="Arial"/>
              </a:rPr>
              <a:t>Management of contaminated foodstuffs </a:t>
            </a:r>
            <a:br>
              <a:rPr sz="2800"/>
            </a:br>
            <a:r>
              <a:rPr b="1" lang="en-GB" sz="2800" spc="-1" strike="noStrike">
                <a:solidFill>
                  <a:srgbClr val="000053"/>
                </a:solidFill>
                <a:latin typeface="Arial"/>
              </a:rPr>
              <a:t>and other commodities</a:t>
            </a:r>
            <a:br>
              <a:rPr sz="32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59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</a:rPr>
              <a:t>Long-term restrictions on the consumption of foodstuffs are difficult to maintain and conflicting with the sustainable development of contaminated territor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</a:rPr>
              <a:t>Authorities should set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contamination criteria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below or above the Guidelines Level of the Codex Alimentarius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53"/>
                </a:solidFill>
                <a:latin typeface="Arial"/>
              </a:rPr>
              <a:t>according the relative importance of the local foodstuffs in the diet of the population residing in the territories</a:t>
            </a:r>
            <a:r>
              <a:rPr b="0" lang="en-GB" sz="2400" spc="-1" strike="noStrike">
                <a:solidFill>
                  <a:srgbClr val="00005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</a:rPr>
              <a:t>Need to reconcile the interest of local farmers and the local population with those of consumers and the food distribution sector outside the affected territor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52A0-9077-4A46-9F76-CE25EB7144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Rectangle 2" descr=""/>
          <p:cNvPicPr/>
          <p:nvPr/>
        </p:nvPicPr>
        <p:blipFill>
          <a:blip r:embed="rId1"/>
          <a:stretch/>
        </p:blipFill>
        <p:spPr>
          <a:xfrm>
            <a:off x="1060560" y="225360"/>
            <a:ext cx="7907400" cy="615960"/>
          </a:xfrm>
          <a:prstGeom prst="rect">
            <a:avLst/>
          </a:prstGeom>
          <a:ln w="0">
            <a:noFill/>
          </a:ln>
        </p:spPr>
      </p:pic>
      <p:sp>
        <p:nvSpPr>
          <p:cNvPr id="824" name="PlaceHolder 1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Accid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26 April 1986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8"/>
                </a:solidFill>
                <a:latin typeface="Arial"/>
                <a:ea typeface="Arial"/>
              </a:rPr>
              <a:t>Individual dose criteria 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82000" indent="-522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8"/>
                </a:solidFill>
                <a:latin typeface="Arial"/>
                <a:ea typeface="Arial"/>
              </a:rPr>
              <a:t>1986: 100 mSv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82000" indent="-522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8"/>
                </a:solidFill>
                <a:latin typeface="Arial"/>
                <a:ea typeface="Arial"/>
              </a:rPr>
              <a:t>1987: 30 mSv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82000" indent="-5223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8"/>
                </a:solidFill>
                <a:latin typeface="Arial"/>
                <a:ea typeface="Arial"/>
              </a:rPr>
              <a:t>1988 and 1989: 25 mSv/yea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22720" indent="-5227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posal in </a:t>
            </a:r>
            <a:r>
              <a:rPr b="1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October 1988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f a 350 mSv lifetime projected dose (5 mSv x 70 years) as criterion for allowing permanent residence in the contaminated territori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82000" indent="-5223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350 mSv should include the dose received between April 1986 and December 198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82000" indent="-5223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350 mSv life time projected dose was also proposed for permanent relocation of the population if exceede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82000" indent="-52236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proposal should have been applied from January 1990 i.e. </a:t>
            </a:r>
            <a:r>
              <a:rPr b="1" lang="en-GB" sz="1800" spc="-1" strike="noStrike">
                <a:solidFill>
                  <a:srgbClr val="000053"/>
                </a:solidFill>
                <a:latin typeface="Arial"/>
                <a:ea typeface="Arial"/>
              </a:rPr>
              <a:t>3 years and 8 month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fter the accid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Rectangle 5"/>
          <p:cNvSpPr/>
          <p:nvPr/>
        </p:nvSpPr>
        <p:spPr>
          <a:xfrm>
            <a:off x="0" y="96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58"/>
                </a:solidFill>
                <a:latin typeface="Arial"/>
              </a:rPr>
              <a:t>Chernobyl experi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58"/>
                </a:solidFill>
                <a:latin typeface="Arial"/>
              </a:rPr>
              <a:t>From the emergency to the existing exposure situation (1)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B153-54B4-4D86-82D9-F06A049588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4"/>
          <p:cNvSpPr/>
          <p:nvPr/>
        </p:nvSpPr>
        <p:spPr>
          <a:xfrm>
            <a:off x="990720" y="5257800"/>
            <a:ext cx="7391160" cy="838080"/>
          </a:xfrm>
          <a:prstGeom prst="rect">
            <a:avLst/>
          </a:prstGeom>
          <a:solidFill>
            <a:srgbClr val="c8e3fb"/>
          </a:solidFill>
          <a:ln w="9360">
            <a:solidFill>
              <a:srgbClr val="065093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ng debate between the Centre and the Republics, which pushed for a 70 mSv lifetime projected dose as criterion for permanent relocation (1 mSv x 70 year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44784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inally republican laws were adopted in the early 90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67880" indent="-38376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f the average annual individual dose may exceed 5 mS/year the population must be relocat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67880" indent="-38376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f the average annual dose is ranging from 1 to 5 mSv/year voluntary relocation is possible with compensation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of relocation transferred to the individu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67880" indent="-38376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f the average individual dose is lower than 1 mSv/year periodic radiological control is implement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 algn="ctr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58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58"/>
                </a:solidFill>
                <a:latin typeface="Arial"/>
                <a:ea typeface="Arial"/>
              </a:rPr>
              <a:t>From April 1986 to December 1989 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verage individual dose over the period was estimated to be aroun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35 mSv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29" name="Rectangle 2" descr=""/>
          <p:cNvPicPr/>
          <p:nvPr/>
        </p:nvPicPr>
        <p:blipFill>
          <a:blip r:embed="rId1"/>
          <a:stretch/>
        </p:blipFill>
        <p:spPr>
          <a:xfrm>
            <a:off x="-6480" y="20160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830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FCEB-F614-4F00-88D2-57BA2FE8FB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Rectangle 2" descr=""/>
          <p:cNvPicPr/>
          <p:nvPr/>
        </p:nvPicPr>
        <p:blipFill>
          <a:blip r:embed="rId1"/>
          <a:stretch/>
        </p:blipFill>
        <p:spPr>
          <a:xfrm>
            <a:off x="1365120" y="-6480"/>
            <a:ext cx="7632720" cy="109692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involvement of local professionals and inhabitan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the implementation of the protection strategy is key to ensure the </a:t>
            </a:r>
            <a:r>
              <a:rPr b="1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effectiveness and sustainabi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the rehabilitation program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diation monitoring in contaminated territories is an </a:t>
            </a:r>
            <a:r>
              <a:rPr b="1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unavoidable dimens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ich is linked to all other dimensions involved in the improvement of living conditions : health, agriculture, social life,..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pluralis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sources of measurement (public and private local, regional and national actors) is important for ensuring </a:t>
            </a:r>
            <a:r>
              <a:rPr b="1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confide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the population in the result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</a:t>
            </a:r>
            <a:r>
              <a:rPr b="1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places for dialogu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important for the dissemination of </a:t>
            </a:r>
            <a:r>
              <a:rPr b="1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inform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nd the development of a </a:t>
            </a:r>
            <a:r>
              <a:rPr b="1" lang="en-GB" sz="2000" spc="-1" strike="noStrike">
                <a:solidFill>
                  <a:srgbClr val="000053"/>
                </a:solidFill>
                <a:latin typeface="Arial"/>
                <a:ea typeface="Arial"/>
              </a:rPr>
              <a:t>common langu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etween all involved stakehold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Rectangle 2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58"/>
                </a:solidFill>
                <a:latin typeface="Arial"/>
              </a:rPr>
              <a:t>Chernobyl experi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53"/>
                </a:solidFill>
                <a:latin typeface="Arial"/>
              </a:rPr>
              <a:t>Management of the exiting exposure situation</a:t>
            </a:r>
            <a:br>
              <a:rPr sz="2400"/>
            </a:br>
            <a:br>
              <a:rPr sz="20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4C14-872F-45A3-90EF-4080B1988F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45"/>
                </a:solidFill>
                <a:latin typeface="Arial"/>
                <a:ea typeface="Arial"/>
              </a:rPr>
              <a:t>Summary (1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3045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mergency Exposure Situ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ctions driven by urgenc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entralized decision mak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aracterization of the radiological situ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ference levels in the range of 20-100 mSv/yea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5105160" y="137124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isting Exposure Situ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ctions to improve living condit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centralized decision mak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help protectio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ference levels in the lower part of 1-20 mSv/yea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Right Arrow 6"/>
          <p:cNvSpPr/>
          <p:nvPr/>
        </p:nvSpPr>
        <p:spPr>
          <a:xfrm>
            <a:off x="4038480" y="1828800"/>
            <a:ext cx="838440" cy="3886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ment Decis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F488-BA1A-42A8-AFA0-2CA6ED1EFE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3"/>
                </a:solidFill>
                <a:latin typeface="Arial"/>
                <a:ea typeface="Arial"/>
              </a:rPr>
              <a:t>ICRP Publications 103, 109 &amp; 111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91" name="Content Placeholder 7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2590560" cy="379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2" name="Content Placeholder 7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617920" cy="381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3" name="Picture 4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2494080" cy="381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4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7141-217B-4C42-BE12-2F81B63E8E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45"/>
                </a:solidFill>
                <a:latin typeface="Arial"/>
                <a:ea typeface="Arial"/>
              </a:rPr>
              <a:t>Summary (2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8377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CRP Publications 109 and 111 are proposing </a:t>
            </a:r>
            <a:r>
              <a:rPr b="1" lang="en-US" sz="2000" spc="-1" strike="noStrike">
                <a:solidFill>
                  <a:srgbClr val="000045"/>
                </a:solidFill>
                <a:latin typeface="Arial"/>
                <a:ea typeface="Arial"/>
              </a:rPr>
              <a:t>a flexible framework for guiding ac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case of a nuclear accident or a radiological emergenc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key guidance are to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void doses above 100 mSv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ep and reduce exposure  ALARA all the ti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gage affected people in the management of the situ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 radiation protection culture among the affected peop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opt 1 mSv/year as a long term objectiv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7924680" y="6324480"/>
            <a:ext cx="762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B47A-026E-4195-B827-BD60BA6CF18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18" descr="ICRP Logo.gif"/>
          <p:cNvPicPr/>
          <p:nvPr/>
        </p:nvPicPr>
        <p:blipFill>
          <a:blip r:embed="rId2"/>
          <a:stretch/>
        </p:blipFill>
        <p:spPr>
          <a:xfrm>
            <a:off x="1279440" y="1901880"/>
            <a:ext cx="6712200" cy="4286160"/>
          </a:xfrm>
          <a:prstGeom prst="rect">
            <a:avLst/>
          </a:prstGeom>
          <a:ln w="0">
            <a:noFill/>
          </a:ln>
        </p:spPr>
      </p:pic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0" y="4495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ww.icrp.org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1497-590A-4387-A710-7D098CD667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53"/>
                </a:solidFill>
                <a:latin typeface="Arial"/>
                <a:ea typeface="Arial"/>
              </a:rPr>
              <a:t>Earlier guidance for the protection </a:t>
            </a:r>
            <a:br>
              <a:rPr sz="2800"/>
            </a:br>
            <a:r>
              <a:rPr b="1" lang="en-GB" sz="2800" spc="-1" strike="noStrike">
                <a:solidFill>
                  <a:srgbClr val="000053"/>
                </a:solidFill>
                <a:latin typeface="Arial"/>
                <a:ea typeface="Arial"/>
              </a:rPr>
              <a:t>of the public in the event of a nuclear accident </a:t>
            </a:r>
            <a:br>
              <a:rPr sz="3200"/>
            </a:br>
            <a:br>
              <a:rPr sz="20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100000"/>
              </a:lnSpc>
              <a:spcAft>
                <a:spcPts val="1800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53"/>
                </a:solidFill>
                <a:latin typeface="Arial"/>
                <a:ea typeface="Arial"/>
              </a:rPr>
              <a:t>ICRP Publication 40 (1984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546120" indent="-27324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53"/>
                </a:solidFill>
                <a:latin typeface="Arial"/>
                <a:ea typeface="Arial"/>
              </a:rPr>
              <a:t>Categorization of accidents in three sequential phases: early, intermediate and recovery phas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546120" indent="-27324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53"/>
                </a:solidFill>
                <a:latin typeface="Arial"/>
                <a:ea typeface="Arial"/>
              </a:rPr>
              <a:t>Decisions about applying a countermeasure should balance social costs and the reduction of risk that will resul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Aft>
                <a:spcPts val="1800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53"/>
                </a:solidFill>
                <a:latin typeface="Arial"/>
                <a:ea typeface="Arial"/>
              </a:rPr>
              <a:t>Publication 63 (199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546120" indent="-27324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53"/>
                </a:solidFill>
                <a:latin typeface="Arial"/>
                <a:ea typeface="Arial"/>
              </a:rPr>
              <a:t>Categorization of accidents in three sequential stages: pre-release, release and post-release stag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546120" indent="-27324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53"/>
                </a:solidFill>
                <a:latin typeface="Arial"/>
                <a:ea typeface="Arial"/>
              </a:rPr>
              <a:t>Recommendations of quantitative intervention levels for the introduction of protective action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53"/>
                </a:solidFill>
                <a:latin typeface="Arial"/>
                <a:ea typeface="Arial"/>
              </a:rPr>
              <a:t>Both Publications are giving general principles for planning protective actions mainly during the early and intermediate phas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54612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53"/>
                </a:solidFill>
                <a:latin typeface="Arial"/>
                <a:ea typeface="Arial"/>
              </a:rPr>
              <a:t>Main </a:t>
            </a:r>
            <a:r>
              <a:rPr b="1" lang="en-GB" sz="2800" spc="-1" strike="noStrike">
                <a:solidFill>
                  <a:srgbClr val="000053"/>
                </a:solidFill>
                <a:latin typeface="Arial"/>
                <a:ea typeface="Arial"/>
              </a:rPr>
              <a:t>evolution from ICRP 60 to ICRP 103</a:t>
            </a:r>
            <a:br>
              <a:rPr sz="3200"/>
            </a:br>
            <a:br>
              <a:rPr sz="20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3"/>
                </a:solidFill>
                <a:latin typeface="Arial"/>
                <a:ea typeface="Arial"/>
              </a:rPr>
              <a:t>No more distinction between </a:t>
            </a:r>
            <a:r>
              <a:rPr b="1" lang="en-US" sz="1800" spc="-1" strike="noStrike">
                <a:solidFill>
                  <a:srgbClr val="000053"/>
                </a:solidFill>
                <a:latin typeface="Arial"/>
                <a:ea typeface="Arial"/>
              </a:rPr>
              <a:t>practices</a:t>
            </a:r>
            <a:r>
              <a:rPr b="0" lang="en-US" sz="1800" spc="-1" strike="noStrike">
                <a:solidFill>
                  <a:srgbClr val="000053"/>
                </a:solidFill>
                <a:latin typeface="Arial"/>
                <a:ea typeface="Arial"/>
              </a:rPr>
              <a:t> and </a:t>
            </a:r>
            <a:r>
              <a:rPr b="1" lang="en-US" sz="1800" spc="-1" strike="noStrike">
                <a:solidFill>
                  <a:srgbClr val="000053"/>
                </a:solidFill>
                <a:latin typeface="Arial"/>
                <a:ea typeface="Arial"/>
              </a:rPr>
              <a:t>interventions</a:t>
            </a:r>
            <a:r>
              <a:rPr b="0" lang="en-US" sz="1800" spc="-1" strike="noStrike">
                <a:solidFill>
                  <a:srgbClr val="000053"/>
                </a:solidFill>
                <a:latin typeface="Arial"/>
                <a:ea typeface="Arial"/>
              </a:rPr>
              <a:t>. The two concepts are replaced by three generic exposure situations, which cover all conceivable exposure situations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3"/>
                </a:solidFill>
                <a:latin typeface="Arial"/>
                <a:ea typeface="Arial"/>
              </a:rPr>
              <a:t>planned exposure situations </a:t>
            </a:r>
            <a:r>
              <a:rPr b="0" lang="en-US" sz="1800" spc="-1" strike="noStrike">
                <a:solidFill>
                  <a:srgbClr val="000053"/>
                </a:solidFill>
                <a:latin typeface="Arial"/>
                <a:ea typeface="Arial"/>
              </a:rPr>
              <a:t>(identical to practices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3"/>
                </a:solidFill>
                <a:latin typeface="Arial"/>
                <a:ea typeface="Arial"/>
              </a:rPr>
              <a:t>emergency exposure situa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Aft>
                <a:spcPts val="1199"/>
              </a:spcAft>
              <a:buClr>
                <a:srgbClr val="08376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3"/>
                </a:solidFill>
                <a:latin typeface="Arial"/>
                <a:ea typeface="Arial"/>
              </a:rPr>
              <a:t>existing exposure situa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Aft>
                <a:spcPts val="1800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3"/>
                </a:solidFill>
                <a:latin typeface="Arial"/>
                <a:ea typeface="Arial"/>
              </a:rPr>
              <a:t>The principles of justification and optimization apply in the same way to the three exposure situa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Aft>
                <a:spcPts val="1800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3"/>
                </a:solidFill>
                <a:latin typeface="Arial"/>
                <a:ea typeface="Arial"/>
              </a:rPr>
              <a:t>Dose limits apply only to planned exposure situa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Aft>
                <a:spcPts val="1800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3"/>
                </a:solidFill>
                <a:latin typeface="Arial"/>
                <a:ea typeface="Arial"/>
              </a:rPr>
              <a:t>Boundaries exist for optimization as either dose constraints or reference level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Aft>
                <a:spcPts val="1800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53"/>
                </a:solidFill>
                <a:latin typeface="Arial"/>
                <a:ea typeface="Arial"/>
              </a:rPr>
              <a:t>The concepts of action levels and intervention levels are abandone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1A1D-8B9A-408B-ADD1-3F916CF863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5"/>
          <p:cNvSpPr/>
          <p:nvPr/>
        </p:nvSpPr>
        <p:spPr>
          <a:xfrm>
            <a:off x="838080" y="5410080"/>
            <a:ext cx="8001000" cy="685800"/>
          </a:xfrm>
          <a:prstGeom prst="rect">
            <a:avLst/>
          </a:prstGeom>
          <a:solidFill>
            <a:srgbClr val="c8e3fb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53"/>
                </a:solidFill>
                <a:latin typeface="Arial"/>
                <a:ea typeface="Arial"/>
              </a:rPr>
              <a:t>The three exposure situations</a:t>
            </a:r>
            <a:br>
              <a:rPr sz="2800"/>
            </a:br>
            <a:r>
              <a:rPr b="1" lang="en-GB" sz="2800" spc="-1" strike="noStrike">
                <a:solidFill>
                  <a:srgbClr val="000053"/>
                </a:solidFill>
                <a:latin typeface="Arial"/>
                <a:ea typeface="Arial"/>
              </a:rPr>
              <a:t>(Pub 103, § 176) </a:t>
            </a:r>
            <a:br>
              <a:rPr sz="3200"/>
            </a:br>
            <a:br>
              <a:rPr sz="20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29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Planned exposure situations </a:t>
            </a:r>
            <a:r>
              <a:rPr b="0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are</a:t>
            </a:r>
            <a:r>
              <a:rPr b="1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situations involving the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deliberate introduction </a:t>
            </a:r>
            <a:r>
              <a:rPr b="0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and operation of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sources</a:t>
            </a:r>
            <a:r>
              <a:rPr b="0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29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Emergency exposure situations </a:t>
            </a:r>
            <a:r>
              <a:rPr b="0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are</a:t>
            </a:r>
            <a:r>
              <a:rPr b="1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situations that may occur during the operation of a planned situation, or from a malicious act, or from any unexpected situation, and require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urgent actions </a:t>
            </a:r>
            <a:r>
              <a:rPr b="0" lang="en-US" sz="2000" spc="-1" strike="noStrike">
                <a:solidFill>
                  <a:srgbClr val="000058"/>
                </a:solidFill>
                <a:latin typeface="Arial"/>
                <a:ea typeface="Arial"/>
              </a:rPr>
              <a:t>in order to avoid or reduce undesirable consequen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Existing exposure situations </a:t>
            </a:r>
            <a:r>
              <a:rPr b="0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are</a:t>
            </a:r>
            <a:r>
              <a:rPr b="1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exposure</a:t>
            </a:r>
            <a:r>
              <a:rPr b="1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situations that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already exist when a decision on control has to be taken</a:t>
            </a:r>
            <a:r>
              <a:rPr b="0" lang="en-US" sz="2000" spc="-1" strike="noStrike">
                <a:solidFill>
                  <a:srgbClr val="000053"/>
                </a:solidFill>
                <a:latin typeface="Arial"/>
                <a:ea typeface="Arial"/>
              </a:rPr>
              <a:t>, including prolonged exposure situations after emergencies.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ommission defines prolonged exposures resulting from nuclear accidents or radiation emergencies as existing exposure situation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00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9569-5A62-4CAC-B25E-A9AD42958E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53"/>
                </a:solidFill>
                <a:latin typeface="Arial"/>
                <a:ea typeface="Arial"/>
              </a:rPr>
              <a:t>What is an exposure situation ?</a:t>
            </a:r>
            <a:br>
              <a:rPr sz="20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304920" y="2819520"/>
            <a:ext cx="20574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Constanti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Rectangle 6"/>
          <p:cNvSpPr/>
          <p:nvPr/>
        </p:nvSpPr>
        <p:spPr>
          <a:xfrm>
            <a:off x="3429000" y="2819520"/>
            <a:ext cx="18288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Constantia"/>
              </a:rPr>
              <a:t>Pathway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Rectangle 7"/>
          <p:cNvSpPr/>
          <p:nvPr/>
        </p:nvSpPr>
        <p:spPr>
          <a:xfrm>
            <a:off x="6400800" y="2819520"/>
            <a:ext cx="22860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Constantia"/>
              </a:rPr>
              <a:t>Exposed individu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ZoneTexte 8"/>
          <p:cNvSpPr/>
          <p:nvPr/>
        </p:nvSpPr>
        <p:spPr>
          <a:xfrm>
            <a:off x="1371600" y="274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36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Flèche vers la droite 9"/>
          <p:cNvSpPr/>
          <p:nvPr/>
        </p:nvSpPr>
        <p:spPr>
          <a:xfrm>
            <a:off x="5410080" y="2971800"/>
            <a:ext cx="825480" cy="7891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d9d9d9"/>
          </a:solidFill>
          <a:ln w="9360">
            <a:solidFill>
              <a:srgbClr val="065093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Flèche vers la droite 10"/>
          <p:cNvSpPr/>
          <p:nvPr/>
        </p:nvSpPr>
        <p:spPr>
          <a:xfrm>
            <a:off x="2514600" y="2971800"/>
            <a:ext cx="825480" cy="7891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d9d9d9"/>
          </a:solidFill>
          <a:ln w="9360">
            <a:solidFill>
              <a:srgbClr val="065093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161E-9871-4A68-AD48-A2BD4BD651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45"/>
                </a:solidFill>
                <a:latin typeface="Arial"/>
                <a:ea typeface="Arial"/>
              </a:rPr>
              <a:t>Characteristics of the source </a:t>
            </a:r>
            <a:br>
              <a:rPr sz="2800"/>
            </a:br>
            <a:r>
              <a:rPr b="1" lang="en-GB" sz="2800" spc="-1" strike="noStrike">
                <a:solidFill>
                  <a:srgbClr val="000045"/>
                </a:solidFill>
                <a:latin typeface="Arial"/>
                <a:ea typeface="Arial"/>
              </a:rPr>
              <a:t>and the exposure situations</a:t>
            </a:r>
            <a:br>
              <a:rPr sz="2800"/>
            </a:br>
            <a:br>
              <a:rPr sz="3200"/>
            </a:br>
            <a:br>
              <a:rPr sz="20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53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295280" y="1523880"/>
          <a:ext cx="6553440" cy="4419720"/>
        </p:xfrm>
        <a:graphic>
          <a:graphicData uri="http://schemas.openxmlformats.org/drawingml/2006/table">
            <a:tbl>
              <a:tblPr/>
              <a:tblGrid>
                <a:gridCol w="2351160"/>
                <a:gridCol w="420228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53"/>
                          </a:solidFill>
                          <a:latin typeface="Arial"/>
                        </a:rPr>
                        <a:t>Plan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eliberately introduced 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ully under 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53"/>
                          </a:solidFill>
                          <a:latin typeface="Arial"/>
                        </a:rPr>
                        <a:t>Emerg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Loss of contr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or unexpectedly introduc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53"/>
                          </a:solidFill>
                          <a:latin typeface="Arial"/>
                        </a:rPr>
                        <a:t>Exi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Already there when decision to 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716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78CD-5909-464C-9A5C-2F75EE1854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5"/>
                </a:solidFill>
                <a:latin typeface="Arial"/>
                <a:ea typeface="Arial"/>
              </a:rPr>
              <a:t>Time factor – Planned exposure situations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914400" y="15998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ed from the beginning, and protective actions taken on the basis of planning to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prospectively control the source and the pathw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ective actions can be implemented at any time (to prevent exposure to occur or to mitigate exposure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ective actions are effective immediately when implemen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Espace réservé du numéro de diapositive 4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015E-DC32-4C7A-9C57-869A8850A3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8:28:20Z</dcterms:created>
  <dc:creator>Chris</dc:creator>
  <dc:description/>
  <dc:language>en-US</dc:language>
  <cp:lastModifiedBy>Jacques LOCHARD</cp:lastModifiedBy>
  <dcterms:modified xsi:type="dcterms:W3CDTF">2012-02-06T12:53:57Z</dcterms:modified>
  <cp:revision>239</cp:revision>
  <dc:subject/>
  <dc:title>Title Slide</dc:title>
</cp:coreProperties>
</file>