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d624"/>
                </a:solidFill>
                <a:latin typeface="Verdana"/>
              </a:rPr>
              <a:t>Click to move the slide</a:t>
            </a: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666720" y="4716360"/>
            <a:ext cx="533736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7"/>
          </p:nvPr>
        </p:nvSpPr>
        <p:spPr>
          <a:xfrm>
            <a:off x="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18"/>
          </p:nvPr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2980-DAC0-42C2-99CE-1F7A1ACF3D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390D-FAF1-495B-AB72-07D3FBAFF0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66720" y="4719600"/>
            <a:ext cx="53373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626D-C29D-43C7-AA68-A987246845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66720" y="4719600"/>
            <a:ext cx="53373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5381-5EFA-4635-B4B2-EECB879A3A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66720" y="4719600"/>
            <a:ext cx="53373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6FC9-736F-467F-8A8E-9E5688135E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66720" y="4719600"/>
            <a:ext cx="53373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8BFE-B38D-4D98-A50A-B016D50F96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69680" y="4765320"/>
            <a:ext cx="53355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36BB-53C5-4688-BC3A-B98D32A566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720" y="4719600"/>
            <a:ext cx="53373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A6D-B3BE-4789-8DE5-FD1D00BE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FC3-9AED-4B9F-A46F-3D605F4D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1BB-FB66-4F59-B408-976FFB15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80D-7BA4-4C27-8649-D4CE4295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3044-E857-486F-8E8D-E1D92F76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6481-1C32-4B63-93FF-630D7592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9242-314A-41EA-A612-865FCBDA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107F-4513-40CD-BCF6-162AEEE8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13A7-2249-4162-84B5-2C7ADEDF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7660-C320-4748-BFB9-5E0FC324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6CB7-616C-4275-9C1F-F25B94B0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086-6F69-4EA7-B72B-57C5BF0E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CCA5-D973-46D0-835C-819DD4B3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F13A-40FE-43D8-9A78-C21EA34F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A687-2645-41EC-95A5-B4621515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5D74-FA74-4ECC-B5DF-861EC493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97D7-A2B7-42B2-8210-12C4D2C2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EF04C-6BDE-4E08-A790-DE0E8674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4C61E-F206-4899-B511-A008AA5B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8C1E5-A002-4F1A-A5F0-5E75C176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C0B61-D3B4-407F-8C54-B504F4F7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925C0-184E-4D2F-9B3B-87F9852C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02E-D22A-4290-8326-6AEE44E3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8DCAC-67E0-4476-98EF-4E5BCF54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164DA-0630-4DAB-A586-6054F8B0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0B26A-3492-4ABF-B589-10480E0A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0A37E-1D62-4EB1-8F71-1D702696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61A7C-B8F2-4849-8706-88B4BB85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3A906-1502-4227-B599-3ADE71A0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29790-5D9A-4442-AE1B-14055826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562A5-C149-41FB-95A9-82A98BD6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6DA7C-DC6D-4BCF-AC5E-B181F186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A87CB-94C1-4D95-B1F1-A4B3DCEF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20E-2D41-4570-A795-CB9E1009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5D40F-F671-4F03-AB13-8E4CB5F7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5BA2B-2048-4CB9-BE35-E4D9D7EE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19E0B-75AD-4952-9C43-42D0A931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690AB-497F-4F59-8114-F51114C4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18EE2-99BE-47EF-8E86-0C184058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180F5-F346-4999-8DC4-93706A34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76F32-D0DD-4975-A83A-CD38C886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3B2A5-39D2-47F5-A256-6582CC49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120E0-3D99-4706-BDEF-8557B272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90951-1DEE-4544-916C-13956E3A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DF7-48C4-413D-9C9A-80F6475A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7843E-2454-4CEF-AF5C-DCFB167A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7DDAE-4895-4339-B20B-E5BF65A2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8FC7E-152C-4573-B309-F4B9B238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38C5E-1B07-483D-AC82-F2BDA79C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F68BA-1EA6-4CF0-B75F-778A9642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3044B-E5D8-4DCA-A64C-071D4590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99D78-967A-4419-9C95-F1AC2E04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9FD3D-88AC-42AB-A649-FC6CFD46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9D20B-9D36-48A2-933E-4FE8EB7D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6EA3D-5AB0-4E22-8FEF-A3626DCF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8CF-FED5-48B2-A650-E0A24DB4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835C4-CA30-456C-8899-1607F258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C5B-5051-4A8C-B8D3-93E69FCC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212-E282-4115-A6EF-D5E07752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86A9-7F59-4E6F-94A9-95E06ADA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0" r="0" b="6640"/>
          <a:stretch/>
        </p:blipFill>
        <p:spPr>
          <a:xfrm>
            <a:off x="3963960" y="258840"/>
            <a:ext cx="1436760" cy="9381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-181080" y="-531720"/>
            <a:ext cx="1584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42920" y="-53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264200" y="1239840"/>
            <a:ext cx="620640" cy="0"/>
          </a:xfrm>
          <a:prstGeom prst="line">
            <a:avLst/>
          </a:prstGeom>
          <a:ln w="38880">
            <a:solidFill>
              <a:srgbClr val="ee8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4268880" y="6597720"/>
            <a:ext cx="663480" cy="260280"/>
          </a:xfrm>
          <a:prstGeom prst="rect">
            <a:avLst/>
          </a:prstGeom>
          <a:solidFill>
            <a:srgbClr val="ee8032"/>
          </a:solidFill>
          <a:ln w="9360">
            <a:solidFill>
              <a:srgbClr val="ee803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90000" tIns="118800" bIns="46800" anchor="ctr">
            <a:noAutofit/>
          </a:bodyPr>
          <a:p>
            <a:pPr algn="ctr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AFF0-DB28-4111-A9E7-8C5F6659D6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LOGO CE-EN-quadri.eps"/>
          <p:cNvPicPr/>
          <p:nvPr/>
        </p:nvPicPr>
        <p:blipFill>
          <a:blip r:embed="rId2"/>
          <a:srcRect l="0" t="0" r="0" b="3504"/>
          <a:stretch/>
        </p:blipFill>
        <p:spPr>
          <a:xfrm>
            <a:off x="3968640" y="258840"/>
            <a:ext cx="1436760" cy="963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95280" y="2565360"/>
            <a:ext cx="50403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d624"/>
                </a:solidFill>
                <a:latin typeface="Verdana"/>
              </a:rPr>
              <a:t>Click to edit the title text format</a:t>
            </a: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A. Janssens DG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87AF-80C1-48C3-BE85-022998EE99B8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1239840"/>
            <a:ext cx="620640" cy="0"/>
          </a:xfrm>
          <a:prstGeom prst="line">
            <a:avLst/>
          </a:prstGeom>
          <a:ln w="38880">
            <a:solidFill>
              <a:srgbClr val="ee8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CDB0-29B8-4C13-B83D-8A13C1A508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81080" y="-531720"/>
            <a:ext cx="1584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-53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0" b="6640"/>
          <a:stretch/>
        </p:blipFill>
        <p:spPr>
          <a:xfrm>
            <a:off x="3963960" y="258840"/>
            <a:ext cx="1436760" cy="938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264200" y="1239840"/>
            <a:ext cx="620640" cy="0"/>
          </a:xfrm>
          <a:prstGeom prst="line">
            <a:avLst/>
          </a:prstGeom>
          <a:ln w="38880">
            <a:solidFill>
              <a:srgbClr val="ee8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68880" y="6659640"/>
            <a:ext cx="601560" cy="198360"/>
          </a:xfrm>
          <a:prstGeom prst="rect">
            <a:avLst/>
          </a:prstGeom>
          <a:solidFill>
            <a:srgbClr val="ee8032"/>
          </a:solidFill>
          <a:ln w="9360">
            <a:solidFill>
              <a:srgbClr val="ee803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90000" tIns="118800" bIns="46800" anchor="ctr">
            <a:noAutofit/>
          </a:bodyPr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95280" y="2565360"/>
            <a:ext cx="50403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d624"/>
                </a:solidFill>
                <a:latin typeface="Verdana"/>
              </a:rPr>
              <a:t>Click to edit the title text format</a:t>
            </a: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0105-1FBE-4A55-B371-A39E4AAB199B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669" t="0" r="-173" b="2751"/>
          <a:stretch/>
        </p:blipFill>
        <p:spPr>
          <a:xfrm>
            <a:off x="3240" y="968400"/>
            <a:ext cx="4265640" cy="5894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LOGO CE-EN-quadri.eps"/>
          <p:cNvPicPr/>
          <p:nvPr/>
        </p:nvPicPr>
        <p:blipFill>
          <a:blip r:embed="rId3"/>
          <a:srcRect l="0" t="0" r="0" b="3504"/>
          <a:stretch/>
        </p:blipFill>
        <p:spPr>
          <a:xfrm>
            <a:off x="3968640" y="258840"/>
            <a:ext cx="1436760" cy="96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264200" y="1239840"/>
            <a:ext cx="620640" cy="0"/>
          </a:xfrm>
          <a:prstGeom prst="line">
            <a:avLst/>
          </a:prstGeom>
          <a:ln w="38880">
            <a:solidFill>
              <a:srgbClr val="ee8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268880" y="6659640"/>
            <a:ext cx="601560" cy="198360"/>
          </a:xfrm>
          <a:prstGeom prst="rect">
            <a:avLst/>
          </a:prstGeom>
          <a:solidFill>
            <a:srgbClr val="ee8032"/>
          </a:solidFill>
          <a:ln w="9360">
            <a:solidFill>
              <a:srgbClr val="ee803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90000" tIns="118800" bIns="46800" anchor="ctr">
            <a:noAutofit/>
          </a:bodyPr>
          <a:p>
            <a:pPr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8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D5C7-D80A-45CB-BC56-F327BC33F8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181080" y="-531720"/>
            <a:ext cx="1584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42920" y="-53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energy/nuclear/radiation_protection/doc/art31/" TargetMode="External"/><Relationship Id="rId2" Type="http://schemas.openxmlformats.org/officeDocument/2006/relationships/hyperlink" Target="http://ec.europa.eu/energy/nuclear/radiation_protection/doc/art31/2010_02_24_draft_euratom_basic_safety_standards_directive.pdf" TargetMode="External"/><Relationship Id="rId3" Type="http://schemas.openxmlformats.org/officeDocument/2006/relationships/hyperlink" Target="http://ec.europa.eu/energy/nuclear/radiation_protection/doc/art31/2010_02_24_opinion_on_bss.pdf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95280" y="2565360"/>
            <a:ext cx="50403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624"/>
                </a:solidFill>
                <a:latin typeface="Verdana"/>
              </a:rPr>
              <a:t>NERIS-ICRP WORKSHOP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EU Basic Safety Standards and European response to the Fukushima accident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4AF5-DAAB-45CC-A1A3-8BB882AFC5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Trebuchet MS"/>
              </a:rPr>
              <a:t>EC Reaction: ECURI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504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d5ec1"/>
                </a:solidFill>
                <a:latin typeface="Trebuchet MS"/>
              </a:rPr>
              <a:t>The </a:t>
            </a:r>
            <a:r>
              <a:rPr b="1" i="1" lang="en-GB" sz="2400" spc="-1" strike="noStrike">
                <a:solidFill>
                  <a:srgbClr val="2d5ec1"/>
                </a:solidFill>
                <a:latin typeface="Trebuchet MS"/>
              </a:rPr>
              <a:t>European Community Urgent Radiological Information Exchange or ECURIE</a:t>
            </a:r>
            <a:r>
              <a:rPr b="0" i="1" lang="en-GB" sz="2400" spc="-1" strike="noStrike">
                <a:solidFill>
                  <a:srgbClr val="2d5ec1"/>
                </a:solidFill>
                <a:latin typeface="Trebuchet MS"/>
              </a:rPr>
              <a:t> is the Commission’s official framework for informing member states of Radiological Emergenci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5ec1"/>
                </a:solidFill>
                <a:latin typeface="Trebuchet MS"/>
              </a:rPr>
              <a:t>It was set up by Council Decision 87/600/EURATOM in 1987 in the aftermath of the Chernobyl accident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5ec1"/>
                </a:solidFill>
                <a:latin typeface="Trebuchet MS"/>
              </a:rPr>
              <a:t>The ECURIE system is managed and operated by </a:t>
            </a:r>
            <a:r>
              <a:rPr b="1" i="1" lang="en-US" sz="2000" spc="-1" strike="noStrike">
                <a:solidFill>
                  <a:srgbClr val="2d5ec1"/>
                </a:solidFill>
                <a:latin typeface="Trebuchet MS"/>
              </a:rPr>
              <a:t>DG ENER D4 Radiation Protection Unit</a:t>
            </a:r>
            <a:r>
              <a:rPr b="1" lang="en-US" sz="2000" spc="-1" strike="noStrike">
                <a:solidFill>
                  <a:srgbClr val="2d5ec1"/>
                </a:solidFill>
                <a:latin typeface="Trebuchet MS"/>
              </a:rPr>
              <a:t> in Luxembourg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5ec1"/>
                </a:solidFill>
                <a:latin typeface="Trebuchet MS"/>
              </a:rPr>
              <a:t>ECURIE is on standby on a 24/7 basis; the officer on duty is prepared to forward any incoming information to Member States within an hour of receipt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5ec1"/>
                </a:solidFill>
                <a:latin typeface="Trebuchet MS"/>
              </a:rPr>
              <a:t>Activated in the morning of 12 March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5ec1"/>
                </a:solidFill>
                <a:latin typeface="Trebuchet MS"/>
              </a:rPr>
              <a:t>3 weeks 24 h active involvement (2-4 peopl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5ec1"/>
                </a:solidFill>
                <a:latin typeface="Trebuchet MS"/>
              </a:rPr>
              <a:t>Emergency team for information to other services and cabine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B4F-7973-4BCD-9597-9B195574CC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075040"/>
          </a:xfrm>
          <a:prstGeom prst="rect">
            <a:avLst/>
          </a:prstGeom>
          <a:solidFill>
            <a:srgbClr val="3166c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Trebuchet MS"/>
              </a:rPr>
              <a:t>Fukushima</a:t>
            </a:r>
            <a:br>
              <a:rPr sz="3900"/>
            </a:br>
            <a:r>
              <a:rPr b="0" lang="en-US" sz="3900" spc="-1" strike="noStrike">
                <a:solidFill>
                  <a:srgbClr val="ffff00"/>
                </a:solidFill>
                <a:latin typeface="Trebuchet MS"/>
              </a:rPr>
              <a:t>Impact on Europe and EC Actions:  </a:t>
            </a:r>
            <a:br>
              <a:rPr sz="3900"/>
            </a:br>
            <a:r>
              <a:rPr b="0" lang="en-US" sz="3000" spc="-1" strike="noStrike">
                <a:solidFill>
                  <a:srgbClr val="ffff00"/>
                </a:solidFill>
                <a:latin typeface="Trebuchet MS"/>
              </a:rPr>
              <a:t>Import control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4599000" cy="284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AA0-60F1-461A-A7CF-3E3569C961D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Import control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42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Concerns of EU citizens had an adverse effect on the market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Hence there was an urgent need to ensure harmonised criteria for: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food and feed,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ships and containers,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nd other good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For this purpose the Commission has issued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binding requirements on import checks on food and feed and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on-binding guidelines for the contamination checks on ships and container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The Commission will pursue 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international standards</a:t>
            </a: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 on permissible levels of contamination of goods, applicable in international trad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C60-A2BB-42B6-AB4F-00EF19BE6CE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gulation 3954/87/Euratom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Nuclide categor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4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isotopes of strontium, notably Sr-90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isotopes of iodine, notably I-131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alpha-emitting isotopes of plutonium and trans-plutonium elements, notably Pu-239, Am-241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All other nuclides of half-life greater than 10 days, notably Cs-134, Cs-137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C-14 and Tritium not included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4D8F-640F-4059-AFC0-B83BB249248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f5494"/>
                </a:solidFill>
                <a:latin typeface="Verdana"/>
              </a:rPr>
              <a:t>EU maximum permitted levels in foodstuffs</a:t>
            </a:r>
            <a:br>
              <a:rPr sz="1900"/>
            </a:br>
            <a:r>
              <a:rPr b="1" lang="en-US" sz="1900" spc="-1" strike="noStrike">
                <a:solidFill>
                  <a:srgbClr val="0f5494"/>
                </a:solidFill>
                <a:latin typeface="Verdana"/>
              </a:rPr>
              <a:t>(future accident)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262160" y="2133720"/>
          <a:ext cx="7164360" cy="41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2133720"/>
                    <a:ext cx="716436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260440" y="5016600"/>
            <a:ext cx="34545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y concentration i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onstitu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37FE-446E-46DF-8E80-1FD8FCA2842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Measures taken by the EC: 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Food and Fee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42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f5494"/>
                </a:solidFill>
                <a:latin typeface="Verdana"/>
              </a:rPr>
              <a:t>Regulation 3954/87 Euratom</a:t>
            </a: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 disproportionate for the import of food from a distant country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On 15 March DG SANCO recommends controls on food imported from Japa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5494"/>
                </a:solidFill>
                <a:latin typeface="Verdana"/>
              </a:rPr>
              <a:t>Maximum levels cf Regulation 3954/87 Euratom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The European Commission subsequently adopted implementing regulations, under general food safety legislation: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5494"/>
                </a:solidFill>
                <a:latin typeface="Verdana"/>
              </a:rPr>
              <a:t>on 25 March with reference to the pre-established maximum permitted levels of radioactivity for different categories of radionuclides laid down in </a:t>
            </a:r>
            <a:r>
              <a:rPr b="0" lang="en-US" sz="1500" spc="-1" strike="noStrike">
                <a:solidFill>
                  <a:srgbClr val="0f5494"/>
                </a:solidFill>
                <a:latin typeface="Verdana"/>
              </a:rPr>
              <a:t>Regulation 3954/87 Euratom</a:t>
            </a:r>
            <a:r>
              <a:rPr b="1" lang="en-US" sz="1500" spc="-1" strike="noStrike">
                <a:solidFill>
                  <a:srgbClr val="0f5494"/>
                </a:solidFill>
                <a:latin typeface="Verdana"/>
              </a:rPr>
              <a:t>, 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afec"/>
                </a:solidFill>
                <a:latin typeface="Trebuchet MS"/>
              </a:rPr>
              <a:t>Action levels in Japan for food and drinking water as well as restrictions on placing on the market of food from affected prefectures and coastal marine produce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afec"/>
                </a:solidFill>
                <a:latin typeface="Trebuchet MS"/>
              </a:rPr>
              <a:t>No levels for iodine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afec"/>
                </a:solidFill>
                <a:latin typeface="Trebuchet MS"/>
              </a:rPr>
              <a:t>For Cs-137-134: </a:t>
            </a:r>
            <a:r>
              <a:rPr b="1" lang="en-US" sz="1500" spc="-1" strike="noStrike">
                <a:solidFill>
                  <a:srgbClr val="00afec"/>
                </a:solidFill>
                <a:latin typeface="Trebuchet MS"/>
              </a:rPr>
              <a:t>500 Bq/kg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afec"/>
                </a:solidFill>
                <a:latin typeface="Verdana"/>
              </a:rPr>
              <a:t>Commitment from Japan to control export of food on the same basis</a:t>
            </a: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f5494"/>
                </a:solidFill>
                <a:latin typeface="Verdana"/>
              </a:rPr>
              <a:t>on 11 April (corrigendum on 13.4) amended implementing regulation incorporating the action levels introduced in Japan for iodine and caesium isotopes (as well as plutonium) after the Fukushima accident.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D5C-72A6-4718-B191-F03A0E0759D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" y="296640"/>
            <a:ext cx="78627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Measures taken by the EC: Food and Fee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072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5bab"/>
                </a:solidFill>
                <a:latin typeface="Trebuchet MS"/>
              </a:rPr>
              <a:t>Food products from 12 prefectures in Japan may be presented only with an analytical report on radionuclides Iodine-131 and Caesium-134 +137, by an authorised agency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5bab"/>
                </a:solidFill>
                <a:latin typeface="Trebuchet MS"/>
              </a:rPr>
              <a:t>10 % check sampling at import in EU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5bab"/>
                </a:solidFill>
                <a:latin typeface="Trebuchet MS"/>
              </a:rPr>
              <a:t>20 % monitoring for other prefectures (without certificate)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marL="444600" indent="-444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5bab"/>
                </a:solidFill>
                <a:latin typeface="Trebuchet MS"/>
              </a:rPr>
              <a:t>Recommendation to check marine produce from certain Pacific fishing area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44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44600" indent="-444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5bab"/>
                </a:solidFill>
                <a:latin typeface="Trebuchet MS"/>
              </a:rPr>
              <a:t>So far, no contamination found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5bab"/>
                </a:solidFill>
                <a:latin typeface="Trebuchet MS"/>
              </a:rPr>
              <a:t>Except, on 15 June: 2 batches of contaminated tea (Roissy, F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5bab"/>
                </a:solidFill>
                <a:latin typeface="Trebuchet MS"/>
              </a:rPr>
              <a:t>Up to 31.12.2011: 1967 samples from Japan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5bab"/>
                </a:solidFill>
                <a:latin typeface="Trebuchet MS"/>
              </a:rPr>
              <a:t> </a:t>
            </a:r>
            <a:r>
              <a:rPr b="0" lang="en-GB" sz="1000" spc="-1" strike="noStrike">
                <a:solidFill>
                  <a:srgbClr val="005bab"/>
                </a:solidFill>
                <a:latin typeface="Trebuchet MS"/>
              </a:rPr>
              <a:t>+ 409 fish from Pacific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5bab"/>
                </a:solidFill>
                <a:latin typeface="Trebuchet MS"/>
              </a:rPr>
              <a:t>No iodine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5bab"/>
                </a:solidFill>
                <a:latin typeface="Trebuchet MS"/>
              </a:rPr>
              <a:t>Caesium detected in around 1% of the samples from Japan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Measures taken by the EC: 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Food and F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7524-ADDD-41D3-BED4-6A5B3A39CA3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rticle 31 Opinion 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on Food and Fee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28036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Regulation 3954/87 Euratom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still valid (cf RP 105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to be reviewed when new dose coefficients are availabl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No need to revise Regulation 733/2008/EC (till 2020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food imported from countries affected by Chernobyl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mport from Japa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does not warrant lower level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continue checks on the basis of levels in Japan, for as long as needed: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mall volume of impor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moderate levels of radioactivit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optimisation on the basis of cost of controls and the need to provide reassurance or to allow for consumer preferenc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pply same levels to cosmetic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Basis: likelihood to exceed 1 mSv in a yea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99E2-99D2-4337-A9F9-F31338B0A6E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Extension implementing regulation until 31 March 2012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ransition to a long-term regime similar to the one for third countries affected by the Chernobyl acciden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o prescribed minimum sampling frequenc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continued monitoring of the situation in Japa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Gradual relax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o longer checks on radioisotopes of iodin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revision of the concerned prefectur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limited categories of food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green te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ri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fish and fishery product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mushroom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…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New levels in Japan!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may be decided upon and implemented on 1 April 2012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Measures taken by the EC: 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Food and F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122-5CD6-4082-AFD2-13F9DBDDFE1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ossible lower levels in Japan: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50920" y="2603520"/>
            <a:ext cx="8893080" cy="30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599-AC56-4984-BA4E-9BD6816CAF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Revision and consolidation of </a:t>
            </a:r>
            <a:br>
              <a:rPr sz="4000"/>
            </a:b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Euratom Basic Safety Standards</a:t>
            </a:r>
            <a:br>
              <a:rPr sz="4000"/>
            </a:br>
            <a:br>
              <a:rPr sz="4000"/>
            </a:br>
            <a:br>
              <a:rPr sz="35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6F76-8150-470E-AD00-5E857E8C113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Food in Japan - Recommenda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evelopment of a national strategy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ational, comprehensive and realisti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llow for the low actual dose by food intak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Reference level 1 mSv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void low Maximum Permitted Concentra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except for basic food (rice, te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hernobyl experience in EU demonstrate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cceptance of current levels for impor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eed for a long-term approach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volve international stakeholder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o prejudice to the management of a future accid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Lowering MPC’s in Japan would be copied by EU for import contro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Difficult to understand that different levels apply in different situa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EF0-A7F7-4578-B5D1-8EC80770F19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Measures taken by the EC: </a:t>
            </a:r>
            <a:br>
              <a:rPr sz="2600"/>
            </a:b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ships and containers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3600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The European Commission issued on 15 April, through its urgent information exchange tool (ECURIE), an information message to Member States to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equest information on checks for levels of radiation on incoming ships and cargo from Japan,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proposing harmonised thresholds for further action (decontamination) and reporting: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threshold: 0.2 µSv/h above background, at 1 m (by default)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decontamination whenever possible (washing) of any contaminated surface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IMO/ICAO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monitoring of passengers, crew and cargo from Japan carried out to date in other countries, …, does not suggest any health or safety risk. Therefore, screening of radiation … is currently considered </a:t>
            </a:r>
            <a:r>
              <a:rPr b="1" lang="en-US" sz="1600" spc="-1" strike="noStrike" u="sng">
                <a:solidFill>
                  <a:srgbClr val="0f5494"/>
                </a:solidFill>
                <a:uFillTx/>
                <a:latin typeface="Verdana"/>
              </a:rPr>
              <a:t>unnecessary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 at airports and seaports around the world.”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Japan (three major harbours)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checks &lt; 3 x background dose-rate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IAEA: apply international transport regulation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avoid dispersion of radioactive substance and exposure from fixed radioactivity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AC6-8C04-4436-B7B4-68B56D4576C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rticle 31 Opinion 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on containers and conveya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44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ECURIE criterion good basis for continued screening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Transport Regulations could be understood to apply to conveyances that are not transporting radioactive materia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4 Bq/cm² for </a:t>
            </a:r>
            <a:r>
              <a:rPr b="1" lang="el-GR" sz="1800" spc="-1" strike="noStrike">
                <a:solidFill>
                  <a:srgbClr val="0f5494"/>
                </a:solidFill>
                <a:latin typeface="Garamond"/>
              </a:rPr>
              <a:t>β</a:t>
            </a:r>
            <a:r>
              <a:rPr b="1" lang="fr-BE" sz="1800" spc="-1" strike="noStrike">
                <a:solidFill>
                  <a:srgbClr val="0f5494"/>
                </a:solidFill>
                <a:latin typeface="Garamond"/>
              </a:rPr>
              <a:t>-</a:t>
            </a:r>
            <a:r>
              <a:rPr b="1" lang="el-GR" sz="1800" spc="-1" strike="noStrike">
                <a:solidFill>
                  <a:srgbClr val="0f5494"/>
                </a:solidFill>
                <a:latin typeface="Garamond"/>
              </a:rPr>
              <a:t>γ</a:t>
            </a:r>
            <a:r>
              <a:rPr b="1" lang="fr-BE" sz="1800" spc="-1" strike="noStrike">
                <a:solidFill>
                  <a:srgbClr val="0f5494"/>
                </a:solidFill>
                <a:latin typeface="Garamond"/>
              </a:rPr>
              <a:t> (SCO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adiation protection rationale?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pplication to emergency exposure situation?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Underline optimisation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non-fixed surface contamination to be actually removed whenever practicabl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Need for guidanc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definition of non-fixed contamina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ISO Standard for monitoring methodologi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B55-1E16-4327-A5BE-0FABE416AD6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no need for continued screening of ships and carg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ECURIE information message sent on 19.7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reference to Article 31 opin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no observed contamination for about one month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no need for systematic screening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 line with IMO state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request information message in case of future high contamination found to require remedial a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Measures taken by the EC: </a:t>
            </a:r>
            <a:br>
              <a:rPr sz="2600"/>
            </a:b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ships and contai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030-73BC-4025-8256-67D56F9F013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075040"/>
          </a:xfrm>
          <a:prstGeom prst="rect">
            <a:avLst/>
          </a:prstGeom>
          <a:solidFill>
            <a:srgbClr val="3166c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Trebuchet MS"/>
              </a:rPr>
              <a:t>Fukushima</a:t>
            </a:r>
            <a:br>
              <a:rPr sz="3900"/>
            </a:br>
            <a:r>
              <a:rPr b="0" lang="en-US" sz="3900" spc="-1" strike="noStrike">
                <a:solidFill>
                  <a:srgbClr val="ffff00"/>
                </a:solidFill>
                <a:latin typeface="Trebuchet MS"/>
              </a:rPr>
              <a:t>Impact on Europe and EC Actions:  </a:t>
            </a:r>
            <a:br>
              <a:rPr sz="3900"/>
            </a:br>
            <a:r>
              <a:rPr b="0" lang="en-US" sz="3000" spc="-1" strike="noStrike">
                <a:solidFill>
                  <a:srgbClr val="ffff00"/>
                </a:solidFill>
                <a:latin typeface="Trebuchet MS"/>
              </a:rPr>
              <a:t>Lessons learne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4599000" cy="284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917-33CF-49B0-B19B-9C545D40469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Stress test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44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Trebuchet MS"/>
              </a:rPr>
              <a:t>	</a:t>
            </a:r>
            <a:r>
              <a:rPr b="1" i="1" lang="en-US" sz="2000" spc="-1" strike="noStrike">
                <a:solidFill>
                  <a:srgbClr val="0f5494"/>
                </a:solidFill>
                <a:latin typeface="Trebuchet MS"/>
              </a:rPr>
              <a:t>15 March: Commissioner Oettinger announces </a:t>
            </a:r>
            <a:r>
              <a:rPr b="1" i="1" lang="en-US" sz="2000" spc="-1" strike="noStrike">
                <a:solidFill>
                  <a:srgbClr val="00afec"/>
                </a:solidFill>
                <a:latin typeface="Trebuchet MS"/>
              </a:rPr>
              <a:t>stress tests of nuclear facilities </a:t>
            </a:r>
            <a:r>
              <a:rPr b="1" i="1" lang="en-US" sz="2000" spc="-1" strike="noStrike">
                <a:solidFill>
                  <a:srgbClr val="0f5494"/>
                </a:solidFill>
                <a:latin typeface="Trebuchet MS"/>
              </a:rPr>
              <a:t>in the EU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Trebuchet MS"/>
              </a:rPr>
              <a:t>21 March: Energy Council (energy ministers from MS) endorses the Commission proposal to </a:t>
            </a:r>
            <a:r>
              <a:rPr b="1" i="1" lang="en-US" sz="2000" spc="-1" strike="noStrike">
                <a:solidFill>
                  <a:srgbClr val="00afec"/>
                </a:solidFill>
                <a:latin typeface="Trebuchet MS"/>
              </a:rPr>
              <a:t>carry out comprehensive safety and risk assessmen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Trebuchet MS"/>
              </a:rPr>
              <a:t>24–25 March: European Council (Heads of State and Government) calls on the Commission and the European Nuclear Safety</a:t>
            </a:r>
            <a:br>
              <a:rPr sz="2000"/>
            </a:br>
            <a:r>
              <a:rPr b="1" i="1" lang="en-US" sz="2000" spc="-1" strike="noStrike">
                <a:solidFill>
                  <a:srgbClr val="0f5494"/>
                </a:solidFill>
                <a:latin typeface="Trebuchet MS"/>
              </a:rPr>
              <a:t>Regulators’ Group (ENSREG)</a:t>
            </a:r>
            <a:br>
              <a:rPr sz="2000"/>
            </a:br>
            <a:r>
              <a:rPr b="1" i="1" lang="en-US" sz="2000" spc="-1" strike="noStrike">
                <a:solidFill>
                  <a:srgbClr val="0f5494"/>
                </a:solidFill>
                <a:latin typeface="Trebuchet MS"/>
              </a:rPr>
              <a:t>to </a:t>
            </a:r>
            <a:r>
              <a:rPr b="1" i="1" lang="en-US" sz="2000" spc="-1" strike="noStrike">
                <a:solidFill>
                  <a:srgbClr val="00afec"/>
                </a:solidFill>
                <a:latin typeface="Trebuchet MS"/>
              </a:rPr>
              <a:t>develop the scope and</a:t>
            </a:r>
            <a:br>
              <a:rPr sz="2000"/>
            </a:br>
            <a:r>
              <a:rPr b="1" i="1" lang="en-US" sz="2000" spc="-1" strike="noStrike">
                <a:solidFill>
                  <a:srgbClr val="00afec"/>
                </a:solidFill>
                <a:latin typeface="Trebuchet MS"/>
              </a:rPr>
              <a:t>modalities of the assessmen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44600" indent="-444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Trebuchet MS"/>
              </a:rPr>
              <a:t>24 May: the Commission and</a:t>
            </a:r>
            <a:br>
              <a:rPr sz="2000"/>
            </a:br>
            <a:r>
              <a:rPr b="1" i="1" lang="en-US" sz="2000" spc="-1" strike="noStrike">
                <a:solidFill>
                  <a:srgbClr val="0f5494"/>
                </a:solidFill>
                <a:latin typeface="Trebuchet MS"/>
              </a:rPr>
              <a:t>ENSREG </a:t>
            </a:r>
            <a:r>
              <a:rPr b="1" i="1" lang="en-US" sz="2000" spc="-1" strike="noStrike">
                <a:solidFill>
                  <a:srgbClr val="00afec"/>
                </a:solidFill>
                <a:latin typeface="Trebuchet MS"/>
              </a:rPr>
              <a:t>reach agreement</a:t>
            </a:r>
            <a:br>
              <a:rPr sz="2000"/>
            </a:br>
            <a:r>
              <a:rPr b="1" i="1" lang="en-US" sz="2000" spc="-1" strike="noStrike">
                <a:solidFill>
                  <a:srgbClr val="00afec"/>
                </a:solidFill>
                <a:latin typeface="Trebuchet MS"/>
              </a:rPr>
              <a:t>on the methodology and the</a:t>
            </a:r>
            <a:br>
              <a:rPr sz="2000"/>
            </a:br>
            <a:r>
              <a:rPr b="1" i="1" lang="en-US" sz="2000" spc="-1" strike="noStrike">
                <a:solidFill>
                  <a:srgbClr val="00afec"/>
                </a:solidFill>
                <a:latin typeface="Trebuchet MS"/>
              </a:rPr>
              <a:t>timetab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649840" y="4022640"/>
            <a:ext cx="308124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7F8-AD03-4F51-8073-AEE3A7CAA56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352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New legisl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4600" indent="-444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eflection </a:t>
            </a:r>
            <a:r>
              <a:rPr b="0" i="1" lang="en-GB" sz="2400" spc="-1" strike="noStrike" u="sng">
                <a:solidFill>
                  <a:srgbClr val="0f5494"/>
                </a:solidFill>
                <a:uFillTx/>
                <a:latin typeface="Verdana"/>
              </a:rPr>
              <a:t>in parallel to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carrying out the stress tes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Trebuchet MS"/>
              </a:rPr>
              <a:t>The Commission interim report indicates the </a:t>
            </a:r>
            <a:r>
              <a:rPr b="1" i="1" lang="en-GB" sz="2400" spc="-1" strike="noStrike">
                <a:solidFill>
                  <a:srgbClr val="00afec"/>
                </a:solidFill>
                <a:latin typeface="Trebuchet MS"/>
              </a:rPr>
              <a:t>main areas</a:t>
            </a:r>
            <a:r>
              <a:rPr b="1" i="1" lang="en-GB" sz="2400" spc="-1" strike="noStrike">
                <a:solidFill>
                  <a:srgbClr val="0f5494"/>
                </a:solidFill>
                <a:latin typeface="Trebuchet MS"/>
              </a:rPr>
              <a:t> for legislative improv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44600" indent="-44460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Trebuchet MS"/>
              </a:rPr>
              <a:t>3</a:t>
            </a:r>
            <a:r>
              <a:rPr b="1" i="1" lang="en-US" sz="2400" spc="-1" strike="noStrike" baseline="30000">
                <a:solidFill>
                  <a:srgbClr val="0f5494"/>
                </a:solidFill>
                <a:latin typeface="Trebuchet MS"/>
              </a:rPr>
              <a:t>rd</a:t>
            </a:r>
            <a:r>
              <a:rPr b="1" i="1" lang="en-US" sz="2400" spc="-1" strike="noStrike">
                <a:solidFill>
                  <a:srgbClr val="0f5494"/>
                </a:solidFill>
                <a:latin typeface="Trebuchet MS"/>
              </a:rPr>
              <a:t> quarter of 2012: the Commission will table </a:t>
            </a:r>
            <a:r>
              <a:rPr b="1" i="1" lang="en-US" sz="2400" spc="-1" strike="noStrike">
                <a:solidFill>
                  <a:srgbClr val="00afec"/>
                </a:solidFill>
                <a:latin typeface="Trebuchet MS"/>
              </a:rPr>
              <a:t>legislative</a:t>
            </a:r>
            <a:r>
              <a:rPr b="1" i="1" lang="en-US" sz="2400" spc="-1" strike="noStrike">
                <a:solidFill>
                  <a:srgbClr val="0f5494"/>
                </a:solidFill>
                <a:latin typeface="Trebuchet MS"/>
              </a:rPr>
              <a:t> </a:t>
            </a:r>
            <a:r>
              <a:rPr b="1" i="1" lang="en-US" sz="2400" spc="-1" strike="noStrike">
                <a:solidFill>
                  <a:srgbClr val="00afec"/>
                </a:solidFill>
                <a:latin typeface="Trebuchet MS"/>
              </a:rPr>
              <a:t>proposals</a:t>
            </a:r>
            <a:r>
              <a:rPr b="1" i="1" lang="en-US" sz="2400" spc="-1" strike="noStrike">
                <a:solidFill>
                  <a:srgbClr val="0f5494"/>
                </a:solidFill>
                <a:latin typeface="Trebuchet MS"/>
              </a:rPr>
              <a:t>,</a:t>
            </a:r>
            <a:r>
              <a:rPr b="1" i="1" lang="en-US" sz="2400" spc="-1" strike="noStrike">
                <a:solidFill>
                  <a:srgbClr val="00afec"/>
                </a:solidFill>
                <a:latin typeface="Trebuchet MS"/>
              </a:rPr>
              <a:t> </a:t>
            </a:r>
            <a:r>
              <a:rPr b="1" i="1" lang="en-US" sz="2400" spc="-1" strike="noStrike">
                <a:solidFill>
                  <a:srgbClr val="0f5494"/>
                </a:solidFill>
                <a:latin typeface="Trebuchet MS"/>
              </a:rPr>
              <a:t>taking into accoun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Trebuchet MS"/>
              </a:rPr>
              <a:t>feedback from ongoing</a:t>
            </a:r>
            <a:r>
              <a:rPr b="0" lang="en-GB" sz="2000" spc="-1" strike="noStrike">
                <a:solidFill>
                  <a:srgbClr val="00afec"/>
                </a:solidFill>
                <a:latin typeface="Trebuchet MS"/>
              </a:rPr>
              <a:t> public and stakeholder consultatio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afec"/>
                </a:solidFill>
                <a:latin typeface="Trebuchet MS"/>
              </a:rPr>
              <a:t>technical areas of improvement</a:t>
            </a:r>
            <a:r>
              <a:rPr b="0" lang="en-GB" sz="2000" spc="-1" strike="noStrike">
                <a:solidFill>
                  <a:srgbClr val="0f5494"/>
                </a:solidFill>
                <a:latin typeface="Trebuchet MS"/>
              </a:rPr>
              <a:t> identified in the stress tests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Trebuchet MS"/>
              </a:rPr>
              <a:t>developments in the </a:t>
            </a:r>
            <a:r>
              <a:rPr b="0" lang="en-GB" sz="2000" spc="-1" strike="noStrike">
                <a:solidFill>
                  <a:srgbClr val="00afec"/>
                </a:solidFill>
                <a:latin typeface="Trebuchet MS"/>
              </a:rPr>
              <a:t>international nuclear safety legislative regim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4B40-51D8-4AF4-A09D-EF60167D1F1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39640" y="1628640"/>
            <a:ext cx="782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24.11.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(2011) 784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 FROM THE 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COUNCIL A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interim report on the comprehensive risk and safety assessments ("stress tests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ar power plants in the European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SEC(2011) 1395 final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787-E035-4DBE-BC0B-BC2E7285E3E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f5494"/>
                </a:solidFill>
                <a:latin typeface="Verdana"/>
              </a:rPr>
              <a:t>Strengthening the EU nuclear safety regulatory framework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e Commission sees scope for improving the legal framework at EU and national level in the following areas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1) improving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technical measures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for safety, and improving the necessary oversight to ensure full implementation,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2) improving the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governance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as well as the legal framework of nuclear safety,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3) improving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emergency preparedness and response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,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4) reinforcing the EU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nuclear liability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regime and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5) enhancing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scientific and technological competence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e starting point is the full implementation of existing EU ru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37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Basic Safety Standard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37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Public informa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37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ECURI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37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Food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37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Civil Protection coordination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887-AB0E-4ADA-9CDD-6796C573CA0F}" type="slidenum">
              <a:t>28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Enhancing Emergency preparedness and response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Guidelines on national risk assess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ross-border nuclear risk management pla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Enhanced European disaster respons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New BSS: MS’s </a:t>
            </a:r>
            <a:r>
              <a:rPr b="0" lang="en-US" sz="1400" spc="-1" strike="noStrike" u="sng">
                <a:solidFill>
                  <a:srgbClr val="0f5494"/>
                </a:solidFill>
                <a:uFillTx/>
                <a:latin typeface="Verdana"/>
              </a:rPr>
              <a:t>shall</a:t>
            </a: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 cooperate …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Site resto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New BSS: Criteria for living in contaminated area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trengthen information exchange and coordination of respon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HERCA communication system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Link with Article 31 Experts and with Health Security Initiativ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od legisl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Recast of Regulation 3954/87 Euratom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Delegated powe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Extension to remote accidents (cf Fukushim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5FE-FBF2-40A9-A75C-A80E6738AA3F}" type="slidenum">
              <a:t>29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144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Article 31 Group of Experts since 2005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Topical issu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5ec1"/>
                </a:solidFill>
                <a:latin typeface="Verdana"/>
              </a:rPr>
              <a:t>natural radiation source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5ec1"/>
                </a:solidFill>
                <a:latin typeface="Verdana"/>
              </a:rPr>
              <a:t>exemption, clearance, graded approach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WP “Recast”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irst consolidated draft text: meeting in June 2009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inal text for Article 31 Experts in November 2009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Approval of draft text and related Opinion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 23-24.2. 2010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Impact Assessment Re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Inter-Service consultat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Translat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Commission proposal adopted in September 2011 (29.9 at 10 am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 u="sng">
                <a:solidFill>
                  <a:srgbClr val="e52e87"/>
                </a:solidFill>
                <a:uFillTx/>
                <a:latin typeface="Verdana"/>
                <a:hlinkClick r:id="rId1"/>
              </a:rPr>
              <a:t>http://ec.europa.eu/energy/nuclear/radiation_protection/doc/art31/</a:t>
            </a:r>
            <a:r>
              <a:rPr b="0" i="1" lang="en-US" sz="800" spc="-1" strike="noStrike" u="sng">
                <a:solidFill>
                  <a:srgbClr val="e52e87"/>
                </a:solidFill>
                <a:uFillTx/>
                <a:latin typeface="Verdana"/>
                <a:hlinkClick r:id="rId2"/>
              </a:rPr>
              <a:t>2010_02_24_draft_euratom_basic_safety_standards_directive.pdf</a:t>
            </a: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 u="sng">
                <a:solidFill>
                  <a:srgbClr val="e52e87"/>
                </a:solidFill>
                <a:uFillTx/>
                <a:latin typeface="Verdana"/>
                <a:hlinkClick r:id="rId3"/>
              </a:rPr>
              <a:t>http://ec.europa.eu/energy/nuclear/radiation_protection/doc/art31/2010_02_24_opinion_on_bss.pdf</a:t>
            </a: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vision of EU BS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005360" y="0"/>
            <a:ext cx="5138640" cy="3894120"/>
          </a:xfrm>
          <a:prstGeom prst="rect">
            <a:avLst/>
          </a:prstGeom>
          <a:ln w="25560">
            <a:solidFill>
              <a:srgbClr val="a0001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021-7C13-4C46-99E6-CDAB4FF53109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Need for thorough reflection on food restriction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Nearby and distant event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Need for emergency response plans for circulation of good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At local level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2" marL="1051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Incident with gravel in Fukushima prefecture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In international trade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2" marL="1051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Revise international transport regulations (surface activities)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2" marL="1051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Acceptance criteria for commodities (e.g. code of conduct for metal scrap)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Waste management in emergency situation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EU Harmonisation of emergency respons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051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Cross-border emergencies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2" marL="1051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Trade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2" marL="1051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Travel advice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HERCA/EC forum for information exchange on national decisions and communicat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Sharing of environmental monitoring data (EURDEP, airborne activity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Improve risk communication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Need for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New legislation?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stress test” of emergency response?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153-03F0-4CCA-995D-73546935427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14400" y="1836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Directives: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Basic Safety Standards (workers, general public): 1996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Patients/Medical Exposure Directive: 1997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Informing the public on measures in the event of a radiological emergency: 1989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Outside Workers: 1990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High Activity Sealed Sources (HASS): 2003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(Radon Recommendation 90/143/Euratom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Recast: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In principle no discussion of unmodified tex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In practice: too many changes with cross-cutting impac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Hence: “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onsolidation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f5494"/>
                </a:solidFill>
                <a:latin typeface="Verdana"/>
              </a:rPr>
              <a:t>RECAST</a:t>
            </a:r>
            <a:br>
              <a:rPr sz="2100"/>
            </a:br>
            <a:r>
              <a:rPr b="1" lang="en-US" sz="2100" spc="-1" strike="noStrike">
                <a:solidFill>
                  <a:srgbClr val="0f5494"/>
                </a:solidFill>
                <a:latin typeface="Verdana"/>
              </a:rPr>
              <a:t>Better legislation - simplification</a:t>
            </a: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912-DF90-4AE2-89EA-0F75C3AFF22F}" type="slidenum">
              <a:t>4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evision of EU-BS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4556160" cy="442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Verdana"/>
              </a:rPr>
              <a:t>Consolidation of current Directiv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f5494"/>
                </a:solidFill>
                <a:latin typeface="Verdana"/>
              </a:rPr>
              <a:t>Allow for ICRP/IAEA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f5494"/>
                </a:solidFill>
                <a:latin typeface="Verdana"/>
              </a:rPr>
              <a:t>Exposure situations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rather than processes: practices/interven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f5494"/>
                </a:solidFill>
                <a:latin typeface="Verdana"/>
              </a:rPr>
              <a:t>Incorporate natural radiation sources </a:t>
            </a:r>
            <a:endParaRPr b="1" lang="en-US" sz="25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trengthen the require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Protection of the environmen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0" t="880" r="0" b="440"/>
          <a:stretch/>
        </p:blipFill>
        <p:spPr>
          <a:xfrm>
            <a:off x="5676840" y="1628640"/>
            <a:ext cx="3059280" cy="4392720"/>
          </a:xfrm>
          <a:prstGeom prst="rect">
            <a:avLst/>
          </a:prstGeom>
          <a:ln w="9360">
            <a:solidFill>
              <a:srgbClr val="a3001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562-F208-4C53-B0BF-600C8C13D21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ference level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f5494"/>
                </a:solidFill>
                <a:uFillTx/>
                <a:latin typeface="Verdana"/>
              </a:rPr>
              <a:t>Bands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of reference levels for public exposure and corresponding societal criteri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RL in the range 20 mSv – 100 mSv for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mergency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exposure situa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below 20 mSv if no disproportionate detriment or excessive cost of countermeasur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RL in the range 1 to 20 mSv </a:t>
            </a:r>
            <a:r>
              <a:rPr b="0" i="1" lang="en-US" sz="2000" spc="-1" strike="noStrike" u="sng">
                <a:solidFill>
                  <a:srgbClr val="0f5494"/>
                </a:solidFill>
                <a:uFillTx/>
                <a:latin typeface="Verdana"/>
              </a:rPr>
              <a:t>per year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for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isting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exposure situa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indoor radon exposur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long-term post-accidental managemen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RL below 1 mSv for specific pathways of exposur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98B-BE6F-4395-AD01-D78156ECF25E}" type="slidenum">
              <a:t>6</a:t>
            </a:fld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Emergency planning and response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More comprehensive system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reat analysi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overall emergency management system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emergency response plans for identified threa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afec"/>
                </a:solidFill>
                <a:latin typeface="Verdana"/>
              </a:rPr>
              <a:t>reference level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pre-planned strategies for the management of each postulated even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ompulsory cooperation between Member Stat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Member States shall (instead of  …shall seek to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79F-E981-4867-8F2E-1FDBBFA3FF9B}" type="slidenum">
              <a:t>7</a:t>
            </a:fld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hapter VI: Emergency work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Responsibility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rticle 30.1(b): the (emergency response) organisation responsible for the protection of emergency worker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Article 52: Emergency occupational exposur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Ensure that no emergency worker undertakes actions resulting in doses in excess of 50 mSv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xcept in specific cases identified in the national emergency pla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reference level above 50 m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n exceptional circumstances, …, a reference level above 100 mSv may be se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Emergency workers liable to exceed 50 mSv ar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voluntee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clearly and comprehensively informed, in advance, of the associated health risks and protection measur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In the event of an emergency exposure: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radiological monitoring and medical surveillanc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individual dose assessment as appropriate to the circumstan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6EB-1EFB-4A9C-8690-0ADC10F79B5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075040"/>
          </a:xfrm>
          <a:prstGeom prst="rect">
            <a:avLst/>
          </a:prstGeom>
          <a:solidFill>
            <a:srgbClr val="3166c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Trebuchet MS"/>
              </a:rPr>
              <a:t>Fukushima</a:t>
            </a:r>
            <a:br>
              <a:rPr sz="3900"/>
            </a:br>
            <a:r>
              <a:rPr b="0" lang="en-US" sz="3900" spc="-1" strike="noStrike">
                <a:solidFill>
                  <a:srgbClr val="ffff00"/>
                </a:solidFill>
                <a:latin typeface="Trebuchet MS"/>
              </a:rPr>
              <a:t>Impact on Europe and EC Actions:  </a:t>
            </a:r>
            <a:br>
              <a:rPr sz="3900"/>
            </a:br>
            <a:r>
              <a:rPr b="0" lang="en-US" sz="3000" spc="-1" strike="noStrike">
                <a:solidFill>
                  <a:srgbClr val="ffff00"/>
                </a:solidFill>
                <a:latin typeface="Trebuchet MS"/>
              </a:rPr>
              <a:t>Urgent information exchange (ECURIE)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4599000" cy="284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099-D3CA-449C-B6E3-57AA753BE53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anssau</cp:lastModifiedBy>
  <dcterms:modified xsi:type="dcterms:W3CDTF">2012-02-05T18:20:50Z</dcterms:modified>
  <cp:revision>127</cp:revision>
  <dc:subject/>
  <dc:title>Slide 1</dc:title>
</cp:coreProperties>
</file>