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706D-ED21-43A0-A9BC-F39D7A5B4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B098-3C61-45CA-9659-444749E07D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70B88-E8E9-4A6E-8EF5-401AC09E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624B1-C618-42EF-97BE-BB80B383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919DA-0F57-4860-84D8-A9A776D4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D30FD-8AA2-405D-98FE-03CC3977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D5EE2-5C3D-4EB9-A422-EFF64C0A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6C7FC-B2D8-4C9F-86E8-D26FD39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8160F-134C-426D-A794-D4E7203B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F0AF6-B810-47EF-A543-9325C8E3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5A26-38DB-42E1-B839-536CBDF9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0D77F-2FE0-44AA-943B-036C86E2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7C00-5770-45E8-BEFA-5CA4DD9366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205F2-C167-44ED-9F82-17E5AA69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538B8-C290-4D81-BD49-C7175F9D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C35F9-1927-45C9-AADE-F7007EB7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0000D-CCF6-4B0B-988A-2266477C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CD26A-73A8-4D00-B411-88DA8CE7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A928D-F61A-46F4-87EA-A269B17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4E69C-0043-47D3-81E6-2A1CB499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2F4B3-B6C0-4638-B22D-C72E7B6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6A6F5-569F-4843-8F01-09D29AD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2EC98-4C19-421C-A261-A5CEEEA6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C26C-5C3F-4D1D-B85B-473793CFEF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B16AB-B662-4145-8DC1-B7EF0745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F320E-89EB-4C41-9A3A-F6F1923C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42C21-AAE0-4EEF-9B0D-E43770ED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85613-8040-4C0D-87FC-BC97BADA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D861E-6A17-4B43-BFEC-07FD7408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01A2E-8896-4220-9EE6-1B956ED3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59F6F-936E-47EE-98EE-133D949E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43890-881E-43A5-B20B-0D778403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60F52-0DED-4BC5-B61B-954BD4F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51B65-8907-41BE-B54E-A989F96E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176-9674-415B-A650-1508871C75D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CCB8F-7335-4358-BE94-1A0E50DA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D6C04-D033-4571-B05E-A8A05EBC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C7377-EB60-4536-965E-EC214DF6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21FEC-C524-47F7-8914-78B9154F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78A38-F6C7-48EE-A0C4-E1E44734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B55EB-0598-4040-A063-3207C424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BD8D5-B18D-4FF0-838B-C7F97AB0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51EE9-11D1-4275-8E79-F864E326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B64F4-0B98-4EAF-97A6-263B4D89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1FBD1-70BA-434F-ADB4-5B4D70F9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9B6-5A4E-46E6-8C36-A5A2AC9038E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B0E78-31B9-4B4E-899F-321B6DE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8729B-F1CA-4052-9257-3A087B68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A34A6-D04B-4682-BDE1-8021B37D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A4794-8E2E-4494-AA88-6FB65BD4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014B6-DE73-47AB-9C05-C3B3A817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CFFE2-4109-4C38-A863-9F3821BC4B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8C290-3553-4FDB-B0DD-E1A1D3F5504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AA040-7603-468E-945D-C6ACA1080BA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CAE1E-C269-4CDF-8DE7-268B7B5FB4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81B0D-C049-4B34-A931-78EA795409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CA6-F4B4-46F1-AB3B-615874753FA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80EF7-AB62-4BD7-8455-26D824EA8D7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F9D7A-0179-4B78-ACC4-7A4400F617B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3C9E4-EFAE-4276-9579-0AD5F4DDFBF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1F781-A01E-4CC0-A885-98A9D6ADA9E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16C17-A11F-41B4-9C61-0E126268266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2096D-161A-4D0E-A879-CA1092EACF6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9FAE3-08AE-4E64-AE2A-B96BBC5F2F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FFA-7F37-4A95-BFCB-19A91ADC9E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F2C-23DF-4BC8-B2F1-32838AF741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C04-5CA3-4C11-B77B-6EBFCDB487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6F5-9109-41EA-B36C-C0C183689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6B6E-BCC6-4EC4-8137-9297C6C95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F1E-8ACD-4818-B921-BF9CC0B595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E64-C0A2-4952-AF66-FD784CEF09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1E5-3E1F-434A-B142-A361585315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397-67A8-48E0-A007-F418EC142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CDA-71FB-4DBA-8194-21405D8E4D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BFFE-F6C8-4C9C-8DA7-6DA2C118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0389-FF07-4762-8E8A-F71402FE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053B-5FE4-48DB-A920-9F8709C4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3F00-3975-453E-8231-1C0E00F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60DD-8C71-42F5-8220-41EF6BBF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3EB6-656F-4BD5-B55D-AD999B670B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C24C-B305-4DC6-A8BA-063D49F1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527E-C1D6-4520-ADB7-2C90F91C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5224-31CA-4923-977E-0E655A39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689-0270-4C7B-A003-FACC02F2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1A6F-284C-4700-A42E-2CA2E8EC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1414-5C07-443C-8530-21638889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D7DF-AAD7-4B7A-A488-846824EB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8440-CDE0-47B2-9C8D-70A98B71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17CB4-D26D-487E-99FC-73221162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AB12-8BDC-4EA2-BCDF-E80913A1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0F96-024D-4810-922D-B1AD6D9E9E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DEEC-4FB6-4BE0-9717-924AE993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08BD-A04B-4C4D-BFE7-4DC0CB80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55FB-C462-42DA-870B-4F66C2EE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ACF4-470A-4B11-AFA0-759A2FE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086E-3FF8-44A1-99BB-E43966A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274A-9890-4F1B-A55C-A10A62D5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7A3F-5D61-4CF2-A276-CD9C5774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6277-6728-4097-8F07-C1ECB14C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ED88-94B6-4C63-A0F6-8BA62908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A3AA-1F37-44FC-8856-2E2C4A06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D826-1186-4B52-AF35-07003E4888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D65C8-BDED-449B-A21A-8CA890AF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032C-488F-45D1-B243-049D4684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0D95C-A6CF-4373-909C-B11094A6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D59FE-1359-43E6-B1C9-89D8449F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C7B7-8143-4E36-A2AC-53E1BD4A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FC248-B420-4528-93A3-26ED21CE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1271-9FA7-49E2-9614-D4BCEB3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0688-FC2A-45BD-97AA-047D794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BEA7-9FC1-47C5-8D12-53C5942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E3B8C-EBF3-441C-A839-22D4FFCA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3A9E-44E5-4DF9-BFA0-93B8F21EB75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77A8C-2BEA-4922-9BE5-AD31E45F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F69DC-DA42-4E0C-BACC-A673377E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81542-760B-4AE8-ABF8-42CEBE55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C8512-A97A-4CFF-8BDE-CF5A0B13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2E418-820A-41F9-9E36-F378A29D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6B56-09AE-4135-A733-29B5E8B1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20492-258E-4AC1-BF2F-5CA0256B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330F-F984-4364-95B7-5C1E0A0D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D77B4-4307-45B6-979F-5487D0C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83D82-9859-48E4-94FB-1778C9E0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B49D-A7BA-48B1-B4A7-9F90FFA494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BAA05-6759-4077-A060-2223B66F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F970B-60B9-4325-9AE5-1E3A6323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0149E-9028-4791-B418-C35B41DD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49E1-9062-40F6-9EDF-CB201E1F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4918-E738-4240-9AA0-F1A98363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79AB4-709D-43EF-880A-42B55950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F8D26-25DD-4092-9288-8A85A190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81357-593B-4AB4-B258-1D915C7D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95377-9A2F-4547-87F6-5DA5E9B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3B21-30F7-4761-9469-168BCF77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AD6A-AA86-4696-8D14-DA95CA018C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43AD-2948-40B6-BE25-0D34BD1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C3E8-3DEC-42F7-8C83-DF16EF2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7269-CED8-4BE5-8E4A-F9FFFEB6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C8466-BA96-4E3F-8ED8-3BB30FDC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D31F7-4CBF-487B-9212-26A03D46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6080B-8955-4999-8E06-8CB000F2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BE5B1-E886-4C00-9E0C-7B5309FB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2A5BA-9AEB-49D9-8CEE-A8EDED84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AA86B-1190-4430-90A4-DA6DCF3D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7A76A-6396-4B33-8A04-E804C890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C87F-0F1E-441A-BF58-829DBADAD15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F3D34-E5D2-44DC-98FA-7A91F147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5E04C-2444-47A4-8A7E-87E21EC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CE50-03DB-4154-8403-D493094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32349-0F6E-4368-B862-290E7C13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A6EAF-E6BB-47BA-9DAD-F6B2204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E65BF-966D-494F-B103-2200A2DF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08B54-0847-4777-A690-B932DF21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BA1EF-A08A-4274-B4FC-946F015B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2D8E8-2419-4AA9-B86F-3AC22326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D042-1728-43B6-9343-0BA6F43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023-7A2F-4613-BE12-4CA933BA26B7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26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7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4AFC-B1EB-4468-B9D5-58BA23979872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8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9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30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3A40-CABE-4552-AE7B-0686F5281108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1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2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3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83A2-ED20-4CC4-B3F5-C13F05623BCE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4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ftr" idx="35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36"/>
          </p:nvPr>
        </p:nvSpPr>
        <p:spPr>
          <a:xfrm>
            <a:off x="8100720" y="6453000"/>
            <a:ext cx="3985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480E-88E6-4C96-BA29-E4511EBCA1BE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A60C-C1F3-40EF-96F1-3C9B8F427A91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EFB5-8E89-40DF-A4B5-36A556F5B1BF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9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7910-A767-417F-BBDD-77F795D9E343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1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7DF9-0E33-4D3D-AEA0-344705AE7203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4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82B9-C95F-44A1-80E1-451BE8F4F453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6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7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8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3BF-EB25-4FC1-A042-A7A3643B9D4E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9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20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F3EA-1AA5-48E8-9CD5-14FFE1278306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2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3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584-FFB4-4868-85F3-36A8407E86A2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5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476360" y="4868640"/>
            <a:ext cx="6400800" cy="11588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imo Mustonen, ST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– ICRP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-8 February 2012, Bratisl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EA21-6EA4-44F1-B65C-D1205D6F6854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826920" y="1916280"/>
            <a:ext cx="749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– ICRP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come of the Break-out Group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ory challenges in the preparation for an emergency and how simulation models may support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estions discussed in the grou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e the present information exchange systems (ECURIE, EURDEP, etc.) enough for today’s condit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could we improve European coherence of national decisions in a nuclear or radiological emergency having radiological impact in several countri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we need a joint European data bank for various radiological and meteorological parameters to be used by national experts in different European countri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we need a joint European data bank for decisions taken by different countries, including bases for the decision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we need a new European ordinance presuming national authorities to use such kind of data bank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1281-E616-4225-9786-DA25280AAE71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 fontScale="98000"/>
          </a:bodyPr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th the Fukushima accident and the Karlsruhe scenario were address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ystems used in routine bases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815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CURIE, EURDEP, REM, CTBT (under continuous improvemen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815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ystems work wel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RIX format soon in operations us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8152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RIX format allows several kinds of information to be exchang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oth ECURIE and EURDEP could be extended to exchange various kind of inform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81520" indent="-281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ssessment results should be included in European data exchange system (Karlsruhe-type scenari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B857-1F88-410F-BECB-A676D56CF1C4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on European data/information exchange system or data bank? Y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ed data/information exchange system should be only for experts (but also a public pag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 or some other body could take responsibility to mainta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w European ordinance ? Not binding ordinance or regulation. Updating of ECURIE Regulation or EURDEP Recommend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scenarios and data achieved in exercises could be put in the European data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167B-A974-4114-A7DF-C26180553464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3:04:19Z</dcterms:created>
  <dc:creator>Raimo Mustonen</dc:creator>
  <dc:description/>
  <dc:language>en-US</dc:language>
  <cp:lastModifiedBy>Raimo Mustonen</cp:lastModifiedBy>
  <dcterms:modified xsi:type="dcterms:W3CDTF">2012-02-07T16:48:00Z</dcterms:modified>
  <cp:revision>8</cp:revision>
  <dc:subject/>
  <dc:title> </dc:title>
</cp:coreProperties>
</file>