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732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296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168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732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296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0600" y="333000"/>
            <a:ext cx="6912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296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296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0600" y="333000"/>
            <a:ext cx="6912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II_rahmen_neu_fol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250920" y="6453360"/>
            <a:ext cx="325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1212-87A7-454D-9611-F0DE178FDD6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KITlogo_4c_frutiger"/>
          <p:cNvPicPr/>
          <p:nvPr/>
        </p:nvPicPr>
        <p:blipFill>
          <a:blip r:embed="rId10"/>
          <a:stretch/>
        </p:blipFill>
        <p:spPr>
          <a:xfrm>
            <a:off x="7667640" y="341280"/>
            <a:ext cx="1084320" cy="4953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5"/>
          <p:cNvSpPr/>
          <p:nvPr/>
        </p:nvSpPr>
        <p:spPr>
          <a:xfrm>
            <a:off x="3151080" y="6396120"/>
            <a:ext cx="28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rlsruhe Institute of Technology (KIT-IK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944640" y="6461280"/>
            <a:ext cx="8143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7.02.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6012000" y="6453360"/>
            <a:ext cx="2736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kshop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II_rahmen_neu_titel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96720" y="6475320"/>
            <a:ext cx="367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T – University of the State of Baden-Württember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Large-scale Research Center of the Helmholtz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385920" y="3367080"/>
            <a:ext cx="453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nstitute of Nuclear and Energy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7318440" y="6497640"/>
            <a:ext cx="172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ww.ki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KIT-Logo-rgb_en"/>
          <p:cNvPicPr/>
          <p:nvPr/>
        </p:nvPicPr>
        <p:blipFill>
          <a:blip r:embed="rId3"/>
          <a:stretch/>
        </p:blipFill>
        <p:spPr>
          <a:xfrm>
            <a:off x="7121520" y="249120"/>
            <a:ext cx="1619280" cy="74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440" y="35208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170000"/>
            <a:ext cx="8389800" cy="7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ccident scenario for the First NERIS Platform Workshop, February 2012, in Bratisl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6360" y="2206440"/>
            <a:ext cx="8371080" cy="82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audia Landma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Wolfgang Rasko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Karlsruher Institut für Technologie (KI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stitut für Kern- und Energietechnik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71560" y="3962520"/>
            <a:ext cx="3468600" cy="210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92520" y="3962520"/>
            <a:ext cx="42354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0440" y="333000"/>
            <a:ext cx="695808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Time development of effective ground gamma dose (1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3320" y="1404720"/>
            <a:ext cx="8008920" cy="10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e plots of effective ground gamma doses in 1st month and in 1st year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location of the maximum concentratio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from 481 hours scenar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46080" y="2871720"/>
            <a:ext cx="7429680" cy="2857680"/>
            <a:chOff x="946080" y="2871720"/>
            <a:chExt cx="7429680" cy="28576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946080" y="2871720"/>
              <a:ext cx="571500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51800" y="3133800"/>
              <a:ext cx="162396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ime pl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1st mon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5440" y="285840"/>
            <a:ext cx="7029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Time development of the effective ground gamma dose (2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3840" y="2215800"/>
            <a:ext cx="835632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s of the effective ground gamma doses [mSv] for open air exposure, for several times after the accident (from 481 hours scenar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1 year after the accident, also a map of the effective ground gamma dose rate [mSv/h] for open air exposure (from 481 hours scenar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3680" y="289080"/>
            <a:ext cx="70848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for the ingestion pathways, for milk, winter wheat, potato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3320" y="1317240"/>
            <a:ext cx="800892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of the effective doses [mSv] from the consumption of the foodstuff "ready for consumption" in the first year after the accident, assuming local production and consumption, without restrictions on food marketing or consum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92080" y="3043080"/>
            <a:ext cx="7535880" cy="3133800"/>
            <a:chOff x="892080" y="3043080"/>
            <a:chExt cx="7535880" cy="31338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92080" y="3043080"/>
              <a:ext cx="550224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11760" y="3652920"/>
              <a:ext cx="1816200" cy="22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Effec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d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from mi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3320" y="288720"/>
            <a:ext cx="715788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for the ingestion pathways, for milk, winter wheat, potato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3320" y="1476000"/>
            <a:ext cx="80089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ot of the time development of the effective inges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se for the foodstuff, at the location of the maximum d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88840" y="2638440"/>
            <a:ext cx="66884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187200"/>
            <a:ext cx="705636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for the ingestion pathways, for milk, winter wheat, potato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476000"/>
            <a:ext cx="80089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ot of the time development of  the caesium activity concentration in the foodstuff, at the location of the maximum 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9880" y="2597040"/>
            <a:ext cx="71532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7360" y="187200"/>
            <a:ext cx="708516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tential early countermeasure areas, for 481 hours scenario dur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7720" y="1115640"/>
            <a:ext cx="82994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s where the criterion dose [mSv] exceeds the intervention level. As example, German criteria basing on projected doses were used in connection with German intervention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2700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dose for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Evac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ffective dose from cloud gamma exposur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 Effective committed dose from inhalation*, for open air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 Effective dose from ground gamma exposure ove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 least 7 day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minally over the whole cloud passage. Exposure time may  be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337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 model calculations if the scenario duration is "too short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* The nominal integration time period for groundshine is 7 days.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Rodos model EmerSim, the duration is prolonged to the dur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cenario episode for scenarios with a duration exceeding 7 day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cording to a remark in the German "Radiologische Grundlagen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level: 100 mSv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7360" y="187200"/>
            <a:ext cx="708516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Rodo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tential early countermeasure areas, for 481 hours scenario dur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9800" y="1433160"/>
            <a:ext cx="8174160" cy="35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617400" indent="-180360"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dose for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Shelte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defined 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f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cuation,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vention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1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80360"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dose for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Iodine Tab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yroid dose [mSv] (committed), resulting from inhalation of radioiodine from the cloud*, for open air exposure, for adults and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 Nominally during the whole cloud passage. Exposure time may be shorter in model calculations if the scenario duration is "too shor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level for adults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25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rman intervention level for childr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   5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0440" y="231840"/>
            <a:ext cx="684216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odine tablet areas, childr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for 481 hours scenario d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5840" y="1184400"/>
            <a:ext cx="800892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olour code indicates the day after the start of the scenario when the intervention level for the corresponding action was exceeded for the firs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25400" y="2347920"/>
            <a:ext cx="7224840" cy="3859200"/>
            <a:chOff x="725400" y="2347920"/>
            <a:chExt cx="7224840" cy="3859200"/>
          </a:xfrm>
        </p:grpSpPr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725400" y="2347920"/>
              <a:ext cx="5178600" cy="38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6062760" y="2382840"/>
              <a:ext cx="1887480" cy="38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7360" y="137880"/>
            <a:ext cx="708516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Rodos: Potential permanent relocation area, for 481 hours scenario dur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6200" y="1187280"/>
            <a:ext cx="8415360" cy="7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 of the area where the effective dose from ground exposure in the first year [mSv] exceeds a level of 100 m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0280" y="2060640"/>
            <a:ext cx="75438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2471760"/>
            <a:ext cx="7543800" cy="15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ank you for your attention.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5920" y="1157040"/>
            <a:ext cx="81579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scription of accident scenario and consequence assessments with JR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 of JRodos results prepared for distribution in printed form at the workshop                                      (NERIS-TP(WP2)-(12)-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7720" y="434880"/>
            <a:ext cx="684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ident scenario: Our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7360" y="1331640"/>
            <a:ext cx="80089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nerate two contamination patterns in one scenario, separated in space and ti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phase should lead to early countermeasures based on classical intervention levels for projected or averted doses, but to an effective dose from all non-ingestion exposure pathways in the first year below 10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phase one should lead to an approximately homogeneous contamination pattern over a relatively large angula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one phase should be of longer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7720" y="434880"/>
            <a:ext cx="684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ease scenario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3840" y="1328760"/>
            <a:ext cx="8356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othetical accident at fictive nuclear reactor FZK-F at historic location FZK in Germ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it FZK-F represents a pressurized water reactor with 2381 MW thermal power and equilibrium core, stack height = 100 m, and building dimensions 30 x 30 m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1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14. July 13:0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utomatic reactor shutdown due to a severe earthquake in th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ome damage of unknown extent at the site. State of block FZK-F uncertain, but pressure is building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7720" y="434880"/>
            <a:ext cx="684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ease scenario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3480" y="1270080"/>
            <a:ext cx="83055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15. July 01:0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lanned filtered venting through the 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tion about 1 hour. Release of about 99 % of the initial noble gas inventory (&lt;=&gt; 7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) and 0.1 % of the total initial iodine and aerosol inventory (&lt;=&gt; 9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 of Iodine, assumable in elementary form, and 4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 of radioactive aeroso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17. July 02:00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</a:rPr>
              <a:t> until 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31. July 02:0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Uncontrolled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 of all of the remaining noble gas (&lt;=&gt; 2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), and about 5 % of the initial reactor inventory of iodine and radioactive aerosol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lt;=&gt; total release in this phase of 8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, of Iodine (elementary form assumed), and 9 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q of radioactive aeroso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 rate approximately constant over the uncontrolled phase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0">
              <a:spcBef>
                <a:spcPts val="1250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tical position of the source(s) unknown; 10 m are assumed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ather sequence (hand-ma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2040" y="1198440"/>
            <a:ext cx="82375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venting, the wind blows constantly from east-northeast (75 degrees). After the venting, the wind direction changes to a southerly direction (175 degre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"angular homogeneous contamination pattern" was achieved by a daily shift of the wind direction by 10 degr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though the approach itself does not lead to a realistic weather sequence, the resulting contamination pattern is quite possible for the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ffect of rain is demonstrated by one day of mild precipitation (July 26) during the uncontrolled release pha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whole scenario, the wind speed is about 3 m/s measured in 10 m above ground; the weather is cloudy and mechanical turbulence prevails (Pasquill-Gifford category D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equence assessments with JRo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9200" y="1091880"/>
            <a:ext cx="83566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 hour prognosis of the situation following an assumed 1 hour vent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July 15, 1:00 o'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8 hour prognosis of the situation after start of an assumed constant long duration release, taking into account the situation until July 17, 2:00 o'clock 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calculation covering 97 hours after July 15, 1:00 o'c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bove, but 10 days prognosis duration (covering 241 hours after July 15, 1:00 o'clock, but not yet the day with r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alculation of whole scenario, from July 15, 1:00 o'clock, until the time when the radioactive cloud has left the area (covering 481 hours after July 15, 1:00 o'clock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7360" y="203040"/>
            <a:ext cx="6951960" cy="9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Rodos : Maps of effective and thyroid doses from non-ingestion path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7360" y="1331640"/>
            <a:ext cx="80089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s of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effective do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[mSv] in 1st year, open air exposure, for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4, 97, 241, 481 hours scenario d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 of the three pathway doses following belo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dose from cloud gamma exposure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over the duration of the scenario epis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tted effective dose from inhalation of radioactive material from the cloud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over the duration of the scenario epis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dose from ground gamma exposure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in the fir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3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s of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ommitted thyroid do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[mSv] </a:t>
            </a:r>
            <a:r>
              <a:rPr b="0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by </a:t>
            </a:r>
            <a:r>
              <a:rPr b="0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inhalation of radio-iodin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om the cloud  over the duration of the scenario episo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pen air exposure, for 24, 97, 241, 481 hours scenario d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arately for adults and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3680" y="271080"/>
            <a:ext cx="6968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: Map of effective dose [mSv] in 1st year, open air exposure, for 97 hours scenario dur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3680" y="1682640"/>
            <a:ext cx="7486560" cy="4543560"/>
            <a:chOff x="463680" y="1682640"/>
            <a:chExt cx="7486560" cy="45435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463680" y="1682640"/>
              <a:ext cx="7486560" cy="45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948200" y="5167080"/>
              <a:ext cx="79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 k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30520" y="5148360"/>
              <a:ext cx="79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9800" y="520560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8280" y="2468520"/>
              <a:ext cx="518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Arial"/>
                </a:rPr>
                <a:t>Exposure pathway sum d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86400" y="3890880"/>
              <a:ext cx="8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55:19Z</dcterms:created>
  <dc:creator>Wolfgang Raskob</dc:creator>
  <dc:description/>
  <dc:language>en-US</dc:language>
  <cp:lastModifiedBy>landman-cl</cp:lastModifiedBy>
  <cp:lastPrinted>2010-10-11T07:06:36Z</cp:lastPrinted>
  <dcterms:modified xsi:type="dcterms:W3CDTF">2012-02-06T12:31:15Z</dcterms:modified>
  <cp:revision>112</cp:revision>
  <dc:subject/>
  <dc:title>Folientitel: Arial 26pt fett 2-zeilig: Arial 22pt fett</dc:title>
</cp:coreProperties>
</file>