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6F2-F9DB-4E58-B9DD-C004F426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BE2-A058-419B-885E-C23FD3DD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885-0123-4E41-BF34-B3A553BC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1B0-B158-429F-91F1-E81544D5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F3B-7A60-411D-9E24-9E208756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D96-8E6D-40B8-8174-A1A863C9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E60-0F6A-4215-AB1F-D7990DD0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605-334D-40EC-AA4B-6BEA730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BE5-6039-43A7-B4FA-3D589BAB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792-E9D8-4612-8B74-74E9350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042-20C2-44B2-85D9-2B20878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EE6-10C2-41E9-B7BA-C9B8D127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FD22-6CBA-4C57-9633-354A10B804E1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89880" y="1699200"/>
            <a:ext cx="86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n the current needs in European dec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pport tools for contaminated area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684440" y="3580200"/>
            <a:ext cx="577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sper G. Ander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Center for Nuclear Technolog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echnical University of Denmark (Risø Campu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DK-4000 Roskilde,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69080" y="1413000"/>
            <a:ext cx="84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99"/>
                </a:solidFill>
                <a:latin typeface="Arial"/>
              </a:rPr>
              <a:t>Customisation examples for parameters governing dose in RODOS/ARG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3400" y="1916280"/>
            <a:ext cx="75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Time fraction spent outdoors is important: for 662 keV gamma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the kerma rate is often hundreds of times greater outdoors than indo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74480" y="2708280"/>
            <a:ext cx="76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ndoor time fraction estimate used in the past was not based on Europ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urvey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75920" y="342900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The Expolis EU project (2004) examined the habits of thousands of people i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European cities in detail for use in air pollution studies.  Also a few other (olde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European projects have been conducted (with less detai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57920" y="4437000"/>
            <a:ext cx="867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lation to deterministic calculations of dose to the representative person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RP’s (2007) recommendation for the use of habit data is to use an ‘averag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more highly exposed group or 95th percentile of appropriate national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data’.  Sufficiently detailed regional datasets to derive 95th percentil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vailable for the EXPOLIS st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628640"/>
          <a:ext cx="6840720" cy="2987640"/>
        </p:xfrm>
        <a:graphic>
          <a:graphicData uri="http://schemas.openxmlformats.org/drawingml/2006/table">
            <a:tbl>
              <a:tblPr/>
              <a:tblGrid>
                <a:gridCol w="1587600"/>
                <a:gridCol w="2625480"/>
                <a:gridCol w="262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fraction outdo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fraction indo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lsin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h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no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f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Standard dev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95"/>
          <p:cNvSpPr/>
          <p:nvPr/>
        </p:nvSpPr>
        <p:spPr>
          <a:xfrm>
            <a:off x="0" y="4686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8"/>
          <p:cNvSpPr/>
          <p:nvPr/>
        </p:nvSpPr>
        <p:spPr>
          <a:xfrm>
            <a:off x="322560" y="1051920"/>
            <a:ext cx="79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stimated 95th percentile time fractions spent indoors and outdoo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rious European cities. Average indoor time fraction: 0.8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9"/>
          <p:cNvSpPr/>
          <p:nvPr/>
        </p:nvSpPr>
        <p:spPr>
          <a:xfrm>
            <a:off x="399600" y="4724640"/>
            <a:ext cx="87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ittle variation between cities – no climate tre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 populations might possibly have a different behavi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actors such as age, marital status, working status, education, number of child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nd home environment do not have much 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Weekend and season effects even out over long time integ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merican studies show that children (6-12 y) on average spend some 10-20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more time outdoors than adult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03920" y="1268280"/>
            <a:ext cx="83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Ventilation rate is important: a fractional increase in ventilation rate can lea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n increase by the same fraction in dose contributions from inhalation and in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urface contamin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02120" y="2205000"/>
            <a:ext cx="809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Ventilation rate under </a:t>
            </a:r>
            <a:r>
              <a:rPr b="0" i="1" lang="da-DK" sz="1800" spc="-1" strike="noStrike">
                <a:solidFill>
                  <a:srgbClr val="000000"/>
                </a:solidFill>
                <a:latin typeface="Arial"/>
              </a:rPr>
              <a:t>natural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conditions must be used, as forced ventilat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ssumed to be closed off.  Air tightness investigations are generally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t elevated pressure.  This limits available relevant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1400" y="3213000"/>
            <a:ext cx="61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t high windspeeds ventilation rate increases rather mu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95280" y="364500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f a window is left open, ventilation rate in the room may increase by a factor of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03200" y="407664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Based primarily on datasets from 12 European countries, distinction wa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between 3 horizontal bands in Europe: north, central and south, with mean 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ventilation rates of respectively 0.5, 1.0 and 1.8 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03200" y="5084640"/>
            <a:ext cx="85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or the purpose of calculating dose to representative person, 95th percentiles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alculated. For north, central and south Europe these were respectively 0.9, 1.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nd 3.8 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95280" y="6093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Recommended forced ventilation (e.g., for hotel rooms with ensuite bathroom) can exceed 10 ACH (U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70160" y="119700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33399"/>
                </a:solidFill>
                <a:latin typeface="Arial"/>
              </a:rPr>
              <a:t>Some generic parameterisation needs for the fu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7000" y="1700280"/>
            <a:ext cx="83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ource term is so far generally only considered as a nuclide vector. Import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onsider physicochemical forms of contaminants.  The volatility of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contaminants, e.g., ruthenium, strongly depends on oxidising conditions d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release process. Also inhalation dose needs to consider physicochemical fo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4140360" y="2924280"/>
            <a:ext cx="4643280" cy="3222000"/>
            <a:chOff x="4140360" y="2924280"/>
            <a:chExt cx="4643280" cy="3222000"/>
          </a:xfrm>
        </p:grpSpPr>
        <p:pic>
          <p:nvPicPr>
            <p:cNvPr id="78" name="Picture 8" descr=""/>
            <p:cNvPicPr/>
            <p:nvPr/>
          </p:nvPicPr>
          <p:blipFill>
            <a:blip r:embed="rId4"/>
            <a:stretch/>
          </p:blipFill>
          <p:spPr>
            <a:xfrm>
              <a:off x="4140360" y="2924280"/>
              <a:ext cx="4608360" cy="24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9"/>
            <p:cNvSpPr/>
            <p:nvPr/>
          </p:nvSpPr>
          <p:spPr>
            <a:xfrm>
              <a:off x="4211640" y="522936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st deposition migration: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  90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r dissolved from fuel particles in the areas contaminated by the Chernobyl acci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0"/>
          <p:cNvGrpSpPr/>
          <p:nvPr/>
        </p:nvGrpSpPr>
        <p:grpSpPr>
          <a:xfrm>
            <a:off x="468360" y="2924280"/>
            <a:ext cx="4788000" cy="3739680"/>
            <a:chOff x="468360" y="2924280"/>
            <a:chExt cx="4788000" cy="3739680"/>
          </a:xfrm>
        </p:grpSpPr>
        <p:pic>
          <p:nvPicPr>
            <p:cNvPr id="81" name="Picture 11" descr="auto0"/>
            <p:cNvPicPr/>
            <p:nvPr/>
          </p:nvPicPr>
          <p:blipFill>
            <a:blip r:embed="rId5"/>
            <a:stretch/>
          </p:blipFill>
          <p:spPr>
            <a:xfrm>
              <a:off x="468360" y="2924280"/>
              <a:ext cx="3456000" cy="32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12"/>
            <p:cNvSpPr/>
            <p:nvPr/>
          </p:nvSpPr>
          <p:spPr>
            <a:xfrm>
              <a:off x="684360" y="602136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position velocities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erosol siz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www.dtu.dk"/>
          <p:cNvPicPr/>
          <p:nvPr/>
        </p:nvPicPr>
        <p:blipFill>
          <a:blip r:embed="rId1"/>
          <a:stretch/>
        </p:blipFill>
        <p:spPr>
          <a:xfrm>
            <a:off x="4429080" y="322884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16400" cy="99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295440" cy="728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68360" y="1484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Source term, including physicochemical forms of contaminants, needs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tied to the release process during a power plant accident (e.g., fire, explosion, temperatures, oxidising cond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68360" y="263700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rocess-specific parameterisation is also needed for the current decision support tools (RODOS, ARGOS, European handbook for emergency management) to be made applicable for terror scenarios (e.g., RDD’s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When applied in a ’dirty bomb’, some sources only form large particles, whereas other can be dispersed over a large area.  Post-deposition processes in RODOS and ARGOS are based on caesium (highly specific fix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8360" y="50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Improved modelling of ingestion doses is possible through integration of results of the recent Nordic PARDNOR project (NKS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1:03:17Z</dcterms:created>
  <dc:creator>Kasper Andersson</dc:creator>
  <dc:description/>
  <dc:language>en-US</dc:language>
  <cp:lastModifiedBy>neris</cp:lastModifiedBy>
  <dcterms:modified xsi:type="dcterms:W3CDTF">2012-02-07T09:36:55Z</dcterms:modified>
  <cp:revision>27</cp:revision>
  <dc:subject/>
  <dc:title>Slide 1</dc:title>
</cp:coreProperties>
</file>