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A1DA7-3569-4A65-BD43-228D57201822}" type="datetime">
              <a:rPr b="0" lang="fr-FR" sz="1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BD4A1-76D2-4EA3-A451-9BB4D0686BE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Espace réservé de la dat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90095-3733-4BA2-BB5A-1D8363720DAF}" type="datetime">
              <a:rPr b="0" lang="fr-FR" sz="1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5" name="Espace réservé du numéro de diapositive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274A3-6CA1-41BF-B5FB-03F7F71FE45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8E16-C3B4-4748-ABB2-8B814854D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AD25-08E1-4714-9D16-A96351D5F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901D-4F79-4C50-9205-EF48B05E5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0B0C-A63A-4984-8E6B-C81A61496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B5B41-EE76-403B-8E46-D303E15FB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908A7-427A-40F3-BCEF-8DF997CF6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11354-2707-4921-9E62-18B0D146F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05D19-8782-4DFB-A31A-35F963A34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6B18B-6357-4C0B-B124-AB142171C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98414-8E53-463D-B0B0-600BBE182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9D4B1-A9A2-49B1-A9BB-E16E0DC3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24A7-90D7-4E1E-A038-A39686E87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B1C4A-9509-4FB8-B843-CA0F3DAF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6BC35-9414-4827-91C9-9723E49D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2D416-D143-47C6-B2A1-1E2C2090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F79EE-39B3-4F0C-B331-6597FDB96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B6E8C-10C0-4DDA-A091-D5D664C8F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0778-554A-4BD3-A4E2-8AF65DBD3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0B24-918C-4D93-8DB1-519E8CBC5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0F1B-7589-44E7-BC0B-436E9BF74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0922-7DCA-4D85-96AB-66EFAEEEF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1FEC-9608-44BC-8E52-071580F4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4113-A2D6-4665-80F7-4FC3F5FF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C896-C113-4B0D-A19A-A0B26C0B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944AF-E9D2-41AA-BE12-965B5357635C}" type="datetime">
              <a:rPr b="0" lang="fr-FR" sz="1200" spc="-1" strike="noStrike">
                <a:solidFill>
                  <a:srgbClr val="898989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1D305-3748-4C06-8939-44015449D9FF}" type="slidenum">
              <a:rPr b="0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6C787-4C52-49CD-92D1-706DB3096E58}" type="datetime">
              <a:rPr b="0" lang="fr-FR" sz="1200" spc="-1" strike="noStrike">
                <a:solidFill>
                  <a:srgbClr val="898989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6B3C8-0070-44C1-983B-44D0BAFB10F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ilobreaker.com/earless-bunny-video-stokes-japan-nuke-fears-5_2264630023459700860" TargetMode="External"/><Relationship Id="rId3" Type="http://schemas.openxmlformats.org/officeDocument/2006/relationships/hyperlink" Target="http://www.silobreaker.com/experts-say-it-is-unlikely-a-rabbit-born-without-ears-near-japans-damaged-fukushima-5_2264629136548954215" TargetMode="External"/><Relationship Id="rId4" Type="http://schemas.openxmlformats.org/officeDocument/2006/relationships/hyperlink" Target="http://www.silobreaker.com/japanese-earless-rabbit-no-nuclear-mutant-say-experts-5_2264628986225098793" TargetMode="External"/><Relationship Id="rId5" Type="http://schemas.openxmlformats.org/officeDocument/2006/relationships/hyperlink" Target="http://www.silobreaker.com/earless-bunny-raises-fear-of-effects-of-nuclear-disaster-5_2264628279702978737" TargetMode="External"/><Relationship Id="rId6" Type="http://schemas.openxmlformats.org/officeDocument/2006/relationships/hyperlink" Target="http://www.silobreaker.com/japans-earless-rabbit-a-radiation-mutant-5_2264628118641705017" TargetMode="External"/><Relationship Id="rId7" Type="http://schemas.openxmlformats.org/officeDocument/2006/relationships/image" Target="../media/image6.pn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94920" y="2739600"/>
            <a:ext cx="8317080" cy="22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4000" spc="-1" strike="noStrike">
                <a:solidFill>
                  <a:srgbClr val="006666"/>
                </a:solidFill>
                <a:latin typeface="Calibri"/>
              </a:rPr>
              <a:t>Topic 4: Societal and communication issues and how decision aiding tools might support th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Moderator: Deborah Oughton, UM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88211-7F96-44E9-8D55-61C6AEFEB24D}" type="slidenum">
              <a:rPr b="0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0" y="990720"/>
            <a:ext cx="9144000" cy="342720"/>
          </a:xfrm>
          <a:prstGeom prst="rect">
            <a:avLst/>
          </a:prstGeom>
          <a:solidFill>
            <a:srgbClr val="348c77"/>
          </a:solidFill>
          <a:ln w="19080">
            <a:solidFill>
              <a:srgbClr val="348c77"/>
            </a:solidFill>
            <a:miter/>
          </a:ln>
          <a:effectLst>
            <a:outerShdw dist="1260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92" name="Image 4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2286000" cy="550800"/>
          </a:xfrm>
          <a:prstGeom prst="rect">
            <a:avLst/>
          </a:prstGeom>
          <a:ln w="0">
            <a:noFill/>
          </a:ln>
        </p:spPr>
      </p:pic>
      <p:sp>
        <p:nvSpPr>
          <p:cNvPr id="93" name="TextBox 5"/>
          <p:cNvSpPr/>
          <p:nvPr/>
        </p:nvSpPr>
        <p:spPr>
          <a:xfrm>
            <a:off x="503280" y="1413000"/>
            <a:ext cx="864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First NERIS Platform Workshop: </a:t>
            </a: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Bratislava 6-8</a:t>
            </a:r>
            <a:r>
              <a:rPr b="1" i="1" lang="en-GB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February 2012</a:t>
            </a: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B63F0-A062-4A87-81F1-190927216D1C}" type="slidenum">
              <a:rPr b="0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0" y="990720"/>
            <a:ext cx="9144000" cy="342720"/>
          </a:xfrm>
          <a:prstGeom prst="rect">
            <a:avLst/>
          </a:prstGeom>
          <a:solidFill>
            <a:srgbClr val="348c77"/>
          </a:solidFill>
          <a:ln w="19080">
            <a:solidFill>
              <a:srgbClr val="348c77"/>
            </a:solidFill>
            <a:miter/>
          </a:ln>
          <a:effectLst>
            <a:outerShdw dist="1260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96" name="Image 4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2286000" cy="550800"/>
          </a:xfrm>
          <a:prstGeom prst="rect">
            <a:avLst/>
          </a:prstGeom>
          <a:ln w="0">
            <a:noFill/>
          </a:ln>
        </p:spPr>
      </p:pic>
      <p:sp>
        <p:nvSpPr>
          <p:cNvPr id="97" name="Espace réservé du contenu 2"/>
          <p:cNvSpPr/>
          <p:nvPr/>
        </p:nvSpPr>
        <p:spPr>
          <a:xfrm>
            <a:off x="108000" y="1628640"/>
            <a:ext cx="5904000" cy="41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b-NO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ernobyl lessons</a:t>
            </a: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ial, economic, political, ethical aspects of the accident and remediation actions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igma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mographic changes in communities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isk perception (risk aversion not always due to misunderstanding of probabilities)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ial and Self-help countermeasures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dia and communication 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4680000" y="6519960"/>
            <a:ext cx="45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Arial"/>
              </a:rPr>
              <a:t>Academy Award: Best Short Documentary 2004</a:t>
            </a:r>
            <a:endParaRPr b="0" lang="en-US" sz="16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99" name="Picture 2" descr="http://chernobyl.typepad.com/chernobyl_childrens_proje/images/2007/10/10/chernobylposter.jpg"/>
          <p:cNvPicPr/>
          <p:nvPr/>
        </p:nvPicPr>
        <p:blipFill>
          <a:blip r:embed="rId2"/>
          <a:stretch/>
        </p:blipFill>
        <p:spPr>
          <a:xfrm>
            <a:off x="7020000" y="3789360"/>
            <a:ext cx="1836720" cy="2717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chernobyl bbc3"/>
          <p:cNvPicPr/>
          <p:nvPr/>
        </p:nvPicPr>
        <p:blipFill>
          <a:blip r:embed="rId3"/>
          <a:stretch/>
        </p:blipFill>
        <p:spPr>
          <a:xfrm>
            <a:off x="5580000" y="1484280"/>
            <a:ext cx="3384720" cy="2257560"/>
          </a:xfrm>
          <a:prstGeom prst="rect">
            <a:avLst/>
          </a:prstGeom>
          <a:ln w="0">
            <a:noFill/>
          </a:ln>
        </p:spPr>
      </p:pic>
      <p:sp>
        <p:nvSpPr>
          <p:cNvPr id="101" name="TextBox 8"/>
          <p:cNvSpPr/>
          <p:nvPr/>
        </p:nvSpPr>
        <p:spPr>
          <a:xfrm>
            <a:off x="7601400" y="3933720"/>
            <a:ext cx="11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1f497d"/>
                </a:solidFill>
                <a:latin typeface="Arial"/>
              </a:rPr>
              <a:t>bbcnews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DD01A-911C-46BB-88BD-1AEE53751F78}" type="slidenum">
              <a:rPr b="0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0" y="990720"/>
            <a:ext cx="9144000" cy="342720"/>
          </a:xfrm>
          <a:prstGeom prst="rect">
            <a:avLst/>
          </a:prstGeom>
          <a:solidFill>
            <a:srgbClr val="348c77"/>
          </a:solidFill>
          <a:ln w="19080">
            <a:solidFill>
              <a:srgbClr val="348c77"/>
            </a:solidFill>
            <a:miter/>
          </a:ln>
          <a:effectLst>
            <a:outerShdw dist="1260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04" name="Image 4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2286000" cy="550800"/>
          </a:xfrm>
          <a:prstGeom prst="rect">
            <a:avLst/>
          </a:prstGeom>
          <a:ln w="0">
            <a:noFill/>
          </a:ln>
        </p:spPr>
      </p:pic>
      <p:sp>
        <p:nvSpPr>
          <p:cNvPr id="105" name="Espace réservé du contenu 2"/>
          <p:cNvSpPr/>
          <p:nvPr/>
        </p:nvSpPr>
        <p:spPr>
          <a:xfrm>
            <a:off x="0" y="1341360"/>
            <a:ext cx="6372360" cy="41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allenges:</a:t>
            </a: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 of thousands died in the Fukushima earthquake, nearly half a million were made homeless, yet since the accident most of the Western media focus was on the nuclear incident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ign governments advised evacuation of citizens from a greater area than the Japanese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dine tablets sold out in Europe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than 25 embassies closed or relocated from Tokyo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Stakeholder distrust of models 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5940360" y="4869000"/>
            <a:ext cx="3095640" cy="1465560"/>
          </a:xfrm>
          <a:prstGeom prst="rect">
            <a:avLst/>
          </a:prstGeom>
          <a:noFill/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e also NERIS SRA Topic 3: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challenges in stakeholder involvement and local preparedness and communication strategies</a:t>
            </a:r>
            <a:endParaRPr b="0" lang="en-US" sz="18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07" name="BLOGGER_PHOTO_ID_5620478400620284658" descr="http://3.bp.blogspot.com/-PL_gQPOyaTU/Tf_zU6i6SvI/AAAAAAAABLs/U7_ThJP_eJE/s400/Fukushima.jpg"/>
          <p:cNvPicPr/>
          <p:nvPr/>
        </p:nvPicPr>
        <p:blipFill>
          <a:blip r:embed="rId2"/>
          <a:stretch/>
        </p:blipFill>
        <p:spPr>
          <a:xfrm>
            <a:off x="6107040" y="1800360"/>
            <a:ext cx="28576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211A9-68D6-4591-859B-D901AA31818E}" type="slidenum">
              <a:rPr b="0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0" y="990720"/>
            <a:ext cx="9144000" cy="342720"/>
          </a:xfrm>
          <a:prstGeom prst="rect">
            <a:avLst/>
          </a:prstGeom>
          <a:solidFill>
            <a:srgbClr val="348c77"/>
          </a:solidFill>
          <a:ln w="19080">
            <a:solidFill>
              <a:srgbClr val="348c77"/>
            </a:solidFill>
            <a:miter/>
          </a:ln>
          <a:effectLst>
            <a:outerShdw dist="1260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10" name="Image 4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2286000" cy="550800"/>
          </a:xfrm>
          <a:prstGeom prst="rect">
            <a:avLst/>
          </a:prstGeom>
          <a:ln w="0">
            <a:noFill/>
          </a:ln>
        </p:spPr>
      </p:pic>
      <p:sp>
        <p:nvSpPr>
          <p:cNvPr id="111" name="Espace réservé du contenu 2"/>
          <p:cNvSpPr/>
          <p:nvPr/>
        </p:nvSpPr>
        <p:spPr>
          <a:xfrm>
            <a:off x="108000" y="1628640"/>
            <a:ext cx="8870760" cy="41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mer goods: Examples of New Stakeholder Networks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than 50 countries introduced restrictions on food imports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1f497d"/>
                </a:solidFill>
                <a:latin typeface="Arial"/>
              </a:rPr>
              <a:t>Total value of agricultural products imported to the EU from Japan: €187 million for agricultural products and €18 million for fishery products. </a:t>
            </a:r>
            <a:endParaRPr b="0" lang="en-US" sz="1800" spc="-1" strike="noStrike">
              <a:solidFill>
                <a:srgbClr val="1f497d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1f497d"/>
                </a:solidFill>
                <a:latin typeface="Arial"/>
              </a:rPr>
              <a:t>In 2010, China was the fourth-largest importer of Japanese farm and fishery products </a:t>
            </a:r>
            <a:r>
              <a:rPr b="0" lang="en-US" sz="2000" spc="-1" strike="noStrike">
                <a:solidFill>
                  <a:srgbClr val="1f497d"/>
                </a:solidFill>
                <a:latin typeface="Arial"/>
              </a:rPr>
              <a:t>after</a:t>
            </a:r>
            <a:r>
              <a:rPr b="0" lang="en-US" sz="1800" spc="-1" strike="noStrike">
                <a:solidFill>
                  <a:srgbClr val="1f497d"/>
                </a:solidFill>
                <a:latin typeface="Arial"/>
              </a:rPr>
              <a:t> Hong Kong, the United States and Taiwan, buying items worth about ¥55.5 billion.</a:t>
            </a:r>
            <a:endParaRPr b="0" lang="en-US" sz="1800" spc="-1" strike="noStrike">
              <a:solidFill>
                <a:srgbClr val="1f49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12" name="Picture 1" descr="Imported seafood from Japan is screened for radiation by a chef at a Japanese restaurant in Hong Kong to make sure the food is safe to eat, March 22, 2011"/>
          <p:cNvPicPr/>
          <p:nvPr/>
        </p:nvPicPr>
        <p:blipFill>
          <a:blip r:embed="rId2"/>
          <a:stretch/>
        </p:blipFill>
        <p:spPr>
          <a:xfrm>
            <a:off x="5499000" y="4384800"/>
            <a:ext cx="3394080" cy="2284200"/>
          </a:xfrm>
          <a:prstGeom prst="rect">
            <a:avLst/>
          </a:prstGeom>
          <a:ln w="0">
            <a:noFill/>
          </a:ln>
        </p:spPr>
      </p:pic>
      <p:sp>
        <p:nvSpPr>
          <p:cNvPr id="113" name="TextBox 7"/>
          <p:cNvSpPr/>
          <p:nvPr/>
        </p:nvSpPr>
        <p:spPr>
          <a:xfrm>
            <a:off x="250920" y="4869000"/>
            <a:ext cx="5076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1f497d"/>
                </a:solidFill>
                <a:latin typeface="Arial"/>
              </a:rPr>
              <a:t>Radioactivity: All cars from Japan to be tested for radiation</a:t>
            </a:r>
            <a:r>
              <a:rPr b="1" lang="en-US" sz="2000" spc="-1" strike="noStrike">
                <a:solidFill>
                  <a:srgbClr val="1f497d"/>
                </a:solidFill>
                <a:latin typeface="Arial"/>
              </a:rPr>
              <a:t>”  Headline www.economicsnewspaper.com   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94D6F-3A5F-4B6B-9C0F-313BD6591790}" type="slidenum">
              <a:rPr b="0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0" y="990720"/>
            <a:ext cx="9144000" cy="342720"/>
          </a:xfrm>
          <a:prstGeom prst="rect">
            <a:avLst/>
          </a:prstGeom>
          <a:solidFill>
            <a:srgbClr val="348c77"/>
          </a:solidFill>
          <a:ln w="19080">
            <a:solidFill>
              <a:srgbClr val="348c77"/>
            </a:solidFill>
            <a:miter/>
          </a:ln>
          <a:effectLst>
            <a:outerShdw dist="1260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16" name="Image 4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2286000" cy="550800"/>
          </a:xfrm>
          <a:prstGeom prst="rect">
            <a:avLst/>
          </a:prstGeom>
          <a:ln w="0">
            <a:noFill/>
          </a:ln>
        </p:spPr>
      </p:pic>
      <p:sp>
        <p:nvSpPr>
          <p:cNvPr id="117" name="Espace réservé du contenu 2"/>
          <p:cNvSpPr/>
          <p:nvPr/>
        </p:nvSpPr>
        <p:spPr>
          <a:xfrm>
            <a:off x="3276720" y="189000"/>
            <a:ext cx="518292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cial Media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0" y="1844640"/>
          <a:ext cx="6696000" cy="1800360"/>
        </p:xfrm>
        <a:graphic>
          <a:graphicData uri="http://schemas.openxmlformats.org/drawingml/2006/table">
            <a:tbl>
              <a:tblPr/>
              <a:tblGrid>
                <a:gridCol w="6696000"/>
              </a:tblGrid>
              <a:tr h="257040">
                <a:tc>
                  <a:txBody>
                    <a:bodyPr lIns="76320" rIns="0" tIns="19080" bIns="19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ea typeface="Times New Roman"/>
                          <a:hlinkClick r:id="rId2"/>
                        </a:rPr>
                        <a:t>Earless bunny video stokes Japan nuke fears</a:t>
                      </a:r>
                      <a:r>
                        <a:rPr b="0" lang="en-US" sz="1000" spc="-1" strike="noStrike">
                          <a:solidFill>
                            <a:srgbClr val="303030"/>
                          </a:solidFill>
                          <a:latin typeface="Arial"/>
                          <a:ea typeface="Times New Roman"/>
                        </a:rPr>
                        <a:t> - [Jun 10 2011 - 10connects.com] </a:t>
                      </a:r>
                      <a:endParaRPr b="0" lang="en-US" sz="10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76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7400">
                <a:tc>
                  <a:txBody>
                    <a:bodyPr lIns="76320" rIns="0" tIns="19080" bIns="19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ea typeface="Times New Roman"/>
                          <a:hlinkClick r:id="rId3"/>
                        </a:rPr>
                        <a:t>Experts say it is unlikely a rabbit born withou...</a:t>
                      </a:r>
                      <a:r>
                        <a:rPr b="0" lang="en-US" sz="1000" spc="-1" strike="noStrike">
                          <a:solidFill>
                            <a:srgbClr val="303030"/>
                          </a:solidFill>
                          <a:latin typeface="Arial"/>
                          <a:ea typeface="Times New Roman"/>
                        </a:rPr>
                        <a:t> - [Jun 10 2011 - ONE News] </a:t>
                      </a:r>
                      <a:endParaRPr b="0" lang="en-US" sz="10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76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7040">
                <a:tc>
                  <a:txBody>
                    <a:bodyPr lIns="76320" rIns="0" tIns="19080" bIns="19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ea typeface="Times New Roman"/>
                          <a:hlinkClick r:id="rId4"/>
                        </a:rPr>
                        <a:t>Japanese earless rabbit no nuclear mutant, say ...</a:t>
                      </a:r>
                      <a:r>
                        <a:rPr b="0" lang="en-US" sz="1000" spc="-1" strike="noStrike">
                          <a:solidFill>
                            <a:srgbClr val="303030"/>
                          </a:solidFill>
                          <a:latin typeface="Arial"/>
                          <a:ea typeface="Times New Roman"/>
                        </a:rPr>
                        <a:t> - [Jun 10 2011 - ONE News] </a:t>
                      </a:r>
                      <a:endParaRPr b="0" lang="en-US" sz="10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76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7400">
                <a:tc>
                  <a:txBody>
                    <a:bodyPr lIns="76320" rIns="0" tIns="19080" bIns="19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ea typeface="Times New Roman"/>
                          <a:hlinkClick r:id="rId5"/>
                        </a:rPr>
                        <a:t>Earless bunny raises fear of effects of nuclear...</a:t>
                      </a:r>
                      <a:r>
                        <a:rPr b="0" lang="en-US" sz="1000" spc="-1" strike="noStrike">
                          <a:solidFill>
                            <a:srgbClr val="303030"/>
                          </a:solidFill>
                          <a:latin typeface="Arial"/>
                          <a:ea typeface="Times New Roman"/>
                        </a:rPr>
                        <a:t> - [Jun 09 2011 - New York Daily News] </a:t>
                      </a:r>
                      <a:endParaRPr b="0" lang="en-US" sz="10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76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7040">
                <a:tc>
                  <a:txBody>
                    <a:bodyPr lIns="76320" rIns="0" tIns="19080" bIns="19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ea typeface="Times New Roman"/>
                          <a:hlinkClick r:id="rId6"/>
                        </a:rPr>
                        <a:t>Japan's earless rabbit: A radiation mutant?</a:t>
                      </a:r>
                      <a:r>
                        <a:rPr b="0" lang="en-US" sz="1000" spc="-1" strike="noStrike">
                          <a:solidFill>
                            <a:srgbClr val="303030"/>
                          </a:solidFill>
                          <a:latin typeface="Arial"/>
                          <a:ea typeface="Times New Roman"/>
                        </a:rPr>
                        <a:t> - [Jun 09 2011 - The Week Magazine] </a:t>
                      </a:r>
                      <a:endParaRPr b="0" lang="en-US" sz="10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76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7040">
                <a:tc>
                  <a:txBody>
                    <a:bodyPr lIns="76320" rIns="0" tIns="19080" bIns="19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404080"/>
                          </a:solidFill>
                          <a:latin typeface="Arial"/>
                          <a:ea typeface="Times New Roman"/>
                        </a:rPr>
                        <a:t>Fukushima's "mutant" earless bunny</a:t>
                      </a:r>
                      <a:r>
                        <a:rPr b="0" lang="en-US" sz="1000" spc="-1" strike="noStrike">
                          <a:solidFill>
                            <a:srgbClr val="303030"/>
                          </a:solidFill>
                          <a:latin typeface="Arial"/>
                          <a:ea typeface="Times New Roman"/>
                        </a:rPr>
                        <a:t> - [Jun 09 2011 - Salon] </a:t>
                      </a:r>
                      <a:endParaRPr b="0" lang="en-US" sz="10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76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7400">
                <a:tc>
                  <a:txBody>
                    <a:bodyPr lIns="76320" rIns="0" tIns="19080" bIns="19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404080"/>
                          </a:solidFill>
                          <a:latin typeface="Arial"/>
                          <a:ea typeface="Times New Roman"/>
                        </a:rPr>
                        <a:t>Earless rabbit born near Fukushima nuclear powe...</a:t>
                      </a:r>
                      <a:r>
                        <a:rPr b="0" lang="en-US" sz="1000" spc="-1" strike="noStrike">
                          <a:solidFill>
                            <a:srgbClr val="303030"/>
                          </a:solidFill>
                          <a:latin typeface="Arial"/>
                          <a:ea typeface="Times New Roman"/>
                        </a:rPr>
                        <a:t> - [Jun 09 2011 - Batangas Today] </a:t>
                      </a:r>
                      <a:endParaRPr b="0" lang="en-US" sz="10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 marL="76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9" name="Picture 3" descr="Screen-shot-2011-03-25-at-11"/>
          <p:cNvPicPr/>
          <p:nvPr/>
        </p:nvPicPr>
        <p:blipFill>
          <a:blip r:embed="rId7"/>
          <a:stretch/>
        </p:blipFill>
        <p:spPr>
          <a:xfrm>
            <a:off x="5651640" y="4365720"/>
            <a:ext cx="3205080" cy="23018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324000" y="4797360"/>
            <a:ext cx="6912000" cy="580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Arial"/>
              </a:rPr>
              <a:t>ETHOS IN FUKUSHIMA </a:t>
            </a:r>
            <a:endParaRPr b="0" lang="en-US" sz="1600" spc="-1" strike="noStrike">
              <a:solidFill>
                <a:srgbClr val="1f49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1f497d"/>
                </a:solidFill>
                <a:latin typeface="Arial"/>
              </a:rPr>
              <a:t>原子力災害後の福島で暮らすということ。それでも、ここでの暮らしは素晴らしく、よりよい未来を手渡す事ができるということ。それを、少しずつ、かたちにしていく事を目指しています。 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</a:rPr>
              <a:t>9</a:t>
            </a:r>
            <a:r>
              <a:rPr b="0" lang="ja-JP" sz="1600" spc="-1" strike="noStrike">
                <a:solidFill>
                  <a:srgbClr val="1f497d"/>
                </a:solidFill>
                <a:latin typeface="Arial"/>
              </a:rPr>
              <a:t>月にいわき市で放射線勉強会を開催、そこから、日本版エートス目指して、模索中。 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</a:rPr>
              <a:t>twitter: @ando_ryoko</a:t>
            </a:r>
            <a:r>
              <a:rPr b="0" lang="ja-JP" sz="1600" spc="-1" strike="noStrike">
                <a:solidFill>
                  <a:srgbClr val="1f497d"/>
                </a:solidFill>
                <a:latin typeface="Arial"/>
              </a:rPr>
              <a:t>　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</a:rPr>
              <a:t>mail: ethos.fukushima@gmail.com</a:t>
            </a:r>
            <a:endParaRPr b="0" lang="en-US" sz="1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1" name="TextBox 8"/>
          <p:cNvSpPr/>
          <p:nvPr/>
        </p:nvSpPr>
        <p:spPr>
          <a:xfrm>
            <a:off x="205560" y="3789360"/>
            <a:ext cx="745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</a:rPr>
              <a:t>Blog: “When it's grown wings and spits acid then I'll worry” 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22" name="Picture 16" descr="Fresh fears? This bunny, born without ears, was found near the doomed Fukushima nuclear plant - but experts are sceptical over whether radiation was responsible"/>
          <p:cNvPicPr/>
          <p:nvPr/>
        </p:nvPicPr>
        <p:blipFill>
          <a:blip r:embed="rId8"/>
          <a:stretch/>
        </p:blipFill>
        <p:spPr>
          <a:xfrm>
            <a:off x="5796000" y="1484280"/>
            <a:ext cx="3097080" cy="2158920"/>
          </a:xfrm>
          <a:prstGeom prst="rect">
            <a:avLst/>
          </a:prstGeom>
          <a:ln w="0">
            <a:noFill/>
          </a:ln>
        </p:spPr>
      </p:pic>
      <p:sp>
        <p:nvSpPr>
          <p:cNvPr id="123" name="TextBox 10"/>
          <p:cNvSpPr/>
          <p:nvPr/>
        </p:nvSpPr>
        <p:spPr>
          <a:xfrm>
            <a:off x="0" y="13827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1f497d"/>
                </a:solidFill>
                <a:latin typeface="Arial"/>
              </a:rPr>
              <a:t>The nuclear rabbit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564D8-1E1F-4C9D-9367-02FFD7150039}" type="slidenum">
              <a:rPr b="0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0" y="990720"/>
            <a:ext cx="9144000" cy="342720"/>
          </a:xfrm>
          <a:prstGeom prst="rect">
            <a:avLst/>
          </a:prstGeom>
          <a:solidFill>
            <a:srgbClr val="348c77"/>
          </a:solidFill>
          <a:ln w="19080">
            <a:solidFill>
              <a:srgbClr val="348c77"/>
            </a:solidFill>
            <a:miter/>
          </a:ln>
          <a:effectLst>
            <a:outerShdw dist="1260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26" name="Image 4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2286000" cy="550800"/>
          </a:xfrm>
          <a:prstGeom prst="rect">
            <a:avLst/>
          </a:prstGeom>
          <a:ln w="0">
            <a:noFill/>
          </a:ln>
        </p:spPr>
      </p:pic>
      <p:sp>
        <p:nvSpPr>
          <p:cNvPr id="127" name="Espace réservé du contenu 2"/>
          <p:cNvSpPr/>
          <p:nvPr/>
        </p:nvSpPr>
        <p:spPr>
          <a:xfrm>
            <a:off x="108000" y="1628640"/>
            <a:ext cx="8870760" cy="41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scussion Groups: Overarching Aims</a:t>
            </a: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dentify the stakeholder and communication dimensions of the challenges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ghlight issues of most relevance to the ICRP recommendations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input on how these may be best addressed in decision aiding tools (tools presented at the meeting plus alternatives) 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C1B6D-CC64-4D9F-9D3B-F3D9C0088383}" type="slidenum">
              <a:rPr b="0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0" y="990720"/>
            <a:ext cx="9144000" cy="342720"/>
          </a:xfrm>
          <a:prstGeom prst="rect">
            <a:avLst/>
          </a:prstGeom>
          <a:solidFill>
            <a:srgbClr val="348c77"/>
          </a:solidFill>
          <a:ln w="19080">
            <a:solidFill>
              <a:srgbClr val="348c77"/>
            </a:solidFill>
            <a:miter/>
          </a:ln>
          <a:effectLst>
            <a:outerShdw dist="1260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30" name="Image 4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2286000" cy="550800"/>
          </a:xfrm>
          <a:prstGeom prst="rect">
            <a:avLst/>
          </a:prstGeom>
          <a:ln w="0">
            <a:noFill/>
          </a:ln>
        </p:spPr>
      </p:pic>
      <p:sp>
        <p:nvSpPr>
          <p:cNvPr id="131" name="Espace réservé du contenu 2"/>
          <p:cNvSpPr/>
          <p:nvPr/>
        </p:nvSpPr>
        <p:spPr>
          <a:xfrm>
            <a:off x="152280" y="1371600"/>
            <a:ext cx="887112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Calibri"/>
              </a:rPr>
              <a:t>Questions for Discussion:</a:t>
            </a: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Helvetic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some of the social and political challenges were similar to those seen after Chernobyl, what were the most important differences?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Helvetic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can we improve the definition of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keholders and the framing of the problems, recognising the complexity of the stakeholder networks and relationships?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Helvetic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issue of trade of goods and foodstuffs from contaminated territories clearly illustrates the interaction of technical, management, as well as social concerns. If consumers lose trust in a product this can have serious economic consequences. How might stakeholder and communication processes support the improvement of strategies to address this issue?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Helvetic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Japan, the citizens started to carry out their own decontamination. How can this be addressed in management strategies.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Helvetic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opportunities are there for exploitation of social media and networking within emergency preparedness? How to best approach the issue of contradictory information? 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9T14:12:03Z</dcterms:created>
  <dc:creator>Cyril Croteau</dc:creator>
  <dc:description/>
  <cp:keywords/>
  <dc:language>en-US</dc:language>
  <cp:lastModifiedBy>Deborah Oughton</cp:lastModifiedBy>
  <cp:lastPrinted>2009-10-29T08:49:44Z</cp:lastPrinted>
  <dcterms:modified xsi:type="dcterms:W3CDTF">2012-02-07T08:07:09Z</dcterms:modified>
  <cp:revision>591</cp:revision>
  <dc:subject/>
  <dc:title>Présentation PowerPoint</dc:title>
</cp:coreProperties>
</file>