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A08-4BFD-4B19-8004-5F480798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67C-47AE-471A-AE3C-C702A42E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BF3-74A9-485E-972E-065F67E0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1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20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3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1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20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44C-95D4-4E75-BBFD-11A3F620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4F6F4-23FA-4050-B03B-70A9BAE6C5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42D9-EB0A-49DD-9498-658D49AC0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79BE6-B676-44B7-9348-79919478E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3B491-B6C2-43B3-8354-0730E1766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8BBAD-4313-468B-A5F7-1D760902A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560" y="76320"/>
            <a:ext cx="77724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CBA49-0A66-4DD9-BF19-61668B4FA0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4943-3673-414B-9F7B-EA78C38E4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74F-4735-4445-A87B-67AC5D3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8F27-D887-46C5-A985-76CB53527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26C35-4FBD-4506-BA0A-8B241389A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AFEC-307D-4C67-9741-7662925F52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6B91F-E5D9-464E-AC5E-80F836D578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9156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200" y="115848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9156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200" y="3576600"/>
            <a:ext cx="250236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AECD-3F97-4FF4-A2CB-2D1EE8B60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7CB-4C1F-4457-9F6A-93BB02E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F0D-E312-4C5D-980D-C1919175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C54-A082-4815-A3F4-03AFEEDC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3560" y="76320"/>
            <a:ext cx="777240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77F-267E-4892-9A9B-0E52221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DF6-5161-4AA6-9831-D724ABE9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6240" y="357660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4A1-0FBA-40DF-A10D-EDEBF48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158480"/>
            <a:ext cx="37926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3560" y="3576600"/>
            <a:ext cx="7772400" cy="220788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5C8-698E-401B-8349-991C7B3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142920" y="6375240"/>
            <a:ext cx="3358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SÄTEILYTURVAKESKUS • STRÅLSÄKERHETSCENTRAL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RADIATION AND NUCLEAR SAFETY AUTHOR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4681440" y="5737320"/>
            <a:ext cx="4462560" cy="1120680"/>
            <a:chOff x="4681440" y="5737320"/>
            <a:chExt cx="4462560" cy="1120680"/>
          </a:xfrm>
        </p:grpSpPr>
        <p:pic>
          <p:nvPicPr>
            <p:cNvPr id="2" name="Picture 23" descr="kaari"/>
            <p:cNvPicPr/>
            <p:nvPr/>
          </p:nvPicPr>
          <p:blipFill>
            <a:blip r:embed="rId2"/>
            <a:stretch/>
          </p:blipFill>
          <p:spPr>
            <a:xfrm>
              <a:off x="4681440" y="5737320"/>
              <a:ext cx="4462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6" descr="logo4"/>
            <p:cNvPicPr/>
            <p:nvPr/>
          </p:nvPicPr>
          <p:blipFill>
            <a:blip r:embed="rId3"/>
            <a:stretch/>
          </p:blipFill>
          <p:spPr>
            <a:xfrm>
              <a:off x="7772400" y="6353280"/>
              <a:ext cx="121284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619080" y="6584760"/>
            <a:ext cx="75564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38BA-3ED2-4E0E-A5E3-DD813E04478F}" type="datetime">
              <a:rPr b="0" lang="fi-FI" sz="900" spc="-1" strike="noStrike">
                <a:solidFill>
                  <a:srgbClr val="004c98"/>
                </a:solidFill>
                <a:latin typeface="Calibri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621240" y="6432120"/>
            <a:ext cx="3006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31612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D84-637E-49C5-B899-6B313917045B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4"/>
          <p:cNvSpPr/>
          <p:nvPr/>
        </p:nvSpPr>
        <p:spPr>
          <a:xfrm>
            <a:off x="142920" y="6375240"/>
            <a:ext cx="3358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SÄTEILYTURVAKESKUS • STRÅLSÄKERHETSCENTRAL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Arial"/>
              </a:rPr>
              <a:t>RADIATION AND NUCLEAR SAFETY AUTHORIT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4681440" y="5737320"/>
            <a:ext cx="4462560" cy="1120680"/>
            <a:chOff x="4681440" y="5737320"/>
            <a:chExt cx="4462560" cy="1120680"/>
          </a:xfrm>
        </p:grpSpPr>
        <p:pic>
          <p:nvPicPr>
            <p:cNvPr id="47" name="Picture 23" descr="kaari"/>
            <p:cNvPicPr/>
            <p:nvPr/>
          </p:nvPicPr>
          <p:blipFill>
            <a:blip r:embed="rId2"/>
            <a:stretch/>
          </p:blipFill>
          <p:spPr>
            <a:xfrm>
              <a:off x="4681440" y="5737320"/>
              <a:ext cx="44625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logo4"/>
            <p:cNvPicPr/>
            <p:nvPr/>
          </p:nvPicPr>
          <p:blipFill>
            <a:blip r:embed="rId3"/>
            <a:stretch/>
          </p:blipFill>
          <p:spPr>
            <a:xfrm>
              <a:off x="7772400" y="6353280"/>
              <a:ext cx="121284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63640" indent="-287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50920" indent="-287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2876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531612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0F9-F5B3-43D9-A8DD-62D44A9FC04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621240" y="6432120"/>
            <a:ext cx="30067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4c9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6981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98"/>
                </a:solidFill>
                <a:latin typeface="Calibri"/>
              </a:rPr>
              <a:t>Planned reference and intervention levels in Finland</a:t>
            </a:r>
            <a:endParaRPr b="1" lang="en-US" sz="32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400800" cy="14461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imo Mustonen, ST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RIS – ICRP Work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-8 February 2012, Bratislav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988E-ED0E-4A80-8C2E-C475506FF3AC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6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3560" y="2476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B42C-F3AF-4E42-AA91-638A961CA22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00280" y="1536840"/>
          <a:ext cx="6924600" cy="4146480"/>
        </p:xfrm>
        <a:graphic>
          <a:graphicData uri="http://schemas.openxmlformats.org/drawingml/2006/table">
            <a:tbl>
              <a:tblPr/>
              <a:tblGrid>
                <a:gridCol w="1755720"/>
                <a:gridCol w="1852560"/>
                <a:gridCol w="3316320"/>
              </a:tblGrid>
              <a:tr h="3492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55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Evac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0 mSv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heltering indoors lasts over 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ting evac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0mSv/month and decreasing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lt;10 µSv/h and decresing quick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lt;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lt;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Temporary relo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Sv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(Reference level 20 mSv/first ye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ermanent re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50 mSv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0 mSv in life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etime ambient dose rate 5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3280" y="26676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5D1-2DC2-4B72-9475-A15A8E487CC5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76240" y="1168560"/>
          <a:ext cx="6924600" cy="4956120"/>
        </p:xfrm>
        <a:graphic>
          <a:graphicData uri="http://schemas.openxmlformats.org/drawingml/2006/table">
            <a:tbl>
              <a:tblPr/>
              <a:tblGrid>
                <a:gridCol w="1755720"/>
                <a:gridCol w="1852560"/>
                <a:gridCol w="3316320"/>
              </a:tblGrid>
              <a:tr h="34596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571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lf-decontamination of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lt;0.5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0.4 – 1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– 1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rolled decontamination of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gt;0.5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gt;1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gt;1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nding a contaminated person to hos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rate close to the skin &gt;2 µSv/h over the prevailing dose rate at the monitoring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kin contamin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gt;1000 Bq/c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gt;10 000 Bq/c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rol of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marL="826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gt;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c98"/>
                </a:solidFill>
                <a:latin typeface="Calibri"/>
              </a:rPr>
              <a:t>Purpose and procedure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implement the latest ICRP recommendations (ICRP 103, 109 and 111) into the Finnish authority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drafted by ST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ess still going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to be issued by the Ministry of Inter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guidelines separately for early phase and intermediate phase of a radiological emer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B83-95E8-4B5C-BF21-E154D897F0B4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Protective measures for early phase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74BF-E72F-4C80-8B7D-5737FB3D506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743040" y="1558800"/>
            <a:ext cx="7257960" cy="3936960"/>
            <a:chOff x="743040" y="1558800"/>
            <a:chExt cx="7257960" cy="3936960"/>
          </a:xfrm>
        </p:grpSpPr>
        <p:sp>
          <p:nvSpPr>
            <p:cNvPr id="101" name="Rectangle 31"/>
            <p:cNvSpPr/>
            <p:nvPr/>
          </p:nvSpPr>
          <p:spPr>
            <a:xfrm>
              <a:off x="4563360" y="1923480"/>
              <a:ext cx="3437640" cy="25815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0"/>
            <p:cNvSpPr/>
            <p:nvPr/>
          </p:nvSpPr>
          <p:spPr>
            <a:xfrm>
              <a:off x="745920" y="1914120"/>
              <a:ext cx="3083040" cy="35816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7"/>
            <p:cNvSpPr/>
            <p:nvPr/>
          </p:nvSpPr>
          <p:spPr>
            <a:xfrm>
              <a:off x="745920" y="1558800"/>
              <a:ext cx="308304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concerning popu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18"/>
            <p:cNvSpPr/>
            <p:nvPr/>
          </p:nvSpPr>
          <p:spPr>
            <a:xfrm>
              <a:off x="743040" y="226944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heltering, partial shelter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r use of civil defence shelt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743040" y="2989440"/>
              <a:ext cx="3085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odine prophylax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0"/>
            <p:cNvSpPr/>
            <p:nvPr/>
          </p:nvSpPr>
          <p:spPr>
            <a:xfrm>
              <a:off x="743040" y="349344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cess restrictions 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solation of ar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21"/>
            <p:cNvSpPr/>
            <p:nvPr/>
          </p:nvSpPr>
          <p:spPr>
            <a:xfrm>
              <a:off x="743040" y="4213800"/>
              <a:ext cx="30859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vac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22"/>
            <p:cNvSpPr/>
            <p:nvPr/>
          </p:nvSpPr>
          <p:spPr>
            <a:xfrm>
              <a:off x="743040" y="4717800"/>
              <a:ext cx="30859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tection of workers and oth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ople in outdoor activit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3"/>
            <p:cNvSpPr/>
            <p:nvPr/>
          </p:nvSpPr>
          <p:spPr>
            <a:xfrm>
              <a:off x="4562640" y="1558800"/>
              <a:ext cx="343836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oodstuffs and other produc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4"/>
            <p:cNvSpPr/>
            <p:nvPr/>
          </p:nvSpPr>
          <p:spPr>
            <a:xfrm>
              <a:off x="4560480" y="2278800"/>
              <a:ext cx="344052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ons concerning agricul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25"/>
            <p:cNvSpPr/>
            <p:nvPr/>
          </p:nvSpPr>
          <p:spPr>
            <a:xfrm>
              <a:off x="4560480" y="2801880"/>
              <a:ext cx="344052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ons concerning raw materi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nd production pla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6"/>
            <p:cNvSpPr/>
            <p:nvPr/>
          </p:nvSpPr>
          <p:spPr>
            <a:xfrm>
              <a:off x="4560480" y="3550680"/>
              <a:ext cx="344052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and recommendation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cerning trade and use of foodstuff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nd good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Protective measures for </a:t>
            </a:r>
            <a:r>
              <a:rPr b="1" lang="en-GB" sz="2800" spc="-1" strike="noStrike">
                <a:solidFill>
                  <a:srgbClr val="004c98"/>
                </a:solidFill>
                <a:latin typeface="Calibri"/>
              </a:rPr>
              <a:t>intermediate phase </a:t>
            </a: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D3D-D527-41D0-ABFC-F1A13DA5FCBF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41"/>
          <p:cNvGrpSpPr/>
          <p:nvPr/>
        </p:nvGrpSpPr>
        <p:grpSpPr>
          <a:xfrm>
            <a:off x="492120" y="1263600"/>
            <a:ext cx="8327880" cy="3936960"/>
            <a:chOff x="492120" y="1263600"/>
            <a:chExt cx="8327880" cy="3936960"/>
          </a:xfrm>
        </p:grpSpPr>
        <p:sp>
          <p:nvSpPr>
            <p:cNvPr id="117" name="Rectangle 5"/>
            <p:cNvSpPr/>
            <p:nvPr/>
          </p:nvSpPr>
          <p:spPr>
            <a:xfrm>
              <a:off x="497880" y="1628280"/>
              <a:ext cx="273996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6"/>
            <p:cNvSpPr/>
            <p:nvPr/>
          </p:nvSpPr>
          <p:spPr>
            <a:xfrm>
              <a:off x="497880" y="1263600"/>
              <a:ext cx="2739960" cy="368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concerning peopl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7"/>
            <p:cNvSpPr/>
            <p:nvPr/>
          </p:nvSpPr>
          <p:spPr>
            <a:xfrm>
              <a:off x="492120" y="1764360"/>
              <a:ext cx="274608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inuation or lifting of sheltering, partial shelter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r use of civil defence shelte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9"/>
            <p:cNvSpPr/>
            <p:nvPr/>
          </p:nvSpPr>
          <p:spPr>
            <a:xfrm>
              <a:off x="492120" y="275076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rol of ac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0"/>
            <p:cNvSpPr/>
            <p:nvPr/>
          </p:nvSpPr>
          <p:spPr>
            <a:xfrm>
              <a:off x="492120" y="324216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vac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11"/>
            <p:cNvSpPr/>
            <p:nvPr/>
          </p:nvSpPr>
          <p:spPr>
            <a:xfrm>
              <a:off x="492120" y="3736800"/>
              <a:ext cx="274608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tection of workers and oth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eople in outdoor activit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2"/>
            <p:cNvSpPr/>
            <p:nvPr/>
          </p:nvSpPr>
          <p:spPr>
            <a:xfrm>
              <a:off x="492120" y="4713120"/>
              <a:ext cx="274608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ontamination of peop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3241440" y="1628280"/>
              <a:ext cx="278784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4"/>
            <p:cNvSpPr/>
            <p:nvPr/>
          </p:nvSpPr>
          <p:spPr>
            <a:xfrm>
              <a:off x="3241440" y="1263600"/>
              <a:ext cx="2787840" cy="642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on production and living environmen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5"/>
            <p:cNvSpPr/>
            <p:nvPr/>
          </p:nvSpPr>
          <p:spPr>
            <a:xfrm>
              <a:off x="3235320" y="2116800"/>
              <a:ext cx="279360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ontamination of buildings, roads, gardens, residential interiors, vehicles, tools, etc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6"/>
            <p:cNvSpPr/>
            <p:nvPr/>
          </p:nvSpPr>
          <p:spPr>
            <a:xfrm>
              <a:off x="3235320" y="312228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reasing spreading of radio-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tivity in the environ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18"/>
            <p:cNvSpPr/>
            <p:nvPr/>
          </p:nvSpPr>
          <p:spPr>
            <a:xfrm>
              <a:off x="3235320" y="3879720"/>
              <a:ext cx="27936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 of use of l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19"/>
            <p:cNvSpPr/>
            <p:nvPr/>
          </p:nvSpPr>
          <p:spPr>
            <a:xfrm>
              <a:off x="3235320" y="437976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siness activities in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taminated are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6032160" y="1628280"/>
              <a:ext cx="2787840" cy="357228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28"/>
            <p:cNvSpPr/>
            <p:nvPr/>
          </p:nvSpPr>
          <p:spPr>
            <a:xfrm>
              <a:off x="6032160" y="1263600"/>
              <a:ext cx="2787840" cy="6426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tions on foodstuffs and wat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9"/>
            <p:cNvSpPr/>
            <p:nvPr/>
          </p:nvSpPr>
          <p:spPr>
            <a:xfrm>
              <a:off x="6026400" y="204084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on foodstuffs a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rinking wat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30"/>
            <p:cNvSpPr/>
            <p:nvPr/>
          </p:nvSpPr>
          <p:spPr>
            <a:xfrm>
              <a:off x="6026400" y="2779200"/>
              <a:ext cx="279360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trictions on foodstuff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duction and processing, an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use of untreated wate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31"/>
            <p:cNvSpPr/>
            <p:nvPr/>
          </p:nvSpPr>
          <p:spPr>
            <a:xfrm>
              <a:off x="6026400" y="375588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s on foodstuff produc- tion and water supply sour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2"/>
            <p:cNvSpPr/>
            <p:nvPr/>
          </p:nvSpPr>
          <p:spPr>
            <a:xfrm>
              <a:off x="6026400" y="4474800"/>
              <a:ext cx="27936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s on processing of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odstuffs and drinking water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TextBox 42"/>
          <p:cNvSpPr/>
          <p:nvPr/>
        </p:nvSpPr>
        <p:spPr>
          <a:xfrm>
            <a:off x="1885320" y="5886360"/>
            <a:ext cx="4489200" cy="398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ste containing radioactive sub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own Arrow 43"/>
          <p:cNvSpPr/>
          <p:nvPr/>
        </p:nvSpPr>
        <p:spPr>
          <a:xfrm>
            <a:off x="3924360" y="5334120"/>
            <a:ext cx="714240" cy="466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Main approach 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3560" y="115848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0" bIns="0" anchor="t">
            <a:normAutofit/>
          </a:bodyPr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 mSv effective residual dose from all exposure pathways during the first year of an emergency as the referenc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a projected dose without protective measures during the first year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er than 10 mSv, it is necessary to perform protective measures; radiation expose is dominant in decision mak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– 10 mSv, protective measures are usually justified but other factors effect decision mak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74560" indent="-287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low 1 mSv, the protective measures may be carried out especially if they are easily feasible; other factors are dominant in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223-9B59-4EFF-9AD1-55F42818510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Main approach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B3A7-B4AA-4090-9BB6-FE84CB33FB3D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Straight Arrow Connector 25"/>
          <p:cNvCxnSpPr/>
          <p:nvPr/>
        </p:nvCxnSpPr>
        <p:spPr>
          <a:xfrm flipV="1">
            <a:off x="1295280" y="5438160"/>
            <a:ext cx="6801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Straight Arrow Connector 28"/>
          <p:cNvCxnSpPr/>
          <p:nvPr/>
        </p:nvCxnSpPr>
        <p:spPr>
          <a:xfrm flipH="1" flipV="1">
            <a:off x="1294560" y="1256760"/>
            <a:ext cx="1080" cy="418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TextBox 31"/>
          <p:cNvSpPr/>
          <p:nvPr/>
        </p:nvSpPr>
        <p:spPr>
          <a:xfrm>
            <a:off x="459360" y="3009960"/>
            <a:ext cx="77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idu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os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S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2"/>
          <p:cNvSpPr/>
          <p:nvPr/>
        </p:nvSpPr>
        <p:spPr>
          <a:xfrm>
            <a:off x="8108640" y="527688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897560" y="542916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4"/>
          <p:cNvSpPr/>
          <p:nvPr/>
        </p:nvSpPr>
        <p:spPr>
          <a:xfrm>
            <a:off x="4047480" y="5438880"/>
            <a:ext cx="115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5"/>
          <p:cNvSpPr/>
          <p:nvPr/>
        </p:nvSpPr>
        <p:spPr>
          <a:xfrm>
            <a:off x="6572880" y="542916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cov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37"/>
          <p:cNvSpPr/>
          <p:nvPr/>
        </p:nvSpPr>
        <p:spPr>
          <a:xfrm>
            <a:off x="1235160" y="2631960"/>
            <a:ext cx="11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865800" y="2476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95"/>
          <p:cNvGrpSpPr/>
          <p:nvPr/>
        </p:nvGrpSpPr>
        <p:grpSpPr>
          <a:xfrm>
            <a:off x="1419120" y="2629080"/>
            <a:ext cx="2046240" cy="4680"/>
            <a:chOff x="1419120" y="2629080"/>
            <a:chExt cx="2046240" cy="4680"/>
          </a:xfrm>
        </p:grpSpPr>
        <p:sp>
          <p:nvSpPr>
            <p:cNvPr id="155" name="Straight Connector 39"/>
            <p:cNvSpPr/>
            <p:nvPr/>
          </p:nvSpPr>
          <p:spPr>
            <a:xfrm flipV="1">
              <a:off x="1419120" y="2630880"/>
              <a:ext cx="137448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" name="Group 73"/>
            <p:cNvGrpSpPr/>
            <p:nvPr/>
          </p:nvGrpSpPr>
          <p:grpSpPr>
            <a:xfrm>
              <a:off x="2838960" y="2629080"/>
              <a:ext cx="626400" cy="4680"/>
              <a:chOff x="2838960" y="2629080"/>
              <a:chExt cx="626400" cy="4680"/>
            </a:xfrm>
          </p:grpSpPr>
          <p:sp>
            <p:nvSpPr>
              <p:cNvPr id="157" name="Straight Connector 46"/>
              <p:cNvSpPr/>
              <p:nvPr/>
            </p:nvSpPr>
            <p:spPr>
              <a:xfrm>
                <a:off x="2838960" y="26290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Straight Connector 66"/>
              <p:cNvSpPr/>
              <p:nvPr/>
            </p:nvSpPr>
            <p:spPr>
              <a:xfrm>
                <a:off x="2954880" y="26290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Straight Connector 69"/>
              <p:cNvSpPr/>
              <p:nvPr/>
            </p:nvSpPr>
            <p:spPr>
              <a:xfrm>
                <a:off x="306972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Straight Connector 70"/>
              <p:cNvSpPr/>
              <p:nvPr/>
            </p:nvSpPr>
            <p:spPr>
              <a:xfrm>
                <a:off x="317916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Straight Connector 71"/>
              <p:cNvSpPr/>
              <p:nvPr/>
            </p:nvSpPr>
            <p:spPr>
              <a:xfrm>
                <a:off x="3288600" y="26298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Straight Connector 72"/>
              <p:cNvSpPr/>
              <p:nvPr/>
            </p:nvSpPr>
            <p:spPr>
              <a:xfrm>
                <a:off x="3398040" y="26326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Group 96"/>
          <p:cNvGrpSpPr/>
          <p:nvPr/>
        </p:nvGrpSpPr>
        <p:grpSpPr>
          <a:xfrm>
            <a:off x="3527280" y="3878280"/>
            <a:ext cx="2046600" cy="4680"/>
            <a:chOff x="3527280" y="3878280"/>
            <a:chExt cx="2046600" cy="4680"/>
          </a:xfrm>
        </p:grpSpPr>
        <p:sp>
          <p:nvSpPr>
            <p:cNvPr id="164" name="Straight Connector 97"/>
            <p:cNvSpPr/>
            <p:nvPr/>
          </p:nvSpPr>
          <p:spPr>
            <a:xfrm flipV="1">
              <a:off x="3527280" y="3880080"/>
              <a:ext cx="137484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5" name="Group 73"/>
            <p:cNvGrpSpPr/>
            <p:nvPr/>
          </p:nvGrpSpPr>
          <p:grpSpPr>
            <a:xfrm>
              <a:off x="4947120" y="3878280"/>
              <a:ext cx="626760" cy="4680"/>
              <a:chOff x="4947120" y="3878280"/>
              <a:chExt cx="626760" cy="4680"/>
            </a:xfrm>
          </p:grpSpPr>
          <p:sp>
            <p:nvSpPr>
              <p:cNvPr id="166" name="Straight Connector 99"/>
              <p:cNvSpPr/>
              <p:nvPr/>
            </p:nvSpPr>
            <p:spPr>
              <a:xfrm>
                <a:off x="4947120" y="38782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Straight Connector 100"/>
              <p:cNvSpPr/>
              <p:nvPr/>
            </p:nvSpPr>
            <p:spPr>
              <a:xfrm>
                <a:off x="5063040" y="38782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Straight Connector 101"/>
              <p:cNvSpPr/>
              <p:nvPr/>
            </p:nvSpPr>
            <p:spPr>
              <a:xfrm>
                <a:off x="517788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Straight Connector 102"/>
              <p:cNvSpPr/>
              <p:nvPr/>
            </p:nvSpPr>
            <p:spPr>
              <a:xfrm>
                <a:off x="528768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Straight Connector 103"/>
              <p:cNvSpPr/>
              <p:nvPr/>
            </p:nvSpPr>
            <p:spPr>
              <a:xfrm>
                <a:off x="5397120" y="38790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Straight Connector 104"/>
              <p:cNvSpPr/>
              <p:nvPr/>
            </p:nvSpPr>
            <p:spPr>
              <a:xfrm>
                <a:off x="5506560" y="3881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2" name="Group 105"/>
          <p:cNvGrpSpPr/>
          <p:nvPr/>
        </p:nvGrpSpPr>
        <p:grpSpPr>
          <a:xfrm>
            <a:off x="5961240" y="5006880"/>
            <a:ext cx="2046240" cy="4680"/>
            <a:chOff x="5961240" y="5006880"/>
            <a:chExt cx="2046240" cy="4680"/>
          </a:xfrm>
        </p:grpSpPr>
        <p:sp>
          <p:nvSpPr>
            <p:cNvPr id="173" name="Straight Connector 106"/>
            <p:cNvSpPr/>
            <p:nvPr/>
          </p:nvSpPr>
          <p:spPr>
            <a:xfrm flipV="1">
              <a:off x="5961240" y="5008680"/>
              <a:ext cx="1374480" cy="2880"/>
            </a:xfrm>
            <a:prstGeom prst="line">
              <a:avLst/>
            </a:prstGeom>
            <a:ln w="19080">
              <a:solidFill>
                <a:srgbClr val="004c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4" name="Group 73"/>
            <p:cNvGrpSpPr/>
            <p:nvPr/>
          </p:nvGrpSpPr>
          <p:grpSpPr>
            <a:xfrm>
              <a:off x="7381080" y="5006880"/>
              <a:ext cx="626400" cy="4680"/>
              <a:chOff x="7381080" y="5006880"/>
              <a:chExt cx="626400" cy="4680"/>
            </a:xfrm>
          </p:grpSpPr>
          <p:sp>
            <p:nvSpPr>
              <p:cNvPr id="175" name="Straight Connector 108"/>
              <p:cNvSpPr/>
              <p:nvPr/>
            </p:nvSpPr>
            <p:spPr>
              <a:xfrm>
                <a:off x="7381080" y="5006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Straight Connector 109"/>
              <p:cNvSpPr/>
              <p:nvPr/>
            </p:nvSpPr>
            <p:spPr>
              <a:xfrm>
                <a:off x="7497000" y="50068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Straight Connector 110"/>
              <p:cNvSpPr/>
              <p:nvPr/>
            </p:nvSpPr>
            <p:spPr>
              <a:xfrm>
                <a:off x="761184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Straight Connector 111"/>
              <p:cNvSpPr/>
              <p:nvPr/>
            </p:nvSpPr>
            <p:spPr>
              <a:xfrm>
                <a:off x="772128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Straight Connector 112"/>
              <p:cNvSpPr/>
              <p:nvPr/>
            </p:nvSpPr>
            <p:spPr>
              <a:xfrm>
                <a:off x="7830720" y="500760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Straight Connector 113"/>
              <p:cNvSpPr/>
              <p:nvPr/>
            </p:nvSpPr>
            <p:spPr>
              <a:xfrm>
                <a:off x="7940160" y="5010480"/>
                <a:ext cx="67320" cy="1080"/>
              </a:xfrm>
              <a:prstGeom prst="line">
                <a:avLst/>
              </a:prstGeom>
              <a:ln w="19080">
                <a:solidFill>
                  <a:srgbClr val="004c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1" name="Right Arrow 114"/>
          <p:cNvSpPr/>
          <p:nvPr/>
        </p:nvSpPr>
        <p:spPr>
          <a:xfrm rot="3240000">
            <a:off x="2980080" y="3117240"/>
            <a:ext cx="995400" cy="190440"/>
          </a:xfrm>
          <a:prstGeom prst="rightArrow">
            <a:avLst>
              <a:gd name="adj1" fmla="val 50000"/>
              <a:gd name="adj2" fmla="val 50187"/>
            </a:avLst>
          </a:prstGeom>
          <a:solidFill>
            <a:srgbClr val="2894ff"/>
          </a:solidFill>
          <a:ln w="25560">
            <a:solidFill>
              <a:srgbClr val="289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ight Arrow 115"/>
          <p:cNvSpPr/>
          <p:nvPr/>
        </p:nvSpPr>
        <p:spPr>
          <a:xfrm rot="3240000">
            <a:off x="5535360" y="4366800"/>
            <a:ext cx="993960" cy="1908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2894ff"/>
          </a:solidFill>
          <a:ln w="25560">
            <a:solidFill>
              <a:srgbClr val="289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Categories of contamina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4AAB-10B1-454B-80C8-ADEB46D14F0E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90560" y="1457280"/>
          <a:ext cx="7810560" cy="4522680"/>
        </p:xfrm>
        <a:graphic>
          <a:graphicData uri="http://schemas.openxmlformats.org/drawingml/2006/table">
            <a:tbl>
              <a:tblPr/>
              <a:tblGrid>
                <a:gridCol w="2013120"/>
                <a:gridCol w="1609560"/>
                <a:gridCol w="2151000"/>
                <a:gridCol w="2036880"/>
              </a:tblGrid>
              <a:tr h="10256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amin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(microSv/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gamma and beta emitters together (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, in detachable form (Bq/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ever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gt; 1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 0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890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Heavi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-100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 000 000 – 40 0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ver 40 000 – 4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 - 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00 000 - 4 00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4 000 - 40 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73656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tegory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erately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s than 400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s than 4 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48000"/>
                      </a:srgbClr>
                    </a:solidFill>
                  </a:tcPr>
                </a:tc>
              </a:tr>
              <a:tr h="690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n-contamin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n the level of normal backgrou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 contamination at all or very low 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no contamination at all or very low 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3560" y="7632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ADD-EE0C-4FD2-BD7C-FD8D8E3ECE87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 21"/>
          <p:cNvGrpSpPr/>
          <p:nvPr/>
        </p:nvGrpSpPr>
        <p:grpSpPr>
          <a:xfrm>
            <a:off x="1657800" y="1647720"/>
            <a:ext cx="4730040" cy="2940840"/>
            <a:chOff x="1657800" y="1647720"/>
            <a:chExt cx="4730040" cy="2940840"/>
          </a:xfrm>
        </p:grpSpPr>
        <p:sp>
          <p:nvSpPr>
            <p:cNvPr id="191" name="TextBox 5"/>
            <p:cNvSpPr/>
            <p:nvPr/>
          </p:nvSpPr>
          <p:spPr>
            <a:xfrm>
              <a:off x="1873440" y="1647720"/>
              <a:ext cx="42148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se criterion (as projected first-year do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6"/>
            <p:cNvSpPr/>
            <p:nvPr/>
          </p:nvSpPr>
          <p:spPr>
            <a:xfrm>
              <a:off x="2438280" y="2505240"/>
              <a:ext cx="310500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mbient dose (equivalent) 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7"/>
            <p:cNvSpPr/>
            <p:nvPr/>
          </p:nvSpPr>
          <p:spPr>
            <a:xfrm>
              <a:off x="1657800" y="3362760"/>
              <a:ext cx="47300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irborne concentration (alpha, beta and gamm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1998720" y="4220280"/>
              <a:ext cx="39740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rface activity (alpha, beta and gamma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Down Arrow 11"/>
            <p:cNvSpPr/>
            <p:nvPr/>
          </p:nvSpPr>
          <p:spPr>
            <a:xfrm>
              <a:off x="3740040" y="209556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Down Arrow 12"/>
            <p:cNvSpPr/>
            <p:nvPr/>
          </p:nvSpPr>
          <p:spPr>
            <a:xfrm>
              <a:off x="3736800" y="296568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Down Arrow 13"/>
            <p:cNvSpPr/>
            <p:nvPr/>
          </p:nvSpPr>
          <p:spPr>
            <a:xfrm>
              <a:off x="3746520" y="3807360"/>
              <a:ext cx="171360" cy="333360"/>
            </a:xfrm>
            <a:prstGeom prst="downArrow">
              <a:avLst>
                <a:gd name="adj1" fmla="val 50000"/>
                <a:gd name="adj2" fmla="val 50021"/>
              </a:avLst>
            </a:prstGeom>
            <a:solidFill>
              <a:srgbClr val="ff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219240"/>
            <a:ext cx="7772400" cy="529920"/>
          </a:xfrm>
          <a:prstGeom prst="rect">
            <a:avLst/>
          </a:prstGeom>
          <a:noFill/>
          <a:ln w="0">
            <a:noFill/>
          </a:ln>
        </p:spPr>
        <p:txBody>
          <a:bodyPr lIns="46800" rIns="1656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98"/>
                </a:solidFill>
                <a:latin typeface="Calibri"/>
              </a:rPr>
              <a:t>Dose criteria and operational intervention levels</a:t>
            </a:r>
            <a:endParaRPr b="1" lang="en-US" sz="2800" spc="-1" strike="noStrike">
              <a:solidFill>
                <a:srgbClr val="004c98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316480" y="658800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E433-3296-4039-964D-ECF942300671}" type="slidenum">
              <a:rPr b="0" lang="fi-FI" sz="900" spc="-1" strike="noStrike">
                <a:solidFill>
                  <a:srgbClr val="004c9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621240" y="6432480"/>
            <a:ext cx="3006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00" spc="-1" strike="noStrike">
                <a:solidFill>
                  <a:srgbClr val="004c98"/>
                </a:solidFill>
                <a:latin typeface="Calibri"/>
              </a:rPr>
              <a:t>NERIS - ICRP, Bratislava, 6-8 February 201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05040" y="884160"/>
          <a:ext cx="6610320" cy="5345280"/>
        </p:xfrm>
        <a:graphic>
          <a:graphicData uri="http://schemas.openxmlformats.org/drawingml/2006/table">
            <a:tbl>
              <a:tblPr/>
              <a:tblGrid>
                <a:gridCol w="1819080"/>
                <a:gridCol w="1625760"/>
                <a:gridCol w="3165480"/>
              </a:tblGrid>
              <a:tr h="316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tective 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ose 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Operational intervention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238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Sv/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1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beta emitters 5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gamma emitters 1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0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artial 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56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568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 – 10 mSv/2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0,1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beta emitters 5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gamma emitters 1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ifting the sheltering in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&lt; 10 mSv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 &lt;10 µSv/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eposi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lpha emitters &lt;40 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FI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ong beta and gamma emitters &lt;4 000 000 Bq/m</a:t>
                      </a:r>
                      <a:r>
                        <a:rPr b="0" lang="sv-FI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Iodine prophylax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 mGy to thyroid (adul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8424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mGy to thyroid (childr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mbient dose rat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0 µSv/h for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10 µSv/h for child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I-131 concentration in ai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dults 10 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99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ildren 1000 Bq/m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8:07:06Z</dcterms:created>
  <dc:creator>Raimo Mustonen</dc:creator>
  <dc:description/>
  <dc:language>en-US</dc:language>
  <cp:lastModifiedBy>Raimo Mustonen</cp:lastModifiedBy>
  <dcterms:modified xsi:type="dcterms:W3CDTF">2012-01-27T13:04:05Z</dcterms:modified>
  <cp:revision>23</cp:revision>
  <dc:subject/>
  <dc:title>Planned reference and intervention levels in Finland</dc:title>
</cp:coreProperties>
</file>