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8"/>
          </p:nvPr>
        </p:nvSpPr>
        <p:spPr>
          <a:xfrm>
            <a:off x="3776760" y="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260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93c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666360" y="4714920"/>
            <a:ext cx="5335560" cy="44654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9"/>
          </p:nvPr>
        </p:nvSpPr>
        <p:spPr>
          <a:xfrm>
            <a:off x="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0"/>
          </p:nvPr>
        </p:nvSpPr>
        <p:spPr>
          <a:xfrm>
            <a:off x="377676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E516148-D847-4631-90DC-E00560DE51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77676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3B7E43D-C368-40AD-889C-960D889E253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66360" y="4714920"/>
            <a:ext cx="5335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0620E-4460-41AA-B011-17637BD9C2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771516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71280" y="3892680"/>
            <a:ext cx="771516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A87A0-EB19-4B72-87CC-9C614E70F4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4800" y="187920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71280" y="389268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4800" y="389268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15B79-63B4-4A5B-87FA-DB4E53640E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248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79840" y="1879200"/>
            <a:ext cx="248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8400" y="1879200"/>
            <a:ext cx="248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71280" y="3892680"/>
            <a:ext cx="248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79840" y="3892680"/>
            <a:ext cx="248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8400" y="3892680"/>
            <a:ext cx="248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C23ED-7157-4D96-BF49-7D6F51DA00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71280" y="1879200"/>
            <a:ext cx="7715160" cy="38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771516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376488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24800" y="1879200"/>
            <a:ext cx="376488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50560" y="538200"/>
            <a:ext cx="889308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24800" y="1879200"/>
            <a:ext cx="376488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71280" y="389268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71280" y="1879200"/>
            <a:ext cx="7715160" cy="38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4C1D2-BA2E-4ECC-91B1-B34E7BCA63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376488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4800" y="187920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24800" y="389268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87920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71280" y="3892680"/>
            <a:ext cx="771516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771516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71280" y="3892680"/>
            <a:ext cx="771516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4800" y="187920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71280" y="389268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24800" y="389268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248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79840" y="1879200"/>
            <a:ext cx="248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8400" y="1879200"/>
            <a:ext cx="248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71280" y="3892680"/>
            <a:ext cx="248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79840" y="3892680"/>
            <a:ext cx="248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8400" y="3892680"/>
            <a:ext cx="248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FE28E-4AEC-4EFC-988E-29A532427F0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71280" y="1879200"/>
            <a:ext cx="7715160" cy="38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2B57B-B4C7-43DC-B2FF-29A897972D6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771516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46098-4816-462E-AE09-02F9BCC2BCE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376488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4800" y="1879200"/>
            <a:ext cx="376488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B845E-0C5F-4B2F-8FED-8FDF8DD1EDE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55ACF-CD21-43C3-8D85-A2B254CE91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771516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AEEB3-DFD8-4B99-88C9-1B36DE79030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50560" y="538200"/>
            <a:ext cx="889308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9B514-DA8D-4621-A717-14AC9CECE1D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24800" y="1879200"/>
            <a:ext cx="376488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71280" y="389268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DA848-2705-49F1-976C-B2AADCE70E3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376488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24800" y="187920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24800" y="389268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FAF34-3A23-4F71-8A76-CED3B7C6C11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24800" y="187920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71280" y="3892680"/>
            <a:ext cx="771516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34E72-6802-470A-BCC3-42AB0341356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771516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71280" y="3892680"/>
            <a:ext cx="771516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99703-6290-4CD7-84E4-4DF370620F3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24800" y="187920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71280" y="389268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24800" y="389268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8F85A-409E-4977-88AE-AC1D57F0A7D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248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79840" y="1879200"/>
            <a:ext cx="248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88400" y="1879200"/>
            <a:ext cx="248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971280" y="3892680"/>
            <a:ext cx="248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79840" y="3892680"/>
            <a:ext cx="248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88400" y="3892680"/>
            <a:ext cx="248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2CFA2-907A-40C9-9F2C-9E921C53726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D261FB-4239-4DC5-9D85-5A59FB24955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971280" y="1879200"/>
            <a:ext cx="7715160" cy="38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AE5694-D5EC-40D1-B053-1EB822A9486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771516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0B9882-999D-4172-80D4-C214A0D27C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376488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4800" y="1879200"/>
            <a:ext cx="376488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456C4-E34B-4941-99C3-63DB80AEEB4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376488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24800" y="1879200"/>
            <a:ext cx="376488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F85353-A758-4252-A51D-FE785750BC3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00BBB9-BA91-4808-96F6-C56E1655186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50560" y="538200"/>
            <a:ext cx="889308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8ED26D-2BD4-4408-B549-42A1BAD34E0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24800" y="1879200"/>
            <a:ext cx="376488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71280" y="389268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9C61EB-87F7-414C-AC43-E2BA8AADD48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376488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24800" y="187920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924800" y="389268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3EB3AE-0CB3-42F1-B66E-AB8A36A70FA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24800" y="187920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71280" y="3892680"/>
            <a:ext cx="771516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A92882-5CBE-48FA-B500-BF8700C8973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771516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971280" y="3892680"/>
            <a:ext cx="771516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55A06B-FA58-429B-9845-020A22E41BD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24800" y="187920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71280" y="389268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924800" y="389268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4D4482-398E-45EA-AE44-92296A15CD6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248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579840" y="1879200"/>
            <a:ext cx="248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188400" y="1879200"/>
            <a:ext cx="248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971280" y="3892680"/>
            <a:ext cx="248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579840" y="3892680"/>
            <a:ext cx="248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188400" y="3892680"/>
            <a:ext cx="248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2D32FA-9C21-447E-A82B-187C6F3800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84079-A7BC-4688-9D6C-95F7FFF336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50560" y="538200"/>
            <a:ext cx="889308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B33F8-62A7-41E9-B444-9C217C1A71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4800" y="1879200"/>
            <a:ext cx="376488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71280" y="389268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32FD9-5D50-4D05-96C3-784ECD6982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376488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4800" y="187920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4800" y="389268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E41D5-F625-4F54-8FC4-386A994740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4800" y="187920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71280" y="3892680"/>
            <a:ext cx="771516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A4372-DEAC-4C46-ADAC-46F94DBF37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93c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879200"/>
            <a:ext cx="771516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159840" indent="-159840">
              <a:lnSpc>
                <a:spcPts val="2398"/>
              </a:lnSpc>
              <a:spcBef>
                <a:spcPts val="2625"/>
              </a:spcBef>
              <a:buClr>
                <a:srgbClr val="5793c9"/>
              </a:buClr>
              <a:buSzPct val="75000"/>
              <a:buFont typeface="Arial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54480" indent="-160200">
              <a:lnSpc>
                <a:spcPts val="2398"/>
              </a:lnSpc>
              <a:spcBef>
                <a:spcPts val="2625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69120" indent="-151560">
              <a:lnSpc>
                <a:spcPts val="2398"/>
              </a:lnSpc>
              <a:spcBef>
                <a:spcPts val="2625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40280" indent="-207720">
              <a:lnSpc>
                <a:spcPts val="2398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711800" indent="-207720">
              <a:lnSpc>
                <a:spcPts val="2398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711800" indent="-207720">
              <a:lnSpc>
                <a:spcPts val="2398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711800" indent="-207720">
              <a:lnSpc>
                <a:spcPts val="2398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20640" y="6497280"/>
            <a:ext cx="4680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ffffff"/>
                </a:solidFill>
                <a:latin typeface="Trebuchet MS"/>
              </a:rPr>
              <a:t>NERIS-ConGoo 2</a:t>
            </a:r>
            <a:r>
              <a:rPr b="0" lang="fr-FR" sz="1100" spc="-1" strike="noStrike" baseline="30000">
                <a:solidFill>
                  <a:srgbClr val="ffffff"/>
                </a:solidFill>
                <a:latin typeface="Trebuchet MS"/>
              </a:rPr>
              <a:t>nd</a:t>
            </a:r>
            <a:r>
              <a:rPr b="0" lang="fr-FR" sz="1100" spc="-1" strike="noStrike">
                <a:solidFill>
                  <a:srgbClr val="ffffff"/>
                </a:solidFill>
                <a:latin typeface="Trebuchet MS"/>
              </a:rPr>
              <a:t> meeting – Introdu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24720" y="6497280"/>
            <a:ext cx="719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13EA-5E58-44AF-B256-276623EA6A45}" type="slidenum">
              <a:rPr b="0" lang="fr-FR" sz="10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r>
              <a:rPr b="0" lang="fr-FR" sz="1000" spc="-1" strike="noStrike">
                <a:solidFill>
                  <a:srgbClr val="ffffff"/>
                </a:solidFill>
                <a:latin typeface="Trebuchet MS"/>
              </a:rPr>
              <a:t>/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0" y="0"/>
            <a:ext cx="360360" cy="6858000"/>
          </a:xfrm>
          <a:prstGeom prst="rect">
            <a:avLst/>
          </a:prstGeom>
          <a:solidFill>
            <a:srgbClr val="5793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0" y="719280"/>
            <a:ext cx="2340000" cy="2286000"/>
          </a:xfrm>
          <a:prstGeom prst="rect">
            <a:avLst/>
          </a:prstGeom>
          <a:solidFill>
            <a:srgbClr val="5793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0" y="1087560"/>
            <a:ext cx="1943280" cy="15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4" descr="IRSN_logo"/>
          <p:cNvPicPr/>
          <p:nvPr/>
        </p:nvPicPr>
        <p:blipFill>
          <a:blip r:embed="rId2"/>
          <a:stretch/>
        </p:blipFill>
        <p:spPr>
          <a:xfrm>
            <a:off x="357120" y="1465200"/>
            <a:ext cx="1200240" cy="7923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5"/>
          <p:cNvSpPr/>
          <p:nvPr/>
        </p:nvSpPr>
        <p:spPr>
          <a:xfrm>
            <a:off x="5724360" y="3438360"/>
            <a:ext cx="3419640" cy="3419640"/>
          </a:xfrm>
          <a:prstGeom prst="rect">
            <a:avLst/>
          </a:prstGeom>
          <a:solidFill>
            <a:srgbClr val="c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8" descr="SignatureIRSNB"/>
          <p:cNvPicPr/>
          <p:nvPr/>
        </p:nvPicPr>
        <p:blipFill>
          <a:blip r:embed="rId3"/>
          <a:srcRect l="1121" t="21782" r="1737" b="19307"/>
          <a:stretch/>
        </p:blipFill>
        <p:spPr>
          <a:xfrm>
            <a:off x="357120" y="2778120"/>
            <a:ext cx="1590840" cy="85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93c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71280" y="1879200"/>
            <a:ext cx="771516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159840" indent="-159840">
              <a:lnSpc>
                <a:spcPts val="2398"/>
              </a:lnSpc>
              <a:spcBef>
                <a:spcPts val="2625"/>
              </a:spcBef>
              <a:buClr>
                <a:srgbClr val="5793c9"/>
              </a:buClr>
              <a:buSzPct val="75000"/>
              <a:buFont typeface="Arial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54480" indent="-160200">
              <a:lnSpc>
                <a:spcPts val="2398"/>
              </a:lnSpc>
              <a:spcBef>
                <a:spcPts val="2625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69120" indent="-151560">
              <a:lnSpc>
                <a:spcPts val="2398"/>
              </a:lnSpc>
              <a:spcBef>
                <a:spcPts val="2625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40280" indent="-207720">
              <a:lnSpc>
                <a:spcPts val="2398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711800" indent="-207720">
              <a:lnSpc>
                <a:spcPts val="2398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711800" indent="-207720">
              <a:lnSpc>
                <a:spcPts val="2398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711800" indent="-207720">
              <a:lnSpc>
                <a:spcPts val="2398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53964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0"/>
          <p:cNvSpPr/>
          <p:nvPr/>
        </p:nvSpPr>
        <p:spPr>
          <a:xfrm>
            <a:off x="8424720" y="6497640"/>
            <a:ext cx="719280" cy="360360"/>
          </a:xfrm>
          <a:prstGeom prst="rect">
            <a:avLst/>
          </a:prstGeom>
          <a:solidFill>
            <a:srgbClr val="5793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358920" y="6497640"/>
            <a:ext cx="6984720" cy="360360"/>
          </a:xfrm>
          <a:prstGeom prst="rect">
            <a:avLst/>
          </a:prstGeom>
          <a:solidFill>
            <a:srgbClr val="5793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58920" y="0"/>
            <a:ext cx="8785080" cy="360360"/>
          </a:xfrm>
          <a:prstGeom prst="rect">
            <a:avLst/>
          </a:prstGeom>
          <a:solidFill>
            <a:srgbClr val="5793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1" descr="IRSN_logo"/>
          <p:cNvPicPr/>
          <p:nvPr/>
        </p:nvPicPr>
        <p:blipFill>
          <a:blip r:embed="rId2"/>
          <a:srcRect l="0" t="0" r="0" b="51885"/>
          <a:stretch/>
        </p:blipFill>
        <p:spPr>
          <a:xfrm>
            <a:off x="7485120" y="6500880"/>
            <a:ext cx="784080" cy="2476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93c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71280" y="1879200"/>
            <a:ext cx="771516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159840" indent="-159840">
              <a:lnSpc>
                <a:spcPts val="2398"/>
              </a:lnSpc>
              <a:spcBef>
                <a:spcPts val="2625"/>
              </a:spcBef>
              <a:buClr>
                <a:srgbClr val="5793c9"/>
              </a:buClr>
              <a:buSzPct val="75000"/>
              <a:buFont typeface="Arial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54480" indent="-160200">
              <a:lnSpc>
                <a:spcPts val="2398"/>
              </a:lnSpc>
              <a:spcBef>
                <a:spcPts val="2625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69120" indent="-151560">
              <a:lnSpc>
                <a:spcPts val="2398"/>
              </a:lnSpc>
              <a:spcBef>
                <a:spcPts val="2625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40280" indent="-207720">
              <a:lnSpc>
                <a:spcPts val="2398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711800" indent="-207720">
              <a:lnSpc>
                <a:spcPts val="2398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711800" indent="-207720">
              <a:lnSpc>
                <a:spcPts val="2398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711800" indent="-207720">
              <a:lnSpc>
                <a:spcPts val="2398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4"/>
          </p:nvPr>
        </p:nvSpPr>
        <p:spPr>
          <a:xfrm>
            <a:off x="620640" y="6497280"/>
            <a:ext cx="4680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ffff"/>
                </a:solidFill>
                <a:latin typeface="Trebuchet MS"/>
              </a:rPr>
              <a:t>TITRE DE LA PRESENTATION - </a:t>
            </a:r>
            <a:r>
              <a:rPr b="0" lang="fr-FR" sz="1100" spc="-1" strike="noStrike">
                <a:solidFill>
                  <a:srgbClr val="ffffff"/>
                </a:solidFill>
                <a:latin typeface="Trebuchet MS"/>
              </a:rPr>
              <a:t>DATE DE LA PRES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5"/>
          </p:nvPr>
        </p:nvSpPr>
        <p:spPr>
          <a:xfrm>
            <a:off x="8424720" y="6497280"/>
            <a:ext cx="719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C585-88F6-49A5-B229-B826EE5D4670}" type="slidenum">
              <a:rPr b="0" lang="fr-FR" sz="10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r>
              <a:rPr b="0" lang="fr-FR" sz="1000" spc="-1" strike="noStrike">
                <a:solidFill>
                  <a:srgbClr val="ffffff"/>
                </a:solidFill>
                <a:latin typeface="Trebuchet MS"/>
              </a:rPr>
              <a:t>/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0"/>
          <p:cNvSpPr/>
          <p:nvPr/>
        </p:nvSpPr>
        <p:spPr>
          <a:xfrm>
            <a:off x="8424720" y="6497640"/>
            <a:ext cx="719280" cy="360360"/>
          </a:xfrm>
          <a:prstGeom prst="rect">
            <a:avLst/>
          </a:prstGeom>
          <a:solidFill>
            <a:srgbClr val="5793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358920" y="6497640"/>
            <a:ext cx="6984720" cy="360360"/>
          </a:xfrm>
          <a:prstGeom prst="rect">
            <a:avLst/>
          </a:prstGeom>
          <a:solidFill>
            <a:srgbClr val="5793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358920" y="0"/>
            <a:ext cx="8785080" cy="360360"/>
          </a:xfrm>
          <a:prstGeom prst="rect">
            <a:avLst/>
          </a:prstGeom>
          <a:solidFill>
            <a:srgbClr val="5793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IRSN_logo"/>
          <p:cNvPicPr/>
          <p:nvPr/>
        </p:nvPicPr>
        <p:blipFill>
          <a:blip r:embed="rId2"/>
          <a:srcRect l="0" t="0" r="0" b="51885"/>
          <a:stretch/>
        </p:blipFill>
        <p:spPr>
          <a:xfrm>
            <a:off x="7485120" y="6500880"/>
            <a:ext cx="784080" cy="2476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93c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71280" y="1879200"/>
            <a:ext cx="771516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159840" indent="-159840">
              <a:lnSpc>
                <a:spcPts val="2398"/>
              </a:lnSpc>
              <a:spcBef>
                <a:spcPts val="2625"/>
              </a:spcBef>
              <a:buClr>
                <a:srgbClr val="5793c9"/>
              </a:buClr>
              <a:buSzPct val="75000"/>
              <a:buFont typeface="Arial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54480" indent="-160200">
              <a:lnSpc>
                <a:spcPts val="2398"/>
              </a:lnSpc>
              <a:spcBef>
                <a:spcPts val="2625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69120" indent="-151560">
              <a:lnSpc>
                <a:spcPts val="2398"/>
              </a:lnSpc>
              <a:spcBef>
                <a:spcPts val="2625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40280" indent="-207720">
              <a:lnSpc>
                <a:spcPts val="2398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711800" indent="-207720">
              <a:lnSpc>
                <a:spcPts val="2398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711800" indent="-207720">
              <a:lnSpc>
                <a:spcPts val="2398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711800" indent="-207720">
              <a:lnSpc>
                <a:spcPts val="2398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6"/>
          </p:nvPr>
        </p:nvSpPr>
        <p:spPr>
          <a:xfrm>
            <a:off x="620640" y="6497280"/>
            <a:ext cx="4680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ffffff"/>
                </a:solidFill>
                <a:latin typeface="Trebuchet MS"/>
              </a:rPr>
              <a:t>NERIS-ConGoo 2</a:t>
            </a:r>
            <a:r>
              <a:rPr b="0" lang="fr-FR" sz="1100" spc="-1" strike="noStrike" baseline="30000">
                <a:solidFill>
                  <a:srgbClr val="ffffff"/>
                </a:solidFill>
                <a:latin typeface="Trebuchet MS"/>
              </a:rPr>
              <a:t>nd</a:t>
            </a:r>
            <a:r>
              <a:rPr b="0" lang="fr-FR" sz="1100" spc="-1" strike="noStrike">
                <a:solidFill>
                  <a:srgbClr val="ffffff"/>
                </a:solidFill>
                <a:latin typeface="Trebuchet MS"/>
              </a:rPr>
              <a:t> meeting – Introdu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7"/>
          </p:nvPr>
        </p:nvSpPr>
        <p:spPr>
          <a:xfrm>
            <a:off x="8424720" y="6497280"/>
            <a:ext cx="719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67E5-A530-4A1B-A2A7-875C0D086B54}" type="slidenum">
              <a:rPr b="0" lang="fr-FR" sz="10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r>
              <a:rPr b="0" lang="fr-FR" sz="1000" spc="-1" strike="noStrike">
                <a:solidFill>
                  <a:srgbClr val="ffffff"/>
                </a:solidFill>
                <a:latin typeface="Trebuchet MS"/>
              </a:rPr>
              <a:t>/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55640" y="571320"/>
            <a:ext cx="6048360" cy="2603160"/>
          </a:xfrm>
          <a:prstGeom prst="rect">
            <a:avLst/>
          </a:prstGeom>
          <a:noFill/>
          <a:ln w="0">
            <a:noFill/>
          </a:ln>
        </p:spPr>
        <p:txBody>
          <a:bodyPr lIns="1080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63d4d"/>
                </a:solidFill>
                <a:latin typeface="Trebuchet MS"/>
              </a:rPr>
              <a:t>NERIS</a:t>
            </a:r>
            <a:br>
              <a:rPr sz="3200"/>
            </a:br>
            <a:r>
              <a:rPr b="0" lang="en-GB" sz="3200" spc="-1" strike="noStrike">
                <a:solidFill>
                  <a:srgbClr val="e63d4d"/>
                </a:solidFill>
                <a:latin typeface="Trebuchet MS"/>
              </a:rPr>
              <a:t>WG on Contaminated Goods (ConGoo)</a:t>
            </a:r>
            <a:br>
              <a:rPr sz="3200"/>
            </a:br>
            <a:r>
              <a:rPr b="0" lang="en-GB" sz="3200" spc="-1" strike="noStrike">
                <a:solidFill>
                  <a:srgbClr val="e63d4d"/>
                </a:solidFill>
                <a:latin typeface="Trebuchet MS"/>
              </a:rPr>
              <a:t>2</a:t>
            </a:r>
            <a:r>
              <a:rPr b="0" lang="en-GB" sz="3200" spc="-1" strike="noStrike" baseline="30000">
                <a:solidFill>
                  <a:srgbClr val="e63d4d"/>
                </a:solidFill>
                <a:latin typeface="Trebuchet MS"/>
              </a:rPr>
              <a:t>nd</a:t>
            </a:r>
            <a:r>
              <a:rPr b="0" lang="en-GB" sz="3200" spc="-1" strike="noStrike">
                <a:solidFill>
                  <a:srgbClr val="e63d4d"/>
                </a:solidFill>
                <a:latin typeface="Trebuchet MS"/>
              </a:rPr>
              <a:t> meeting</a:t>
            </a:r>
            <a:br>
              <a:rPr sz="3200"/>
            </a:br>
            <a:r>
              <a:rPr b="0" lang="en-GB" sz="3200" spc="-1" strike="noStrike">
                <a:solidFill>
                  <a:srgbClr val="e63d4d"/>
                </a:solidFill>
                <a:latin typeface="Trebuchet MS"/>
              </a:rPr>
              <a:t>Madrid – 22 May 2013</a:t>
            </a:r>
            <a:endParaRPr b="0" lang="en-US" sz="32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576360" y="3551040"/>
            <a:ext cx="5580000" cy="1228680"/>
          </a:xfrm>
          <a:prstGeom prst="rect">
            <a:avLst/>
          </a:prstGeom>
          <a:noFill/>
          <a:ln w="0">
            <a:noFill/>
          </a:ln>
        </p:spPr>
        <p:txBody>
          <a:bodyPr lIns="126000" anchor="t">
            <a:noAutofit/>
          </a:bodyPr>
          <a:p>
            <a:pPr indent="0">
              <a:lnSpc>
                <a:spcPts val="2398"/>
              </a:lnSpc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793c9"/>
                </a:solidFill>
                <a:latin typeface="Trebuchet MS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500"/>
              </a:lnSpc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793c9"/>
                </a:solidFill>
                <a:latin typeface="Trebuchet MS"/>
              </a:rPr>
              <a:t>Stakes identified in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500"/>
              </a:lnSpc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793c9"/>
                </a:solidFill>
                <a:latin typeface="Trebuchet MS"/>
              </a:rPr>
              <a:t>1st ConGoo me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457280" y="5619600"/>
            <a:ext cx="40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rebuchet MS"/>
              </a:rPr>
              <a:t>Jean-François Lecomte - IR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Espace réservé du pied de page 2"/>
          <p:cNvSpPr/>
          <p:nvPr/>
        </p:nvSpPr>
        <p:spPr>
          <a:xfrm>
            <a:off x="620640" y="6497640"/>
            <a:ext cx="468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ffffff"/>
                </a:solidFill>
                <a:latin typeface="Trebuchet MS"/>
              </a:rPr>
              <a:t>NERIS-ConGoo 2</a:t>
            </a:r>
            <a:r>
              <a:rPr b="0" lang="fr-FR" sz="1100" spc="-1" strike="noStrike" baseline="30000">
                <a:solidFill>
                  <a:srgbClr val="ffffff"/>
                </a:solidFill>
                <a:latin typeface="Trebuchet MS"/>
              </a:rPr>
              <a:t>nd</a:t>
            </a:r>
            <a:r>
              <a:rPr b="0" lang="fr-FR" sz="1100" spc="-1" strike="noStrike">
                <a:solidFill>
                  <a:srgbClr val="ffffff"/>
                </a:solidFill>
                <a:latin typeface="Trebuchet MS"/>
              </a:rPr>
              <a:t> meeting – Introdu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Espace réservé du numéro de diapositive 3"/>
          <p:cNvSpPr/>
          <p:nvPr/>
        </p:nvSpPr>
        <p:spPr>
          <a:xfrm>
            <a:off x="8424720" y="6497640"/>
            <a:ext cx="7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B716-6124-4BA9-B8D4-8F3BA085EECD}" type="slidenum">
              <a:rPr b="0" lang="fr-FR" sz="10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r>
              <a:rPr b="0" lang="fr-FR" sz="1000" spc="-1" strike="noStrike">
                <a:solidFill>
                  <a:srgbClr val="ffffff"/>
                </a:solidFill>
                <a:latin typeface="Trebuchet MS"/>
              </a:rPr>
              <a:t>/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78000" y="385920"/>
            <a:ext cx="8766000" cy="715680"/>
          </a:xfrm>
          <a:prstGeom prst="rect">
            <a:avLst/>
          </a:prstGeom>
          <a:noFill/>
          <a:ln w="0">
            <a:noFill/>
          </a:ln>
        </p:spPr>
        <p:txBody>
          <a:bodyPr lIns="72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ee1010"/>
                </a:solidFill>
                <a:latin typeface="Trebuchet MS"/>
              </a:rPr>
              <a:t>WG-ConGoo</a:t>
            </a:r>
            <a:endParaRPr b="0" lang="en-US" sz="37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509760" y="1957320"/>
            <a:ext cx="831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Created by the NERIS-General Assembly in Glasgow (Scotland) in May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For addressing the management of “contaminated goods” after an accident (WG “ConGoo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1st meeting the 25-26 October 2012 in Paris (Fr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upport for PREPARE/WP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Espace réservé du pied de page 2"/>
          <p:cNvSpPr/>
          <p:nvPr/>
        </p:nvSpPr>
        <p:spPr>
          <a:xfrm>
            <a:off x="620640" y="6497640"/>
            <a:ext cx="468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ffffff"/>
                </a:solidFill>
                <a:latin typeface="Trebuchet MS"/>
              </a:rPr>
              <a:t>NERIS-ConGoo 2</a:t>
            </a:r>
            <a:r>
              <a:rPr b="0" lang="fr-FR" sz="1100" spc="-1" strike="noStrike" baseline="30000">
                <a:solidFill>
                  <a:srgbClr val="ffffff"/>
                </a:solidFill>
                <a:latin typeface="Trebuchet MS"/>
              </a:rPr>
              <a:t>nd</a:t>
            </a:r>
            <a:r>
              <a:rPr b="0" lang="fr-FR" sz="1100" spc="-1" strike="noStrike">
                <a:solidFill>
                  <a:srgbClr val="ffffff"/>
                </a:solidFill>
                <a:latin typeface="Trebuchet MS"/>
              </a:rPr>
              <a:t> meeting – Introdu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8424720" y="6497640"/>
            <a:ext cx="7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AE7E-F105-4233-87B0-1A2C620FB48A}" type="slidenum">
              <a:rPr b="0" lang="fr-FR" sz="10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r>
              <a:rPr b="0" lang="fr-FR" sz="1000" spc="-1" strike="noStrike">
                <a:solidFill>
                  <a:srgbClr val="ffffff"/>
                </a:solidFill>
                <a:latin typeface="Trebuchet MS"/>
              </a:rPr>
              <a:t>/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78000" y="385920"/>
            <a:ext cx="8766000" cy="715680"/>
          </a:xfrm>
          <a:prstGeom prst="rect">
            <a:avLst/>
          </a:prstGeom>
          <a:noFill/>
          <a:ln w="0">
            <a:noFill/>
          </a:ln>
        </p:spPr>
        <p:txBody>
          <a:bodyPr lIns="72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ee1010"/>
                </a:solidFill>
                <a:latin typeface="Trebuchet MS"/>
              </a:rPr>
              <a:t>1st Meeting </a:t>
            </a:r>
            <a:endParaRPr b="0" lang="en-US" sz="37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509760" y="1338120"/>
            <a:ext cx="8316720" cy="61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17 participants from 8 countries (Belgium, France, Greece, Ireland, The Netherlands, Norway, Switzerland, United Kingdom) + OECD/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Topical presentations on national approaches after Chernobyl, Fukushima or other crisis (dioxin in Ireland, heavy metal in Norwegian salmon) for the management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Foodstu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Other commod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Presentation of the NEA/CRPPH WG on trade in commodities and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Presentation of the IRSN (France) WG on foodstuf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pied de page 2"/>
          <p:cNvSpPr/>
          <p:nvPr/>
        </p:nvSpPr>
        <p:spPr>
          <a:xfrm>
            <a:off x="620640" y="6497640"/>
            <a:ext cx="468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ffffff"/>
                </a:solidFill>
                <a:latin typeface="Trebuchet MS"/>
              </a:rPr>
              <a:t>NERIS-ConGoo 2</a:t>
            </a:r>
            <a:r>
              <a:rPr b="0" lang="fr-FR" sz="1100" spc="-1" strike="noStrike" baseline="30000">
                <a:solidFill>
                  <a:srgbClr val="ffffff"/>
                </a:solidFill>
                <a:latin typeface="Trebuchet MS"/>
              </a:rPr>
              <a:t>nd</a:t>
            </a:r>
            <a:r>
              <a:rPr b="0" lang="fr-FR" sz="1100" spc="-1" strike="noStrike">
                <a:solidFill>
                  <a:srgbClr val="ffffff"/>
                </a:solidFill>
                <a:latin typeface="Trebuchet MS"/>
              </a:rPr>
              <a:t> meeting – Introdu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3"/>
          <p:cNvSpPr/>
          <p:nvPr/>
        </p:nvSpPr>
        <p:spPr>
          <a:xfrm>
            <a:off x="8424720" y="6497640"/>
            <a:ext cx="7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FC8A-8CA3-47F2-B98B-83068A236BD8}" type="slidenum">
              <a:rPr b="0" lang="fr-FR" sz="10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r>
              <a:rPr b="0" lang="fr-FR" sz="1000" spc="-1" strike="noStrike">
                <a:solidFill>
                  <a:srgbClr val="ffffff"/>
                </a:solidFill>
                <a:latin typeface="Trebuchet MS"/>
              </a:rPr>
              <a:t>/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78000" y="385920"/>
            <a:ext cx="8766000" cy="715680"/>
          </a:xfrm>
          <a:prstGeom prst="rect">
            <a:avLst/>
          </a:prstGeom>
          <a:noFill/>
          <a:ln w="0">
            <a:noFill/>
          </a:ln>
        </p:spPr>
        <p:txBody>
          <a:bodyPr lIns="72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ee1010"/>
                </a:solidFill>
                <a:latin typeface="Trebuchet MS"/>
              </a:rPr>
              <a:t>Characteristics </a:t>
            </a:r>
            <a:endParaRPr b="0" lang="en-US" sz="37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509760" y="1460520"/>
            <a:ext cx="831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Complex sit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Food = sensitive issue, Man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Lack of harmo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Difficulties for the authorities to respond adequ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Public attitude toward risk, Role of the market (possible boycott even &lt; MP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Compromise between protection of populations and preservation of activities and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Espace réservé du pied de page 2"/>
          <p:cNvSpPr/>
          <p:nvPr/>
        </p:nvSpPr>
        <p:spPr>
          <a:xfrm>
            <a:off x="620640" y="6497640"/>
            <a:ext cx="468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ffffff"/>
                </a:solidFill>
                <a:latin typeface="Trebuchet MS"/>
              </a:rPr>
              <a:t>NERIS-ConGoo 2</a:t>
            </a:r>
            <a:r>
              <a:rPr b="0" lang="fr-FR" sz="1100" spc="-1" strike="noStrike" baseline="30000">
                <a:solidFill>
                  <a:srgbClr val="ffffff"/>
                </a:solidFill>
                <a:latin typeface="Trebuchet MS"/>
              </a:rPr>
              <a:t>nd</a:t>
            </a:r>
            <a:r>
              <a:rPr b="0" lang="fr-FR" sz="1100" spc="-1" strike="noStrike">
                <a:solidFill>
                  <a:srgbClr val="ffffff"/>
                </a:solidFill>
                <a:latin typeface="Trebuchet MS"/>
              </a:rPr>
              <a:t> meeting – Introdu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space réservé du numéro de diapositive 3"/>
          <p:cNvSpPr/>
          <p:nvPr/>
        </p:nvSpPr>
        <p:spPr>
          <a:xfrm>
            <a:off x="8424720" y="6497640"/>
            <a:ext cx="7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C37E-50E0-441A-813D-111912050054}" type="slidenum">
              <a:rPr b="0" lang="fr-FR" sz="10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r>
              <a:rPr b="0" lang="fr-FR" sz="1000" spc="-1" strike="noStrike">
                <a:solidFill>
                  <a:srgbClr val="ffffff"/>
                </a:solidFill>
                <a:latin typeface="Trebuchet MS"/>
              </a:rPr>
              <a:t>/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78000" y="385920"/>
            <a:ext cx="8766000" cy="715680"/>
          </a:xfrm>
          <a:prstGeom prst="rect">
            <a:avLst/>
          </a:prstGeom>
          <a:noFill/>
          <a:ln w="0">
            <a:noFill/>
          </a:ln>
        </p:spPr>
        <p:txBody>
          <a:bodyPr lIns="72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ee1010"/>
                </a:solidFill>
                <a:latin typeface="Trebuchet MS"/>
              </a:rPr>
              <a:t>Discussion </a:t>
            </a:r>
            <a:endParaRPr b="0" lang="en-US" sz="37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509760" y="1130400"/>
            <a:ext cx="8316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Need of a reflection at European level for a comprehensive system for managing contaminated g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In coherence with ICRP recommendations, HERCA statement, International(IAEA) BSS, future Euratom BSS, possible evolution of FAO/WHO Codex Alimentar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Need to involve stakeholders: producers, consumers, processing and retail industries representatives, health and radiological safety authorities, RP exper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Both during preparedness and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Conceptual and topical issue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Espace réservé du pied de page 2"/>
          <p:cNvSpPr/>
          <p:nvPr/>
        </p:nvSpPr>
        <p:spPr>
          <a:xfrm>
            <a:off x="620640" y="6497640"/>
            <a:ext cx="468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ffffff"/>
                </a:solidFill>
                <a:latin typeface="Trebuchet MS"/>
              </a:rPr>
              <a:t>NERIS-ConGoo 2</a:t>
            </a:r>
            <a:r>
              <a:rPr b="0" lang="fr-FR" sz="1100" spc="-1" strike="noStrike" baseline="30000">
                <a:solidFill>
                  <a:srgbClr val="ffffff"/>
                </a:solidFill>
                <a:latin typeface="Trebuchet MS"/>
              </a:rPr>
              <a:t>nd</a:t>
            </a:r>
            <a:r>
              <a:rPr b="0" lang="fr-FR" sz="1100" spc="-1" strike="noStrike">
                <a:solidFill>
                  <a:srgbClr val="ffffff"/>
                </a:solidFill>
                <a:latin typeface="Trebuchet MS"/>
              </a:rPr>
              <a:t> meeting – Introdu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Espace réservé du numéro de diapositive 3"/>
          <p:cNvSpPr/>
          <p:nvPr/>
        </p:nvSpPr>
        <p:spPr>
          <a:xfrm>
            <a:off x="8424720" y="6497640"/>
            <a:ext cx="7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670E-F149-491F-9C90-C7E15F8D0A6F}" type="slidenum">
              <a:rPr b="0" lang="fr-FR" sz="10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r>
              <a:rPr b="0" lang="fr-FR" sz="1000" spc="-1" strike="noStrike">
                <a:solidFill>
                  <a:srgbClr val="ffffff"/>
                </a:solidFill>
                <a:latin typeface="Trebuchet MS"/>
              </a:rPr>
              <a:t>/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78000" y="275760"/>
            <a:ext cx="8766000" cy="716040"/>
          </a:xfrm>
          <a:prstGeom prst="rect">
            <a:avLst/>
          </a:prstGeom>
          <a:noFill/>
          <a:ln w="0">
            <a:noFill/>
          </a:ln>
        </p:spPr>
        <p:txBody>
          <a:bodyPr lIns="72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ee1010"/>
                </a:solidFill>
                <a:latin typeface="Trebuchet MS"/>
              </a:rPr>
              <a:t>Issues considered (Food)</a:t>
            </a:r>
            <a:endParaRPr b="0" lang="en-US" sz="37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620640" y="852480"/>
            <a:ext cx="8317080" cy="85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Exposure situations: emergency, existing, not pl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Public exp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Justification (why not zero risk) and Optim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Internationally: derived MPL for trade (Codex, EU regul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Derived from what? (rationale should be explained and justifi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Comparison with non-radioactively contaminated produc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Evolution with ti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Locally: protection at s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Zoning strate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PL? Same as international? Rationale? Evolu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Other strategy? Solidarity versus Quality impr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Drinking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onitoring, Dilution, Exemption-Clearance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Information and communication (e.g. crowd sourc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Espace réservé du pied de page 2"/>
          <p:cNvSpPr/>
          <p:nvPr/>
        </p:nvSpPr>
        <p:spPr>
          <a:xfrm>
            <a:off x="620640" y="6497640"/>
            <a:ext cx="468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ffffff"/>
                </a:solidFill>
                <a:latin typeface="Trebuchet MS"/>
              </a:rPr>
              <a:t>NERIS-ConGoo 2</a:t>
            </a:r>
            <a:r>
              <a:rPr b="0" lang="fr-FR" sz="1100" spc="-1" strike="noStrike" baseline="30000">
                <a:solidFill>
                  <a:srgbClr val="ffffff"/>
                </a:solidFill>
                <a:latin typeface="Trebuchet MS"/>
              </a:rPr>
              <a:t>nd</a:t>
            </a:r>
            <a:r>
              <a:rPr b="0" lang="fr-FR" sz="1100" spc="-1" strike="noStrike">
                <a:solidFill>
                  <a:srgbClr val="ffffff"/>
                </a:solidFill>
                <a:latin typeface="Trebuchet MS"/>
              </a:rPr>
              <a:t> meeting – Introdu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Espace réservé du numéro de diapositive 3"/>
          <p:cNvSpPr/>
          <p:nvPr/>
        </p:nvSpPr>
        <p:spPr>
          <a:xfrm>
            <a:off x="8424720" y="6497640"/>
            <a:ext cx="7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210C-708A-4517-8F40-285DDF70CCCB}" type="slidenum">
              <a:rPr b="0" lang="fr-FR" sz="10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r>
              <a:rPr b="0" lang="fr-FR" sz="1000" spc="-1" strike="noStrike">
                <a:solidFill>
                  <a:srgbClr val="ffffff"/>
                </a:solidFill>
                <a:latin typeface="Trebuchet MS"/>
              </a:rPr>
              <a:t>/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78000" y="385920"/>
            <a:ext cx="8766000" cy="715680"/>
          </a:xfrm>
          <a:prstGeom prst="rect">
            <a:avLst/>
          </a:prstGeom>
          <a:noFill/>
          <a:ln w="0">
            <a:noFill/>
          </a:ln>
        </p:spPr>
        <p:txBody>
          <a:bodyPr lIns="72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ee1010"/>
                </a:solidFill>
                <a:latin typeface="Trebuchet MS"/>
              </a:rPr>
              <a:t>Other goods </a:t>
            </a:r>
            <a:endParaRPr b="0" lang="en-US" sz="37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509760" y="1338120"/>
            <a:ext cx="8316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Contamination process ≠ for food (except raw materi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No MPL currently existing (transport numbers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Decontamination of goods? Dil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Transport (goods + cre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anagement of w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Control and controllability: do we need much regul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takeholder approach (how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Espace réservé du pied de page 2"/>
          <p:cNvSpPr/>
          <p:nvPr/>
        </p:nvSpPr>
        <p:spPr>
          <a:xfrm>
            <a:off x="620640" y="6497640"/>
            <a:ext cx="468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ffffff"/>
                </a:solidFill>
                <a:latin typeface="Trebuchet MS"/>
              </a:rPr>
              <a:t>NERIS-ConGoo 2</a:t>
            </a:r>
            <a:r>
              <a:rPr b="0" lang="fr-FR" sz="1100" spc="-1" strike="noStrike" baseline="30000">
                <a:solidFill>
                  <a:srgbClr val="ffffff"/>
                </a:solidFill>
                <a:latin typeface="Trebuchet MS"/>
              </a:rPr>
              <a:t>nd</a:t>
            </a:r>
            <a:r>
              <a:rPr b="0" lang="fr-FR" sz="1100" spc="-1" strike="noStrike">
                <a:solidFill>
                  <a:srgbClr val="ffffff"/>
                </a:solidFill>
                <a:latin typeface="Trebuchet MS"/>
              </a:rPr>
              <a:t> meeting – Introdu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Espace réservé du numéro de diapositive 3"/>
          <p:cNvSpPr/>
          <p:nvPr/>
        </p:nvSpPr>
        <p:spPr>
          <a:xfrm>
            <a:off x="8424720" y="6497640"/>
            <a:ext cx="7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1318-969E-4D09-8A29-3FE5CF0E4E45}" type="slidenum">
              <a:rPr b="0" lang="fr-FR" sz="10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r>
              <a:rPr b="0" lang="fr-FR" sz="1000" spc="-1" strike="noStrike">
                <a:solidFill>
                  <a:srgbClr val="ffffff"/>
                </a:solidFill>
                <a:latin typeface="Trebuchet MS"/>
              </a:rPr>
              <a:t>/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1181160" y="2900520"/>
            <a:ext cx="72644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63d4d"/>
                </a:solidFill>
                <a:latin typeface="Trebuchet MS"/>
                <a:ea typeface="ＭＳ Ｐゴシック"/>
              </a:rPr>
              <a:t> </a:t>
            </a:r>
            <a:r>
              <a:rPr b="0" lang="en-GB" sz="4000" spc="-1" strike="noStrike">
                <a:solidFill>
                  <a:srgbClr val="e63d4d"/>
                </a:solidFill>
                <a:latin typeface="Trebuchet MS"/>
                <a:ea typeface="ＭＳ Ｐゴシック"/>
              </a:rPr>
              <a:t>The reflection must go o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0:11:41Z</dcterms:created>
  <dc:creator>TRAN</dc:creator>
  <dc:description/>
  <dc:language>en-US</dc:language>
  <cp:lastModifiedBy>Sandra BIGUENET</cp:lastModifiedBy>
  <dcterms:modified xsi:type="dcterms:W3CDTF">2013-05-24T09:27:54Z</dcterms:modified>
  <cp:revision>45</cp:revision>
  <dc:subject/>
  <dc:title>Diapositive 1</dc:title>
</cp:coreProperties>
</file>