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1744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5CBA-D5F7-4B8E-8599-1420B6D1B488}" type="datetime">
              <a:rPr b="0" lang="ja-JP" sz="1200" spc="-1" strike="noStrike">
                <a:solidFill>
                  <a:srgbClr val="000000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1744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3140-397A-41FA-A6FF-112F085F16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1098-04B2-4254-A167-A1AA7BCF04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CC75-6B25-4BEA-852E-BAAECEE0AE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6775-A207-45F3-A4ED-676CBE7D6B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DC5A-C947-4CD0-A8A2-35401B521F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A7A5-38B5-40E8-88B0-1DD8A72C55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B710-E572-41ED-BE50-A3B7950095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8BD1-63E9-4C1E-9B3D-6F0908A85A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22B0-2EFF-4EA6-8B8E-DF66A977D9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900A-A767-45E5-96FC-FEDD6CAC25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2FCA-AABA-4E37-9602-EEC55B1CD0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74E9-8FEA-4568-A1DC-DC6803EFB9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0920-3FEE-4967-B9DA-45DEB1CBE0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AF22-6329-49AE-81B3-B3F362F31C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A02-A58B-4CE5-98C7-7104482EBE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2350-C03F-4EF0-8F26-56CEE42C19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1B2A-4F4B-40D1-AE0B-758EDFAFA5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F845-222C-4DC2-A5ED-E8EE5C1DA6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7CBA-9802-4698-A807-A702FCE66D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F6BB-29C5-4FE7-9E82-8A6D5E2022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FFF5-7AFF-4D19-996C-8F6846BF09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7FDD-C347-4663-8615-E0C82E30A8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F364-B09C-44AE-B43B-0C5C630374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8A40-5064-4D21-9B4C-25D0A10360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EDAA-7FA0-4899-A110-0B927D0B78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13B7-DF4E-4299-9057-3C17DDB35A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CE9B-F9F4-4296-AAD0-14A7A1075E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95FE-8B80-4B61-91F2-297ADD90D9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4FA-3D83-4A52-ACED-0BC98CFC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DAF-BDEA-4B93-A794-435982CA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78C-10BB-4CB2-9A8D-B627DE5B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B86-339A-48FF-BB15-609EDF3E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4CDD-D5A0-4341-9743-B285A2D2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D859-4013-4F71-87F8-140DFB67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50BB-FFF5-440D-A9C8-1BD3F33D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5C93-8A0B-49F2-9D4C-9A6460D7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86C6-C479-455C-A1D1-99A919D8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B174-AD5B-4698-A0EF-A3C8C837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D88C-7961-47B0-89F0-14BC79A6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FC0-0247-462D-A707-B3302328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9F36-8948-4D72-AB62-989DFDA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C37A-7B46-4CCE-9EC6-BEEB0AC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253E-8207-4E6D-B029-FBA5C3DA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CBFA-000C-48EB-8A9F-86F32161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FFB1-6138-4705-A530-4FCB03A5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7A4-88C1-46CA-BA03-CB3BCD42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481-210B-4EC7-A3A4-1C17E6C3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6D9-6E10-408C-A64A-3FE4729B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098-E718-4A8B-97F4-B982C12D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1FE-C7A5-448D-B254-ECCDB6E8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63C-8834-4BC1-B0F9-1FFBBF8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CAD-5E59-431C-BE9C-F4EEB14C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FC4-2207-4AB8-86E6-10CA79B1C11D}" type="datetime">
              <a:rPr b="0" lang="ja-JP" sz="1200" spc="-1" strike="noStrike">
                <a:solidFill>
                  <a:srgbClr val="898989"/>
                </a:solidFill>
                <a:latin typeface="Arial"/>
                <a:ea typeface="Arial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CRI11E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6347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0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3941-80F7-47AA-9E98-DA2F240AE409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図 7" descr="Logo.jpg"/>
          <p:cNvPicPr/>
          <p:nvPr/>
        </p:nvPicPr>
        <p:blipFill>
          <a:blip r:embed="rId2"/>
          <a:stretch/>
        </p:blipFill>
        <p:spPr>
          <a:xfrm>
            <a:off x="7448400" y="6323040"/>
            <a:ext cx="1508400" cy="433440"/>
          </a:xfrm>
          <a:prstGeom prst="rect">
            <a:avLst/>
          </a:prstGeom>
          <a:ln w="0">
            <a:noFill/>
          </a:ln>
        </p:spPr>
      </p:pic>
      <p:sp>
        <p:nvSpPr>
          <p:cNvPr id="4" name="テキスト ボックス 6"/>
          <p:cNvSpPr/>
          <p:nvPr/>
        </p:nvSpPr>
        <p:spPr>
          <a:xfrm>
            <a:off x="131040" y="63864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©CRIE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7" descr="Logo.jpg"/>
          <p:cNvPicPr/>
          <p:nvPr/>
        </p:nvPicPr>
        <p:blipFill>
          <a:blip r:embed="rId2"/>
          <a:stretch/>
        </p:blipFill>
        <p:spPr>
          <a:xfrm>
            <a:off x="7448400" y="6323040"/>
            <a:ext cx="1508400" cy="43344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6"/>
          <p:cNvSpPr/>
          <p:nvPr/>
        </p:nvSpPr>
        <p:spPr>
          <a:xfrm>
            <a:off x="131040" y="63864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©CRIE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BEAD-DC4A-4D0B-923E-BB6FA3A3C979}" type="datetime">
              <a:rPr b="0" lang="ja-JP" sz="1200" spc="-1" strike="noStrike">
                <a:solidFill>
                  <a:srgbClr val="898989"/>
                </a:solidFill>
                <a:latin typeface="Arial"/>
                <a:ea typeface="Arial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CRI11E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3505320" y="6347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0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6F05-FF03-4E22-9821-9CB3C0EB9F90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テキスト ボックス 6"/>
          <p:cNvSpPr/>
          <p:nvPr/>
        </p:nvSpPr>
        <p:spPr>
          <a:xfrm>
            <a:off x="131040" y="63864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©CRIE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8"/>
          <p:cNvSpPr/>
          <p:nvPr/>
        </p:nvSpPr>
        <p:spPr>
          <a:xfrm>
            <a:off x="152280" y="171936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e national framework for the management of foodstuff in Japan following the Fukushima acci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9"/>
          <p:cNvSpPr/>
          <p:nvPr/>
        </p:nvSpPr>
        <p:spPr>
          <a:xfrm>
            <a:off x="84240" y="5345280"/>
            <a:ext cx="897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Radiation Safety Research Center, Nuclear Technology Research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Central Research Institute of Electric Power Industry (CRIEPI), Tokyo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12"/>
          <p:cNvSpPr/>
          <p:nvPr/>
        </p:nvSpPr>
        <p:spPr>
          <a:xfrm>
            <a:off x="136800" y="14112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22 May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CIEMAT, Madrid,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図 7" descr="Logo.jpg"/>
          <p:cNvPicPr/>
          <p:nvPr/>
        </p:nvPicPr>
        <p:blipFill>
          <a:blip r:embed="rId1"/>
          <a:stretch/>
        </p:blipFill>
        <p:spPr>
          <a:xfrm>
            <a:off x="7448400" y="6323040"/>
            <a:ext cx="1508400" cy="433440"/>
          </a:xfrm>
          <a:prstGeom prst="rect">
            <a:avLst/>
          </a:prstGeom>
          <a:ln w="0">
            <a:noFill/>
          </a:ln>
        </p:spPr>
      </p:pic>
      <p:sp>
        <p:nvSpPr>
          <p:cNvPr id="96" name="テキスト ボックス 12"/>
          <p:cNvSpPr/>
          <p:nvPr/>
        </p:nvSpPr>
        <p:spPr>
          <a:xfrm>
            <a:off x="156960" y="96840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he 2nd Meeting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he NERIS Working Group on Contaminated goods (ConGo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イチゴのバスケット"/>
          <p:cNvPicPr/>
          <p:nvPr/>
        </p:nvPicPr>
        <p:blipFill>
          <a:blip r:embed="rId2"/>
          <a:stretch/>
        </p:blipFill>
        <p:spPr>
          <a:xfrm>
            <a:off x="171360" y="3645000"/>
            <a:ext cx="1517760" cy="1719000"/>
          </a:xfrm>
          <a:prstGeom prst="rect">
            <a:avLst/>
          </a:prstGeom>
          <a:ln w="0">
            <a:noFill/>
          </a:ln>
        </p:spPr>
      </p:pic>
      <p:pic>
        <p:nvPicPr>
          <p:cNvPr id="98" name="図 10" descr=""/>
          <p:cNvPicPr/>
          <p:nvPr/>
        </p:nvPicPr>
        <p:blipFill>
          <a:blip r:embed="rId3"/>
          <a:stretch/>
        </p:blipFill>
        <p:spPr>
          <a:xfrm>
            <a:off x="6946920" y="3505320"/>
            <a:ext cx="1892160" cy="1771560"/>
          </a:xfrm>
          <a:prstGeom prst="rect">
            <a:avLst/>
          </a:prstGeom>
          <a:ln w="0">
            <a:noFill/>
          </a:ln>
        </p:spPr>
      </p:pic>
      <p:sp>
        <p:nvSpPr>
          <p:cNvPr id="99" name="テキスト ボックス 10"/>
          <p:cNvSpPr/>
          <p:nvPr/>
        </p:nvSpPr>
        <p:spPr>
          <a:xfrm>
            <a:off x="1486080" y="441000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Nobuyuki Hamada,</a:t>
            </a:r>
            <a:r>
              <a:rPr b="1" lang="ja-JP" sz="25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Haruyuki Ogino, and Yuki Fujimich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スライド番号プレースホルダ 10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CA91-C8E4-4EB1-95CD-08AFA7173DD7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テキスト ボックス 8"/>
          <p:cNvSpPr/>
          <p:nvPr/>
        </p:nvSpPr>
        <p:spPr>
          <a:xfrm>
            <a:off x="2106360" y="114480"/>
            <a:ext cx="49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RV for radiocesi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4484-C51E-46A3-91F4-334B8081E8F3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4"/>
          <p:cNvSpPr/>
          <p:nvPr/>
        </p:nvSpPr>
        <p:spPr>
          <a:xfrm>
            <a:off x="77760" y="1844640"/>
            <a:ext cx="8987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values were derived from the index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ues were defined in water, and five categories of food (i.e., all foo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vention level/category considered was a committed effective dose of 1 mSv/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x values were calculated as radioactive concentrations of indicator radionuclides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) by postulating the relative radioactive concentration of coexisting radionuclides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r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テキスト ボックス 8"/>
          <p:cNvSpPr/>
          <p:nvPr/>
        </p:nvSpPr>
        <p:spPr>
          <a:xfrm>
            <a:off x="216000" y="11448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RV for radioiodines and radiocesi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1391-36E0-46CC-B01F-C2259102D5B3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4"/>
          <p:cNvSpPr/>
          <p:nvPr/>
        </p:nvSpPr>
        <p:spPr>
          <a:xfrm>
            <a:off x="157320" y="4495680"/>
            <a:ext cx="898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rding to PRV, the levels of indicator radionuclides were only moni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V was used until 31 March 2012 albeit “provision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let’s see the food safety regulations implemented until 31 March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図 4" descr=""/>
          <p:cNvPicPr/>
          <p:nvPr/>
        </p:nvPicPr>
        <p:blipFill>
          <a:blip r:embed="rId1"/>
          <a:stretch/>
        </p:blipFill>
        <p:spPr>
          <a:xfrm>
            <a:off x="98280" y="1328760"/>
            <a:ext cx="89474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テキスト ボックス 8"/>
          <p:cNvSpPr/>
          <p:nvPr/>
        </p:nvSpPr>
        <p:spPr>
          <a:xfrm>
            <a:off x="2613960" y="114480"/>
            <a:ext cx="39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Areas of conc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AB51-E755-4060-A921-42505836A8C1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4"/>
          <p:cNvSpPr/>
          <p:nvPr/>
        </p:nvSpPr>
        <p:spPr>
          <a:xfrm>
            <a:off x="4572000" y="1536840"/>
            <a:ext cx="4419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prefectures of which name is indicated in the map were assigned as target local governments for food monitoring surv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y-colored area emphasizes prefectures in which restrictions on distribution and/or consumption of food and/or water were implem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denotes the Fukushima nuclea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plan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図 5" descr=""/>
          <p:cNvPicPr/>
          <p:nvPr/>
        </p:nvPicPr>
        <p:blipFill>
          <a:blip r:embed="rId1"/>
          <a:stretch/>
        </p:blipFill>
        <p:spPr>
          <a:xfrm>
            <a:off x="152280" y="1109520"/>
            <a:ext cx="433404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テキスト ボックス 8"/>
          <p:cNvSpPr/>
          <p:nvPr/>
        </p:nvSpPr>
        <p:spPr>
          <a:xfrm>
            <a:off x="1575360" y="114480"/>
            <a:ext cx="59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Brief outline of reg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33A8-7915-4047-B27F-20314D99C005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4"/>
          <p:cNvSpPr/>
          <p:nvPr/>
        </p:nvSpPr>
        <p:spPr>
          <a:xfrm>
            <a:off x="157320" y="914400"/>
            <a:ext cx="8986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LW instructed and lifted restrictions on consumption (distribution restrictions were not instruct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was exceeded in 68 samples among 83,074 samples of which monitoring data was reported between 21 March 2011 and 31 March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RHQ imposed and removed restrictions on distribution and consumption, taking into account the advice from NSC as to the necessity of restri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was exceeded in 1,519 samples among 137,337 samples of which monitoring data was reported between 19 March 2011 and 31 March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ear criteria were provided to remove restrictions, but not to order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mely, concrete boundary values of radioactive concentrations for “highly contaminated food” and “very highly contaminated food” were not defined to restrict distribution and consumption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テキスト ボックス 8"/>
          <p:cNvSpPr/>
          <p:nvPr/>
        </p:nvSpPr>
        <p:spPr>
          <a:xfrm>
            <a:off x="1575360" y="114480"/>
            <a:ext cx="59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Brief outline of reg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20E9-9760-42A9-8B0E-5C5BA8B89E72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4"/>
          <p:cNvSpPr/>
          <p:nvPr/>
        </p:nvSpPr>
        <p:spPr>
          <a:xfrm>
            <a:off x="76320" y="844560"/>
            <a:ext cx="8986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for radioiodines was exceeded in tap water and food sampled from 16 March 2011 to 21 May 2011 (i.e., 67 day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it remains unclear whether contamination at levels of concern had occurred on 12-15 March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imum concentration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detected was 54,100 Bq/kg in spinach sampled in Ibaraki Prefecture on 18 March 2011 (max in Fukushima = 22,000 Bq/k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for radiocesiums was exceeded in tap water and food sampled from 18 March 2011 to 31 March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imum total concentration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detected was 82,000 Bq/kg in kukitachi-na sampled in Fukushima Prefecture on 21 March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was initially exceeded in tap water, raw milk and leafy vegetables, and subsequently in other foodstuffs such as mushrooms, aquatic products, beef and tea lea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astal fish that inhabit the deeper sea tended to become contaminated at a lat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テキスト ボックス 8"/>
          <p:cNvSpPr/>
          <p:nvPr/>
        </p:nvSpPr>
        <p:spPr>
          <a:xfrm>
            <a:off x="1575360" y="114480"/>
            <a:ext cx="59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Brief outline of reg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C316-E693-4C83-8633-703DA533BE55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4"/>
          <p:cNvSpPr/>
          <p:nvPr/>
        </p:nvSpPr>
        <p:spPr>
          <a:xfrm>
            <a:off x="79200" y="1295280"/>
            <a:ext cx="8987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ook 6 and 7 days to start sampling food and water for monitoring surveys, and to set RPV, respectively, after the establishment of the NERH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restrictions were instructed 11 days after the establishment of the NERH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restrictions were instructed within 318 days of PRV first being exceeded in each 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artial removal of restrictions (restrictions for each lot) was conducted for beef and wild boar m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wn rice but not polished rice exceeded PRV for radiocesiums regardless of three-stage strategies (i.e., cultivation restrictions, pre-harvest survey and post-harvest surve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テキスト ボックス 8"/>
          <p:cNvSpPr/>
          <p:nvPr/>
        </p:nvSpPr>
        <p:spPr>
          <a:xfrm>
            <a:off x="151920" y="114480"/>
            <a:ext cx="88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Restrictions implemented in Fukush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80B6-AD72-4DBC-A439-74B8F2ECFB22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4"/>
          <p:cNvSpPr/>
          <p:nvPr/>
        </p:nvSpPr>
        <p:spPr>
          <a:xfrm>
            <a:off x="76320" y="2151000"/>
            <a:ext cx="8986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foodstuffs contaminated above PRV were restricted except sea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minated seafood items were not restricted except konago fish, but were not distributed because fishing was restri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ce enforced, many restrictions were not removed for a long period of time after PRV was last exc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h long-term restrictions may affect the sustainable development and rehabilitation of the affected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テキスト ボックス 8"/>
          <p:cNvSpPr/>
          <p:nvPr/>
        </p:nvSpPr>
        <p:spPr>
          <a:xfrm>
            <a:off x="2360160" y="11448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Experience for be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0626-5C9B-4B79-97CF-90E1B83B4406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テキスト ボックス 4"/>
          <p:cNvSpPr/>
          <p:nvPr/>
        </p:nvSpPr>
        <p:spPr>
          <a:xfrm>
            <a:off x="76320" y="762120"/>
            <a:ext cx="8986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19 March 2011, Ministry of Agriculture, Forestry and Fisheries (MAFF) provided directives to prevent or minimize exposure of farm animals to radioactive mate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14 April 2011, MAFF set the provisional tolerance values (PTV)  to minimize contamination of milk and beef by regulating contaminated livestock feed for daily ca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8 July 2011, the first beef sample that exceeded PRV was re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2 September 2011, it became known that the beef from cattle slaughtered as far back as 30 March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beef was recalled but most of them from the cattle slaughtered by July 2011 had already been consu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h contamination of beef resulted from the highly contaminated rice straw  (reportedly ~690,000 Bq/kg of radiocesiums) being fed to cattle. Though MAFF had provided directives and PTV, farmers had not been well notified regarding the rice str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テキスト ボックス 8"/>
          <p:cNvSpPr/>
          <p:nvPr/>
        </p:nvSpPr>
        <p:spPr>
          <a:xfrm>
            <a:off x="2412720" y="114480"/>
            <a:ext cx="43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Social dislo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254B-43C6-43FF-858F-20638DD6E304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テキスト ボックス 4"/>
          <p:cNvSpPr/>
          <p:nvPr/>
        </p:nvSpPr>
        <p:spPr>
          <a:xfrm>
            <a:off x="76320" y="762120"/>
            <a:ext cx="8986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restrictions in March 2011 was concurrent with the massive social dislocations that were manifested as the selling out of bottled water, milk, instant noodles and various non-perish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e, drinking water, for in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buy-up, bottled drinking water disappeared from the grocery stores in many prefectures even where radionuclide concentrations in tap water were below detectabl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23 March 2011, the Tokyo Metropolitan government decided to mitigate the social dislocations by distributing 240,000 bottles of drinking water for free to ~80,000 infant residents of Tokyo Metropo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ximum level detected in tap water sampled in Tokyo was 210 Bq/kg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. This was above PRV (i.e., 100 Bq/kg, Codex’s guideline level) but still below the index value (300 Bq/k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h experience for beef and social dislocations highlights the importance of strategies for effective communications between the risk management authorities and individuals concer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テキスト ボックス 8"/>
          <p:cNvSpPr/>
          <p:nvPr/>
        </p:nvSpPr>
        <p:spPr>
          <a:xfrm>
            <a:off x="888120" y="11448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Dose posed by internal expo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8773-1E72-4A26-B83D-2AC462A83413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4"/>
          <p:cNvSpPr/>
          <p:nvPr/>
        </p:nvSpPr>
        <p:spPr>
          <a:xfrm>
            <a:off x="77760" y="1143000"/>
            <a:ext cx="8987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oiod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late March 2011, surveys of 1,149 children living in Fukushima were conducted, and a maximum level detected was a committed equivalent dose to the thyroid of 43 mS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ocesi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June-October 2011, surveys of 6,608 people were conducted (measured by whole body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-3 mSv:      19 individuals (0.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1 mSv: 6,589 individuals (99.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se posed by internal exposure is much lower than the Chernobyl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together, it can be concluded that food safety regulations were successfully implemented following the Fukushima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テキスト ボックス 6"/>
          <p:cNvSpPr/>
          <p:nvPr/>
        </p:nvSpPr>
        <p:spPr>
          <a:xfrm>
            <a:off x="131040" y="63864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©CRIE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9"/>
          <p:cNvSpPr/>
          <p:nvPr/>
        </p:nvSpPr>
        <p:spPr>
          <a:xfrm>
            <a:off x="84240" y="5345280"/>
            <a:ext cx="897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Radiation Safety Research Center, Nuclear Technology Research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Central Research Institute of Electric Power Industry (CRIEPI), Tokyo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図 7" descr="Logo.jpg"/>
          <p:cNvPicPr/>
          <p:nvPr/>
        </p:nvPicPr>
        <p:blipFill>
          <a:blip r:embed="rId1"/>
          <a:stretch/>
        </p:blipFill>
        <p:spPr>
          <a:xfrm>
            <a:off x="7448400" y="6323040"/>
            <a:ext cx="1508400" cy="433440"/>
          </a:xfrm>
          <a:prstGeom prst="rect">
            <a:avLst/>
          </a:prstGeom>
          <a:ln w="0">
            <a:noFill/>
          </a:ln>
        </p:spPr>
      </p:pic>
      <p:sp>
        <p:nvSpPr>
          <p:cNvPr id="104" name="テキスト ボックス 10"/>
          <p:cNvSpPr/>
          <p:nvPr/>
        </p:nvSpPr>
        <p:spPr>
          <a:xfrm>
            <a:off x="1486080" y="441000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Nobuyuki Hamada,</a:t>
            </a:r>
            <a:r>
              <a:rPr b="1" lang="ja-JP" sz="25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Haruyuki Ogino, and Yuki Fujimich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図 5" descr=""/>
          <p:cNvPicPr/>
          <p:nvPr/>
        </p:nvPicPr>
        <p:blipFill>
          <a:blip r:embed="rId2"/>
          <a:stretch/>
        </p:blipFill>
        <p:spPr>
          <a:xfrm>
            <a:off x="1185840" y="838080"/>
            <a:ext cx="6772320" cy="3541680"/>
          </a:xfrm>
          <a:prstGeom prst="rect">
            <a:avLst/>
          </a:prstGeom>
          <a:ln w="0">
            <a:noFill/>
          </a:ln>
        </p:spPr>
      </p:pic>
      <p:sp>
        <p:nvSpPr>
          <p:cNvPr id="106" name="スライド番号プレースホルダ 6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912C-56E4-463E-95AA-8C5E9E6DF996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テキスト ボックス 8"/>
          <p:cNvSpPr/>
          <p:nvPr/>
        </p:nvSpPr>
        <p:spPr>
          <a:xfrm>
            <a:off x="915480" y="114480"/>
            <a:ext cx="73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Change to new regulation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207D-125A-4F3D-9334-BE4EE56E507C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4"/>
          <p:cNvSpPr/>
          <p:nvPr/>
        </p:nvSpPr>
        <p:spPr>
          <a:xfrm>
            <a:off x="79200" y="3770280"/>
            <a:ext cx="8987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values were promulgated on 15 March 2012, and became effective on 1 April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ues were defined as a total radioactive concentration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not to exceed a committed effective dose of 1 mSv/year (stems from lifetime effective dose of 100 mSv), considering the contributions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r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 where physical half-life is ≥1 year (radioiodines were not consider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intervention level, but not the referenc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図 4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199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テキスト ボックス 8"/>
          <p:cNvSpPr/>
          <p:nvPr/>
        </p:nvSpPr>
        <p:spPr>
          <a:xfrm>
            <a:off x="471240" y="11448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Ongoing regulations and restri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8CE4-4545-4996-9AD6-3926C994A110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4"/>
          <p:cNvSpPr/>
          <p:nvPr/>
        </p:nvSpPr>
        <p:spPr>
          <a:xfrm>
            <a:off x="77760" y="1295280"/>
            <a:ext cx="8987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April 2012 to 31 March 2013 (Fiscal Year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regulation values were exceeded in 2,372 samples ou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78,275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se, 17 samples exceeded PRV for radiocesiu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April 2013 to 21 May 2013 (Fiscal Year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regulation values were exceeded in 170 samples ou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3,645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of 21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Fukushima Prefecture, consumption of leafy vegetables, wi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shrooms, yamame fish, and wild boar meat, and distribution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ous foodstuff items have been restri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other 13 prefectures, distribution of vegetables, mushrooms, cere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sh, and meat have been imp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テキスト ボックス 8"/>
          <p:cNvSpPr/>
          <p:nvPr/>
        </p:nvSpPr>
        <p:spPr>
          <a:xfrm>
            <a:off x="1092960" y="114480"/>
            <a:ext cx="69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mpact on European 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99F9-1C0F-40BB-A4A9-6CCFA776F075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テキスト ボックス 4"/>
          <p:cNvSpPr/>
          <p:nvPr/>
        </p:nvSpPr>
        <p:spPr>
          <a:xfrm>
            <a:off x="77760" y="768240"/>
            <a:ext cx="8987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LW set PR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. Commission Implementing Regulation (EU) No. 297/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 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. Commission Implementing Regulation (EU) No. 351/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rnobyl regulatory limits (No. 3954/1987) were basically resurrected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led to a discrepancy, such that, whereas a limit for radiostrontiums was set for imports from Japan, Japan has not conducted monitoring surveys and has not set a limit for radiostrontiu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Jun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was reported that at the Paris Charles de Gaulle Airport, 1,038 Bq/kg of radiocesiums exceeding the EU’s maximum permitted level of 500 Bq/kg (= PRV) were detected in dried tea leaves that were shipped as a lot of 162 kg from Shizuoka Prefecture. On 22 June 2011, Shizuoka Prefecture confirmed 981 Bq/kg of radiocesiums in the same lot, and so recalled th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テキスト ボックス 8"/>
          <p:cNvSpPr/>
          <p:nvPr/>
        </p:nvSpPr>
        <p:spPr>
          <a:xfrm>
            <a:off x="1092960" y="114480"/>
            <a:ext cx="69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mpact on European 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B914-D841-44AB-9F03-AC6D4AEB048E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テキスト ボックス 4"/>
          <p:cNvSpPr/>
          <p:nvPr/>
        </p:nvSpPr>
        <p:spPr>
          <a:xfrm>
            <a:off x="77760" y="1844640"/>
            <a:ext cx="8987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 March 201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LW promulgated new regulation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9 March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. Commission Implementing Regulation (EU) No. 284/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one hand, limits for radiostrontiums, plutonium and americium were now exclu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the other, there is a discrepancy again, such that, for radiocesiums in adult food, limits are 10-100 Bq/kg for imports from Japan, but 600 Bq/kg for agricultural products that become contaminated with fallout from the Chernobyl accident and originate within European countries (EC No. 733/200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テキスト ボックス 8"/>
          <p:cNvSpPr/>
          <p:nvPr/>
        </p:nvSpPr>
        <p:spPr>
          <a:xfrm>
            <a:off x="826920" y="114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ublished source of our thou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5E07-D000-4F2A-901C-CF377B099BC4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20"/>
          <p:cNvSpPr/>
          <p:nvPr/>
        </p:nvSpPr>
        <p:spPr>
          <a:xfrm>
            <a:off x="452520" y="1844640"/>
            <a:ext cx="846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mada N, Ogino H. Food safety regulations: what we learn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ukushima nuclear accident. J Environ Radioact 111 (2012) 83-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mada N, Ogino H, Fujimichi Y. Safety regulations of food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ed in the first year following the Fukushima nuclear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 Radiat Res 53 (2012) 641-671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rz S, Steinhauser G, Hamada N. Anthropogenic radionuclid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panese food: environmental and legal im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viron Sci Technol 47 (2013) 1248-1256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8"/>
          <p:cNvSpPr/>
          <p:nvPr/>
        </p:nvSpPr>
        <p:spPr>
          <a:xfrm>
            <a:off x="168120" y="2550960"/>
            <a:ext cx="880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We hope that the lessons learned from the Fukushima accident should help improve the nuclear or emergency preparedness all over the wor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331A-83FD-4428-84F5-7C006DD61E8C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テキスト ボックス 8"/>
          <p:cNvSpPr/>
          <p:nvPr/>
        </p:nvSpPr>
        <p:spPr>
          <a:xfrm>
            <a:off x="457560" y="2550960"/>
            <a:ext cx="822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Thank you for your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 am happy to answer your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E768-895F-4D0C-90E2-765815A8AE57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テキスト ボックス 6"/>
          <p:cNvSpPr/>
          <p:nvPr/>
        </p:nvSpPr>
        <p:spPr>
          <a:xfrm>
            <a:off x="131040" y="63864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©CRIE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テキスト ボックス 8"/>
          <p:cNvSpPr/>
          <p:nvPr/>
        </p:nvSpPr>
        <p:spPr>
          <a:xfrm>
            <a:off x="152280" y="171936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e national framework for the management of foodstuff in Japan following the Fukushima acci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9"/>
          <p:cNvSpPr/>
          <p:nvPr/>
        </p:nvSpPr>
        <p:spPr>
          <a:xfrm>
            <a:off x="84240" y="5345280"/>
            <a:ext cx="897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Radiation Safety Research Center, Nuclear Technology Research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Central Research Institute of Electric Power Industry (CRIEPI), Tokyo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テキスト ボックス 12"/>
          <p:cNvSpPr/>
          <p:nvPr/>
        </p:nvSpPr>
        <p:spPr>
          <a:xfrm>
            <a:off x="136800" y="14112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22 May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CIEMAT, Madrid,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図 7" descr="Logo.jpg"/>
          <p:cNvPicPr/>
          <p:nvPr/>
        </p:nvPicPr>
        <p:blipFill>
          <a:blip r:embed="rId1"/>
          <a:stretch/>
        </p:blipFill>
        <p:spPr>
          <a:xfrm>
            <a:off x="7448400" y="6323040"/>
            <a:ext cx="1508400" cy="433440"/>
          </a:xfrm>
          <a:prstGeom prst="rect">
            <a:avLst/>
          </a:prstGeom>
          <a:ln w="0">
            <a:noFill/>
          </a:ln>
        </p:spPr>
      </p:pic>
      <p:sp>
        <p:nvSpPr>
          <p:cNvPr id="185" name="テキスト ボックス 12"/>
          <p:cNvSpPr/>
          <p:nvPr/>
        </p:nvSpPr>
        <p:spPr>
          <a:xfrm>
            <a:off x="156960" y="96840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he 2nd Meeting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he NERIS Working Group on Contaminated goods (ConGo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イチゴのバスケット"/>
          <p:cNvPicPr/>
          <p:nvPr/>
        </p:nvPicPr>
        <p:blipFill>
          <a:blip r:embed="rId2"/>
          <a:stretch/>
        </p:blipFill>
        <p:spPr>
          <a:xfrm>
            <a:off x="171360" y="3645000"/>
            <a:ext cx="1517760" cy="1719000"/>
          </a:xfrm>
          <a:prstGeom prst="rect">
            <a:avLst/>
          </a:prstGeom>
          <a:ln w="0">
            <a:noFill/>
          </a:ln>
        </p:spPr>
      </p:pic>
      <p:pic>
        <p:nvPicPr>
          <p:cNvPr id="187" name="図 10" descr=""/>
          <p:cNvPicPr/>
          <p:nvPr/>
        </p:nvPicPr>
        <p:blipFill>
          <a:blip r:embed="rId3"/>
          <a:stretch/>
        </p:blipFill>
        <p:spPr>
          <a:xfrm>
            <a:off x="6946920" y="3505320"/>
            <a:ext cx="1892160" cy="1771560"/>
          </a:xfrm>
          <a:prstGeom prst="rect">
            <a:avLst/>
          </a:prstGeom>
          <a:ln w="0">
            <a:noFill/>
          </a:ln>
        </p:spPr>
      </p:pic>
      <p:sp>
        <p:nvSpPr>
          <p:cNvPr id="188" name="テキスト ボックス 10"/>
          <p:cNvSpPr/>
          <p:nvPr/>
        </p:nvSpPr>
        <p:spPr>
          <a:xfrm>
            <a:off x="1486080" y="441000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Nobuyuki Hamada,</a:t>
            </a:r>
            <a:r>
              <a:rPr b="1" lang="ja-JP" sz="25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Haruyuki Ogino, and Yuki Fujimich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スライド番号プレースホルダ 10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1741-D465-48B5-B0CE-F870897FFCC8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テキスト ボックス 8"/>
          <p:cNvSpPr/>
          <p:nvPr/>
        </p:nvSpPr>
        <p:spPr>
          <a:xfrm>
            <a:off x="836280" y="114480"/>
            <a:ext cx="74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The Great East Japan Earthqu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D841-D221-446E-A7AB-E919148D4A5A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4"/>
          <p:cNvSpPr/>
          <p:nvPr/>
        </p:nvSpPr>
        <p:spPr>
          <a:xfrm>
            <a:off x="157320" y="1387440"/>
            <a:ext cx="8829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curred off the northeastern coast of Japan at 14:46 (Japan Standard Time) on 11 March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a moment magnitude of 9.0 (fourth largest in the worl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leashed a substantial tsunami as high as 40.5 m reportedly that traveled to as far as 10 km in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used a massive destruction across a wide area: there have been 15,883 confirmed fatalities with 2,676 people missing as of 10 May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led to the first-ever declaration of nuclear emergency situation at the Fukushima nuclear power plant 1 at 19:03 on 11 March 2011, and Nuclear Emergency Response Headquarters (NERHQ) was established on the sam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8"/>
          <p:cNvSpPr/>
          <p:nvPr/>
        </p:nvSpPr>
        <p:spPr>
          <a:xfrm>
            <a:off x="1408320" y="11448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Fukushima nuclear acc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90F6-4D3B-44C4-AEF8-1E8B48BFE63C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4"/>
          <p:cNvSpPr/>
          <p:nvPr/>
        </p:nvSpPr>
        <p:spPr>
          <a:xfrm>
            <a:off x="77760" y="762120"/>
            <a:ext cx="8987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on the quake, all operating plants underwent automatic shut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mergency diesel generators successfully started to supply power for nuclear fuel cool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about 1 h after the quake, the 14 m high tsunami overwhelmed the site’s sea defenses designed to withstand 5.7 m high tsunamis, and generators become inoper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vation of temperature and pressure inside the reactors resulted in a partial meltdown and hydrogen explosions, followed by the radionuclide dischar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discharge was recorded on the early morning of 12 March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harge into the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0 PBq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 18 PBq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, 15 PBq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(11-16 March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harge into sea (a total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7 PBq (1-6 April 2011), 150 GBq (4-10 April 2011), 20 TBq (11 May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テキスト ボックス 8"/>
          <p:cNvSpPr/>
          <p:nvPr/>
        </p:nvSpPr>
        <p:spPr>
          <a:xfrm>
            <a:off x="1764360" y="11448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Fukushima vs Chernoby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282C-4CF7-4605-8C86-F84E8FB8C12A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4"/>
          <p:cNvSpPr/>
          <p:nvPr/>
        </p:nvSpPr>
        <p:spPr>
          <a:xfrm>
            <a:off x="77760" y="1428840"/>
            <a:ext cx="8987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ukushima and Chernobyl were both rated at the top level 7 on the International Nuclear and Radiological Event Scale (IN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Fukushima accident  (compared with the Chernobyl accident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mount of discharged radionuclides was about one-sevent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onuclide releases continued over a longer period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.g., until cold shutdown in December 2012 or even later, albe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j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eases in the first one month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the dose posed by internal exposure was much lower (details wi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 provided lat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テキスト ボックス 8"/>
          <p:cNvSpPr/>
          <p:nvPr/>
        </p:nvSpPr>
        <p:spPr>
          <a:xfrm>
            <a:off x="3060360" y="11448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Stable io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77FC-75FE-4164-A607-DA53169BC70D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4"/>
          <p:cNvSpPr/>
          <p:nvPr/>
        </p:nvSpPr>
        <p:spPr>
          <a:xfrm>
            <a:off x="79200" y="2151000"/>
            <a:ext cx="8987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16 March 2011, NERHQ gave the Governor of the Fukushima Prefecture instruction that evacuees aged &lt;40 years leaving the stay-away evacuation zone to take stable iod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Fukushima Prefecture did not pass this instruction to its municipalities to distribute stable iodine, so that evacuees failed to receive and take stable iod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b., there is an exception for several municipalities (Futaba, Tomioka, Okuma, Miharu towns) where local governments distributed stable iodines without awaiting NERHQ’s instruction and some of those pills were ta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テキスト ボックス 8"/>
          <p:cNvSpPr/>
          <p:nvPr/>
        </p:nvSpPr>
        <p:spPr>
          <a:xfrm>
            <a:off x="622800" y="114480"/>
            <a:ext cx="78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nitial responses for food and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9FEC-10FD-4117-916E-9463EC8145D3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4"/>
          <p:cNvSpPr/>
          <p:nvPr/>
        </p:nvSpPr>
        <p:spPr>
          <a:xfrm>
            <a:off x="77760" y="1690560"/>
            <a:ext cx="8987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liminary surveys revealed that high levels of radioiodines and radiocesiums were detected, so that the Nuclear Safety Commission (NSC) advised that monitoring surveys of food and water should begin immed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stry of Health Labour and Welfare (MHLW) set regulatory limits stipulated as “provisional regulation valu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1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restrictions on distribution and consumption were imp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テキスト ボックス 8"/>
          <p:cNvSpPr/>
          <p:nvPr/>
        </p:nvSpPr>
        <p:spPr>
          <a:xfrm>
            <a:off x="749160" y="11448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rovisional regulation value (PR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898D-E8A7-4A97-9B1B-8B1850E51D3A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4"/>
          <p:cNvSpPr/>
          <p:nvPr/>
        </p:nvSpPr>
        <p:spPr>
          <a:xfrm>
            <a:off x="77760" y="1371600"/>
            <a:ext cx="8987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LW asked Food Safety Commission (FSC) to assess the validity of PR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9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SC guaranteed that PRV set by MHLW is effective enough to ensure saf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 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LW decided to use for the mean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was set for radioiodines, radiocesiums, uranium, plutonium and other transuranic alpha emit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se, my talk focuses on radioiodines and radiocesiums, because other radionuclides did not exceed PR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テキスト ボックス 8"/>
          <p:cNvSpPr/>
          <p:nvPr/>
        </p:nvSpPr>
        <p:spPr>
          <a:xfrm>
            <a:off x="2222280" y="11448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RV for radioiod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59DF-A32A-4593-B2A3-143093D6E302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4"/>
          <p:cNvSpPr/>
          <p:nvPr/>
        </p:nvSpPr>
        <p:spPr>
          <a:xfrm>
            <a:off x="77760" y="990720"/>
            <a:ext cx="8987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in water and milk ingested by infants was adopted from the guideline level indicated by the Codex Alimentalius Commission in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V in aquatic products was newly set on 5 April 2011 by adapting the value for vegetables, because radioiodines at levels of concern were detected in fish sampled on 1 April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values were derived from the “index values” that NSC had provided as evaluation criteria to launch discussion on whether NERHQ needs to restrict the consumption of food and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ues were defined in water, and two categories of food (milk and vegetables), but not for other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vention level/category considered was a committed equivalent dose to the thyroid of 11.1 mSv/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x values were calculated as radioactive concentrations of indicator radionuclides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) by postulating the relative radioactive concentration of coexisting radionuclides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8:52:23Z</dcterms:created>
  <dc:creator>f-yuki</dc:creator>
  <dc:description/>
  <dc:language>en-US</dc:language>
  <cp:lastModifiedBy>浜田 信行</cp:lastModifiedBy>
  <cp:lastPrinted>2013-05-15T22:30:18Z</cp:lastPrinted>
  <dcterms:modified xsi:type="dcterms:W3CDTF">2013-05-22T07:21:05Z</dcterms:modified>
  <cp:revision>203</cp:revision>
  <dc:subject/>
  <dc:title>スライド 1</dc:title>
</cp:coreProperties>
</file>