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7A0-1EDF-4A46-BEF6-DCB26F1A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9FD-E273-49AB-A9A6-EDE93CF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31A-9E81-4CAA-9AEC-E7862D81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DD3-80D8-408F-9C64-F093F80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0BE-57C8-460C-AD1E-A0C7E776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BD5-E0BA-4BFA-9EDD-76D2A06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E00-5924-4B6C-988C-DFC21D19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9E4-CFC0-4255-833C-7E79BC1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340-A06C-4117-8F40-8EB4FF1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E13-0656-4E3F-A79E-775887B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100-D2E0-4EA9-AE87-6D86E32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31E-7C1F-48A4-93A3-5EA653E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1DD-5489-4EF6-9A29-34F9B7B2B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134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The evolution of the management of agricultural products in Belarus following the Chernobyl ac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458960"/>
            <a:ext cx="83516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Iossif Bogdevitch – BRISSA –  Bela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516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RIS Topical Workshop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anagement of Contaminated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CIEMAT, Madrid, 22 May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612-7C80-4354-BA61-CCDA773859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edial actions in rehabilitation period, sinc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main goal –  Rehabilitation of contaminated territories, providing the safe food and  living condition, economic and social development of rural set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ng for optimization (pH –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M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fertility optimization and maintenance. Site specific fertilization P and K, slow release N and compound fertiliz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 and surface improvement of pastures and hay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esium-binding ferrocene supplemented mixed feed for diary cows  (Prussian b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two stage  feeding diets for anim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ization and re-specialization of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3CD-F7BA-4B37-9DDB-7FCDCA7A6C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UCTION FACTORS OF COUNTERMEASURES USED IN THE CIS COUNTRIES  (1992-2000)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French-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German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 Initiativ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ville-Cavelin et al., 2001, Bogdevitch et al., 2002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557360"/>
          <a:ext cx="7772400" cy="4896000"/>
        </p:xfrm>
        <a:graphic>
          <a:graphicData uri="http://schemas.openxmlformats.org/drawingml/2006/table">
            <a:tbl>
              <a:tblPr/>
              <a:tblGrid>
                <a:gridCol w="3556080"/>
                <a:gridCol w="2152440"/>
                <a:gridCol w="206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 ploughing (fir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–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m and burial ploug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–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 of mineral fertilis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 of organic fertili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–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cal improv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ther applica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9,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improv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ther applica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3,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in fodder cro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–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f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 (time depend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tion of Cs bi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 milk to bu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–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–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 rapeseed to 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266-B821-4671-A8C0-9D9E6DA72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rrent permissible levels (Bq/kg) for caesium radionuclide in main food produ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aphicFrame>
        <p:nvGraphicFramePr>
          <p:cNvPr id="73" name=""/>
          <p:cNvGraphicFramePr/>
          <p:nvPr/>
        </p:nvGraphicFramePr>
        <p:xfrm>
          <a:off x="684360" y="1916280"/>
          <a:ext cx="7775280" cy="4340160"/>
        </p:xfrm>
        <a:graphic>
          <a:graphicData uri="http://schemas.openxmlformats.org/drawingml/2006/table">
            <a:tbl>
              <a:tblPr/>
              <a:tblGrid>
                <a:gridCol w="2692080"/>
                <a:gridCol w="979560"/>
                <a:gridCol w="1152720"/>
                <a:gridCol w="1584360"/>
                <a:gridCol w="136656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sian Fed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r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of adoption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ant foo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k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iry product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t and product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80-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bles, fruit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d, flour, cereal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internal dose, mSv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49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599-23EC-4EF3-80FC-079AF5B04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26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ussian blue (PB) for c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9920" y="2776680"/>
            <a:ext cx="374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s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activity of mi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PB appl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121200"/>
            <a:ext cx="3744720" cy="179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RF of milk and meat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Milk:3  beef: 2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st 28 Euro per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dverted dose 0.25-0.50 m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st of adverted dose 4.8 kEuro/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67280" y="3489480"/>
            <a:ext cx="4843440" cy="2460600"/>
            <a:chOff x="4067280" y="3489480"/>
            <a:chExt cx="4843440" cy="2460600"/>
          </a:xfrm>
        </p:grpSpPr>
        <p:grpSp>
          <p:nvGrpSpPr>
            <p:cNvPr id="79" name=""/>
            <p:cNvGrpSpPr/>
            <p:nvPr/>
          </p:nvGrpSpPr>
          <p:grpSpPr>
            <a:xfrm>
              <a:off x="4067280" y="3489480"/>
              <a:ext cx="4843440" cy="2460600"/>
              <a:chOff x="4067280" y="3489480"/>
              <a:chExt cx="4843440" cy="2460600"/>
            </a:xfrm>
          </p:grpSpPr>
          <p:graphicFrame>
            <p:nvGraphicFramePr>
              <p:cNvPr id="80" name=""/>
              <p:cNvGraphicFramePr/>
              <p:nvPr/>
            </p:nvGraphicFramePr>
            <p:xfrm>
              <a:off x="4067280" y="3489480"/>
              <a:ext cx="4843440" cy="2460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067280" y="3489480"/>
                        <a:ext cx="4843440" cy="246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" name=""/>
              <p:cNvSpPr/>
              <p:nvPr/>
            </p:nvSpPr>
            <p:spPr>
              <a:xfrm>
                <a:off x="4734000" y="4910040"/>
                <a:ext cx="3925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372360" y="4203720"/>
              <a:ext cx="1295280" cy="304920"/>
            </a:xfrm>
            <a:prstGeom prst="wedgeRoundRectCallout">
              <a:avLst>
                <a:gd name="adj1" fmla="val -56615"/>
                <a:gd name="adj2" fmla="val 17552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Permissi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Level for mi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5280" y="836640"/>
            <a:ext cx="8353440" cy="161856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easiest and cheapest remedial action  is direct incorporation of Prussian Blue (Hexacyanoferrate compounds) into concentrate during manufacturing. Concentrate was prepared with 0.6% PB  and was feed to cow in rate of 0.5 kg of concentrate daily in 2004 – 2005 in the settlement Svetilovich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D16-C067-49A5-B6D1-0E23D9B108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ffect of remediation actions (PB+RI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  the internal dose reduc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 Svetilovichi (IAEA RER 9074  2004 -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268280"/>
          <a:ext cx="7797600" cy="432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268280"/>
                    <a:ext cx="779760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55640" y="5589720"/>
            <a:ext cx="7488360" cy="6426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whole body measurements were undertaken for dynamics estimation of internal doses irradiation of peopl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RF=2 during 1.5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994-7246-45AF-AAE2-2FFB989911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ified Use of Land</a:t>
            </a:r>
            <a:br>
              <a:rPr sz="28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ing &amp; Processing  of Rapeseed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AEA TC Project BYE 5/00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1341360"/>
          <a:ext cx="6201000" cy="41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341360"/>
                    <a:ext cx="6201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476360" y="4581360"/>
            <a:ext cx="6264360" cy="3988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 allocation in spring rapeseed bio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13000"/>
            <a:ext cx="7920000" cy="6426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about 3% of the total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s and 6 % of the total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r taken up by rape plant are involved in the chain soil-plant-fodder-animal-m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064360" cy="82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1996-2012 the production of rape seed increased from   18 to 700 thousand tons. Net return for growing 1 tone of rape seed - 30 Euro, for processing - 34 Eu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80F-93E1-4BA9-BAA7-3856460670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fferentiated doses of K-ferti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6315120" y="2841480"/>
            <a:ext cx="9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4651200" y="3573360"/>
            <a:ext cx="928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ximum yi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трелка вниз 13"/>
          <p:cNvSpPr/>
          <p:nvPr/>
        </p:nvSpPr>
        <p:spPr>
          <a:xfrm flipH="1">
            <a:off x="5076000" y="4076640"/>
            <a:ext cx="96840" cy="978120"/>
          </a:xfrm>
          <a:prstGeom prst="downArrow">
            <a:avLst>
              <a:gd name="adj1" fmla="val 50000"/>
              <a:gd name="adj2" fmla="val 50128"/>
            </a:avLst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56000" y="1268280"/>
          <a:ext cx="44769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268280"/>
                    <a:ext cx="4476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500720" y="907920"/>
            <a:ext cx="4174920" cy="733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 transfer to clover green mass in rel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K status of Luvisol loamy sand soi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4033800" cy="50230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fertilizer could effectively inhibit the transfer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(and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 in lesser  extension) from soil to plants</a:t>
            </a:r>
            <a:r>
              <a:rPr b="1" lang="bn-I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in soils with “Low to Optimal” K stat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al accumulation of radionuclides in plant production is found on soil with higher K content  than needed for maximum yield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moderate potash fertilizer rates are needed for medium and rich K-supplied soils (K 5.3-7.4 mmol kg-1) to replace of the crop K-remov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s for averted 1 man Sv =40-60 k Euro if deposition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≥370  kBq/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s for averted expose are covered by extra crop yields with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fficient net return on soils with low to optimal  content of exchangeable 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5EF-2646-4411-AF18-8508A6ADDC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ynamics of K-content in soils dur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st Chernobyl peri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268280"/>
          <a:ext cx="8136000" cy="482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81360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0E6-D9E8-4BB5-A1C2-C5B8C15BD0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ynamics of P-content in soils during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st Chernoby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341360"/>
          <a:ext cx="8424720" cy="48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42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04A-7AAB-417D-AEB5-A23F6AA8EB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62320" y="1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197000"/>
            <a:ext cx="4978440" cy="53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nvolvement of stakeholders in process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of rehab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asurements of radioactive contamination and processing of milk, vegetables, berries, mush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dern technologies: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crease the potato &amp; vegetable yields in 1.6-1.8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uction on 20-30%  of  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137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s and 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90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r concentration in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1 EURO invested   (430-9400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€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ha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) has made 1.5-2.5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€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of net retur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ransition from personal field to farmer’s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35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commendation to farmers on personal fiel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national projects /ETHOS - CORE 1999-2007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1800" y="2400480"/>
          <a:ext cx="1895400" cy="8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1800" y="2400480"/>
                    <a:ext cx="1895400" cy="8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330660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423-A3A6-4EF9-9A4E-B5E576FC952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rnobyl accident: consequences for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edial actions implemented to reduce  the contamination of agricultural produc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Emergenc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Site specific remedial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Rehabilita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ommendations to farmers – self-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ssons lea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0C4-EADB-4620-87E9-0CB4A14EA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namics of grain and milk production with an excessive levels of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s  in Belarus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gainst the levels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P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– 1986-89, RKU – 1990-92, RDU- 1993-97, RDU-99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700280"/>
          <a:ext cx="7704000" cy="44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7704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FE1-9BE1-404C-83D2-E6C3C3605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00920" y="2857680"/>
          <a:ext cx="90468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0920" y="2857680"/>
                    <a:ext cx="904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90720" y="2286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836640"/>
            <a:ext cx="8640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umber of settlements with samples of milk  exceeded th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f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37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s activity (&gt; 100 Bq l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4680" y="24444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lk produced in personal farmst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1557360"/>
          <a:ext cx="7991280" cy="468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557360"/>
                    <a:ext cx="79912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832-5E93-41FC-B5CB-205B067D35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Lessons learned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38980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eam of experts and the comprehensive plan  for the protection of affected people in emergency period should be prepared in the long time before the possible nuclear accid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 PGothic"/>
              </a:rPr>
              <a:t>Permissible levels of radionuclide content in food products are important target instruments for selection and optimizing appropriate countermeasures and remedial actions. Evolution of TPL’s after Chernobyl accident was a dynamic compromise between the  radiation protection requirements and resource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ountermeasures in the early phase of the Chernobyl accident were only partially effective. Little reduction of </a:t>
            </a:r>
            <a:r>
              <a:rPr b="1" lang="en-GB" sz="20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 intake with milk due the lack of timely information on the accident and appropriate countermeas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gricultural countermeasures and remedial actions  applied in Belarus proved to be highly efficient averting about 40%of collective  internal dos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Radical improvement of pastures &amp; medows is 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 most efficient and acceptable by farmers remedial action. Application of Prussian Blue to cows started only  6 years after the accident: its an effective alternative for short period to the more expensive radical improvement. However in normal practice the expenses for pasture improvement are covered by extra yield of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201-5A27-49DC-A8A2-3A8429B2E1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777528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dified Use of Land by growing and processing of rapeseed strongly reduced  inflow of  radionuclides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and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 into food chain. It was profitab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il fertility improvements through liming and fertilizer application resulted in optimization of soil properties in Belarus on 70-85% of cultivated area. These are the basic guarantee for minimization of radionuclide accumulation in farm products in the long-term period after  accid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, K and P amendments are efficient only in the range of “Low to Optimal” related Ca, K and P status of soil. The expenses for fertilization are covered by extra crop yiel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il today, agricultural remedial actions are still effective. To identify priorities in remediation strategies with full involvement of all interested parties in planning is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rnational cooperation and assistance are very important in mitigation of consequences of radiation accidents. There are many examples of effective International projects implemented in Belarus: IAEA projects and training courses 1986-2012; EC projects; French-German initiative; ETHOS-COR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F3D-E51D-4B66-B6C3-0A5214B29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rnobyl accident: consequences for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5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ccident occurred 28.04.1986 in an vulnerable period, end of sowing campaign and start of cattle graz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larus  had the highest share of contaminated territory:   23 % (46 thousand k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including 1.8 million ha agricultural land was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(&gt;37 kBq/m2). 10% of territory  -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 (&gt;5.5 kBq/m2). 2%of territory - with Pu isotopes (&gt;0.37 kBq/m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pulation on contaminated territory in 1986 - 2.2 million.  25 thousand of citizens were evacuated from 30 km zone in 1986 . 113 thousands - relocated in 1991-2000 years. About 200 thousand - left contaminated territory volunt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fter 27  years the contaminated territory reduced on 37% (30 thousand k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 population – to 1.0 million of inhabitants. Agriculture is conducted on area of1 million ha of land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including  0.37 million ha simultaneously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510-920B-4E3F-B4CC-90919BF74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317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od management in an  emergency period (1986-1989)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fter Chernobyl accident in Bela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276640"/>
          <a:ext cx="8136000" cy="3705120"/>
        </p:xfrm>
        <a:graphic>
          <a:graphicData uri="http://schemas.openxmlformats.org/drawingml/2006/table">
            <a:tbl>
              <a:tblPr/>
              <a:tblGrid>
                <a:gridCol w="2160720"/>
                <a:gridCol w="1224000"/>
                <a:gridCol w="1368360"/>
                <a:gridCol w="1295280"/>
                <a:gridCol w="1297080"/>
                <a:gridCol w="7905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adoptio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5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5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2. 1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01. 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nuclid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 emit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 &amp;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 &amp;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nking water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k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-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-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t and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0-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bles, frui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d, flour, cereal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internal dose, m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39640" y="1844640"/>
            <a:ext cx="8136000" cy="33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L (Bq/kg) of radionuclide content in food in USSR after Chernobyl (1986-19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907920"/>
            <a:ext cx="8136000" cy="9169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main goal -  to reduce  internal doses of irradiation  to prevent the deterministic effects and provide production  of foodstuff with radionuclide content below TPL (Bq/kg) USS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CE5-62D1-4247-8EE6-7DD75346E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250920" y="1628640"/>
            <a:ext cx="4465440" cy="35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932360" y="1052640"/>
            <a:ext cx="3960720" cy="53334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vacuation of 25 thousand inhabitants from 30-km zone of Chernobyl NP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laughtering of cattle from evacuated settlements (unjustified countermeasure)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nitoring of radionuclide content in soil, water,  food stuff (deficit of measurement devices. Soil maps of Cs and Sr deposition were prepared in August 198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eding the milky cows with “clean” fodder (restricted u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jection of milk with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content &gt; PL and further processing for but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tion &amp; recommendations for population on the contaminated territory (luck of experienced experts and reliable information, recommendations directed mainly to public sector of agricultur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300640"/>
            <a:ext cx="4392360" cy="137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7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8.04.198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 lowest concentrations of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in air on North of Belarus were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150-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q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1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afety limit  is 7.3 Bq/m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re was no Emergency preparedness for the protection of affected people in case of accident on Chernobyl NP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47680"/>
            <a:ext cx="4465440" cy="33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odine-131 deposition in Belarus  10.05.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9960" y="115920"/>
            <a:ext cx="743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untermeasures in an early period of emergency   (spring – autumn 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A30-22E3-44E6-A5CC-0DB796C65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134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untermeasures related to food management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late emergency period (1987-1989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on of heavily contaminated agriculture land from use – 265 000 ha (1986-199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ep ploughing of  meadows on peat soil (limited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clusion of crops with high accumulation  of radionuclides (legumes, buckwheat,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ming 682 000 ha &amp; fertilization with higher doses of  K (1.2 million t) and P(0.6 million t) fertili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triction on the consumption of milk produced in the personal farmstead and milk process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wo stage cattle clean  feeding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utinely used for meat production  on land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osition of 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 &gt; 185 kBq 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Clean feed of animals for 1.5 months before slaughter was combin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live monitoring. Animals exceeding PLs were  returned to the farm for further clean fee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2BC-2713-447E-88AE-218B5C5F8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oning of the territory of Belarus according to radioactive contamination and dose loads on popul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353120"/>
        </p:xfrm>
        <a:graphic>
          <a:graphicData uri="http://schemas.openxmlformats.org/drawingml/2006/table">
            <a:tbl>
              <a:tblPr/>
              <a:tblGrid>
                <a:gridCol w="3086280"/>
                <a:gridCol w="1109520"/>
                <a:gridCol w="1233360"/>
                <a:gridCol w="1109880"/>
                <a:gridCol w="123336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descrip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valent dose, mSv/ye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tion density, k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urie/k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-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-23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39, -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bitation zone with periodic radiation check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–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–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5–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–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with the right to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&l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–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–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–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4–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of subsequent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5–1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–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–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5–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of priority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&gt;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cuation (alienation) zo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itory around Chernobyl nuclear power station which the population was evacuated from in 19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F98-C59F-4354-B7F3-C5BC56B7EA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06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namics of population on the contaminated territory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Belarus after Chernoby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1125360"/>
          <a:ext cx="7702560" cy="496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125360"/>
                    <a:ext cx="7702560" cy="49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D7C-2FA4-46AB-81DC-95C9B66895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te specific remediation actions                               in agriculture of Belarus 199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main goal – gradual reduction of radionuclide content  in  locally produced food stuff  to the 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xpected final dose for normal life &lt;1  mSv/a (The state Programme for overcoming the consequences of Chernobyl for 1990- 1995 and 1996-2000)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dual change the Permissible Levels of 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s and 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r in foodstuff (RKU – 1990-92, RDU- 1993-97, RDU-99). PL for milk 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1987 – 370 Bq/l, 1990 – 185 Bq/l, 1992 – 111 Bq/l 1999-100Bq/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Remediation  in the key chains of radionuclides transfer: soil-plant, fodder-animal, raw material- foodstu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ng for optimization (pH –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 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specific fertilization P and K, slow release N fertiliz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 land use (growing and processing rapeseed). Selection of crops and varie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cal and surface improvement of pastures and hay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esium-binding ferrocene supplemented mixed feed for diary cows  (Prussian blu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stage clean  feeding diets for animals according to their age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of milk (tha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d 40-80% of internal dose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other locally produced food stu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B42-5A42-4C63-B64D-8CF4C8CE3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09:33Z</dcterms:created>
  <dc:creator>Bogdevitch Iossif</dc:creator>
  <dc:description/>
  <dc:language>en-US</dc:language>
  <cp:lastModifiedBy>Богдевич </cp:lastModifiedBy>
  <cp:lastPrinted>2003-03-26T09:16:22Z</cp:lastPrinted>
  <dcterms:modified xsi:type="dcterms:W3CDTF">2013-05-18T12:46:18Z</dcterms:modified>
  <cp:revision>205</cp:revision>
  <dc:subject/>
  <dc:title>Post Chernobyl Management</dc:title>
</cp:coreProperties>
</file>